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8F074-814C-4D27-BA37-232C6692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80E2D-45DF-46E2-B4B1-E78CE445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719DF-02E6-44A2-B44C-8F2F10C2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F142D-77F8-481B-BDC7-B2CD7C0C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418E6-7641-496E-ACFF-7261F6A5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04927-8371-4136-9C2E-84AB8372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2E96F-A88C-40FC-82A0-A85FDAF2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7CDA9-41F5-408C-ABBB-159405C4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3B931-0059-424A-B0BD-19B39412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32E82-174D-4E8E-BFF4-8A682FAC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E0D45-8824-4359-A7E1-C39AF103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CE4FB-2403-4EDF-AB52-795B3F74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E225-0994-4FDA-805A-3C9028FB09D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ón </a:t>
            </a:r>
            <a:br>
              <a:rPr sz="38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primer tercio del cur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 (directo (paga) indirecto (recibe benefici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clusiones más importantes de Porter (competidores, productos alternativos, proveed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clusiones más importantes del análisis interno y externo (FOD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necesito saber? ¿Qué voy a pregunt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24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ón</a:t>
            </a:r>
            <a:br>
              <a:rPr sz="38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segundo tercio del cur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rganizació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sultados Final 2a Etapa y 2o infor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fundamentar con datos duros para las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y crecimient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n de traba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ón</a:t>
            </a:r>
            <a:br>
              <a:rPr sz="38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(tercer tercio del cur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o que ya haya sido presentado y que no sea aporte del </a:t>
            </a:r>
            <a:r>
              <a:rPr b="0" lang="es-ES_tradnl" sz="1900" spc="-1" strike="noStrike" u="sng">
                <a:solidFill>
                  <a:srgbClr val="000000"/>
                </a:solidFill>
                <a:uFillTx/>
                <a:latin typeface="Verdana"/>
              </a:rPr>
              <a:t>avance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 de su trabaj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te preparado para mostrar información que ya haya mostrado antes, pero que no incluyó en la presentación actua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Ajústese al tiempo de la presentación eligiendo lo importan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Antonio</cp:lastModifiedBy>
  <dcterms:modified xsi:type="dcterms:W3CDTF">2009-04-08T02:28:08Z</dcterms:modified>
  <cp:revision>15</cp:revision>
  <dc:subject/>
  <dc:title>Sin título de diapositiva</dc:title>
</cp:coreProperties>
</file>