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67A7B-9E80-4A26-9A04-1B98782F7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41F9A-A25E-4240-AAEE-7171D6FA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B3656-6F98-480A-980B-6F2C3EE4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CD6A38-67EF-48B6-B0AA-356BAA64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2EB43-F0A9-4350-AE3B-C76C52E5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9E4A2-D468-4CDA-A03E-2CD483C3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27B0B-84AB-43D1-ADA7-9B508C48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30A78-2C83-45BD-B9E7-519DA961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519B3-CA47-4D97-82CF-D367420F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39147-1252-40DA-B1FE-F93D6A47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9C804-B8E6-4796-9156-755E799A5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F2BD0F-8FBF-485B-9F5C-E4B59CA40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300720" y="6237360"/>
            <a:ext cx="226224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7E87-9B72-482B-84F3-BD983ECFC46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79640" y="3573360"/>
            <a:ext cx="4638600" cy="10224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1347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uentes de Oportunidades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 factores para evaluarl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0010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uentes de ideas de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Quiebres o Necesida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Medios de Comunicación (ej. Diari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ntretenimiento (oci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edes (ej. Compañeros-Socializa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erias y viaj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ondos de Fomento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mbio de Paradigma (¿Qué no se puede hacer hoy pero si se hiciera cambiaría el mundo?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l cli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 la empresa (+valor, -costo, mejor adm. de activos, mayor valor de la empres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Hacer sudar los activ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gmentos en crecimiento (ej: Grupo D, tercera edad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ndices de interés del negocio</a:t>
            </a:r>
            <a:br>
              <a:rPr sz="32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Dependientes de quien evalúa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84360" y="1989000"/>
          <a:ext cx="7848360" cy="395280"/>
        </p:xfrm>
        <a:graphic>
          <a:graphicData uri="http://schemas.openxmlformats.org/drawingml/2006/table">
            <a:tbl>
              <a:tblPr/>
              <a:tblGrid>
                <a:gridCol w="2965320"/>
                <a:gridCol w="3154320"/>
                <a:gridCol w="358920"/>
                <a:gridCol w="13698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F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196920" y="2583000"/>
            <a:ext cx="7875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érito Innov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maño del negocio (p*q) 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tecn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de cultura/costumbre/paradig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comercial (competidore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internaci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versión (monto, dificultad de obtención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apacidad del equipo empr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valuación (económica, operacion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00:32:30Z</dcterms:created>
  <dc:creator>Antonio Holgado</dc:creator>
  <dc:description/>
  <dc:language>en-US</dc:language>
  <cp:lastModifiedBy>Antonio</cp:lastModifiedBy>
  <dcterms:modified xsi:type="dcterms:W3CDTF">2009-03-18T17:08:22Z</dcterms:modified>
  <cp:revision>7</cp:revision>
  <dc:subject/>
  <dc:title>Fuentes de Oportunidades</dc:title>
</cp:coreProperties>
</file>