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3B89F-DEDE-4336-AF53-E2252D17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FBA2E-E406-4F4D-9C37-68DD501F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1DB12-4CC5-4A00-87FF-3048E827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26BEC-5C63-4CF2-8876-035EAAB0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4D80A-44FC-40BF-8BE7-3F882411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62116-2FAD-45B6-8BD2-8AF6314D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CC23F-2F48-4805-8466-EF7B7236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4DA48-39C9-4D48-B535-1A49C169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8DB74-6B3C-44DE-B630-09B4B0BA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57A0B-D807-4646-834B-08B3F4EE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70A9D-B2BB-48C0-BAC6-7AC003DA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04B05-4A98-49A5-8EEA-720AB50B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BC2A-0E8F-477C-8264-AABC72A1361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34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de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4360" y="1989000"/>
          <a:ext cx="7848360" cy="3952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Antonio</cp:lastModifiedBy>
  <dcterms:modified xsi:type="dcterms:W3CDTF">2009-03-18T17:08:22Z</dcterms:modified>
  <cp:revision>7</cp:revision>
  <dc:subject/>
  <dc:title>Fuentes de Oportunidades</dc:title>
</cp:coreProperties>
</file>