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DEC3-CE29-427F-BD9E-7D849033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1765F-DB61-4B17-92CB-18421AD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BF40E-3238-451A-BFD8-CC75EBE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D59E-25B1-410C-8BDA-9BA756F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9DFD5-9661-4D17-A7F1-542BB0C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84C30-CCD1-493F-B732-50B83BF8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EF711-E053-498D-905C-F2DF4D2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565F6-7318-4E98-8E8A-910C4BA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B2342-6C1D-4FE3-8490-CAA917C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0A201-7A29-4677-B452-C2AF49C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B345C-E1BA-4A94-B3B3-F11B4DE2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1270-394B-4EA6-BEC0-66F3A671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CA3-320D-408D-971F-6B5536A361A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de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989000"/>
          <a:ext cx="7848360" cy="3952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Antonio</cp:lastModifiedBy>
  <dcterms:modified xsi:type="dcterms:W3CDTF">2009-03-18T17:08:22Z</dcterms:modified>
  <cp:revision>7</cp:revision>
  <dc:subject/>
  <dc:title>Fuentes de Oportunidades</dc:title>
</cp:coreProperties>
</file>