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6609-F427-4141-8C29-1A00E2F7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FB41F-C081-43F5-B653-B28DB852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6F0B-452D-4E37-996B-A7F51F56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76AC-0659-44BB-867A-BE512ED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5C1D-4AC8-4F5E-A93D-863185F1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149D-D477-4EDB-8C41-B13D262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5DE9-345C-4BB1-AEE0-68D6D39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9ADA-B6DC-4D3E-A603-1D26DF9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0318B-21AC-44A1-A013-4F248BF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79D0-DEC7-4F10-8288-FBEF8E24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82E0-661A-4A77-A481-F7BAC5E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03BC-F12E-4DAA-BA1E-2B4544F6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A26-7EA9-491B-ABBC-595B55B7CE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de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989000"/>
          <a:ext cx="7848360" cy="3952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Antonio</cp:lastModifiedBy>
  <dcterms:modified xsi:type="dcterms:W3CDTF">2009-03-18T17:08:22Z</dcterms:modified>
  <cp:revision>7</cp:revision>
  <dc:subject/>
  <dc:title>Fuentes de Oportunidades</dc:title>
</cp:coreProperties>
</file>