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7B5DF-A456-4993-96C8-33E20BD0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18FE7-007C-4FAC-8ECA-C2CD8FA0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4703B-85E1-4B9F-8FCA-B0D1700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80174-BC69-488A-802A-B137FB9F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5D07E-895E-4079-B00B-76D24367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CFDB8-3A0B-49FB-A61C-A66EDDB9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42CD30-A126-4D03-A763-48E5C6EB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9A489-97D0-47E7-8E77-4C214224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F9507C-4D73-4B8E-9238-FA38E5C6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DF9409-62F9-4F79-8480-74D1A6FA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4C1D3F-8976-44BD-B6CE-F1E11ED7C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0CE65B-37CB-42EB-9C46-F548263F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iseño y evaluación de Negocios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300720" y="6237360"/>
            <a:ext cx="2262240" cy="49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E056-306B-402E-BBA3-F209174BBCB2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79640" y="3573360"/>
            <a:ext cx="4638600" cy="102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3472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uentes de Oportunidades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y factores para evaluarl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001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Fuentes de ideas de nego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060640"/>
            <a:ext cx="77724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Quiebres o Necesida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edios de Comunicación (ej. Diari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ntretenimiento (ocio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edes (ej. Compañeros-Socializar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erias y viaj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ondos de Fomento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ambio de Paradigma (¿Qué no se puede hacer hoy pero si se hiciera cambiaría el mundo?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Agregar valor a la empresa (+valor, -costo, mejor adm. de activos, mayor valor de la empresa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Hacer sudar los ac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ts val="18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gmentos en crecimiento (ej: Grupo D, tercera edad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índices de interés del negocio</a:t>
            </a:r>
            <a:br>
              <a:rPr sz="32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Dependientes de quien evalúa)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4360" y="1989000"/>
          <a:ext cx="7848360" cy="395280"/>
        </p:xfrm>
        <a:graphic>
          <a:graphicData uri="http://schemas.openxmlformats.org/drawingml/2006/table">
            <a:tbl>
              <a:tblPr/>
              <a:tblGrid>
                <a:gridCol w="2965320"/>
                <a:gridCol w="3154320"/>
                <a:gridCol w="358920"/>
                <a:gridCol w="1369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Fa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a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196920" y="2583000"/>
            <a:ext cx="7875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érito Innov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amaño del negocio (p*q) ho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tecn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de cultura/costumbre/paradig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esgo comercial (competidore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otencial de internacion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Inversión (monto, dificultad de obtención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apacidad del equipo emprende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ón (económica, operacion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0T00:32:30Z</dcterms:created>
  <dc:creator>Antonio Holgado</dc:creator>
  <dc:description/>
  <dc:language>en-US</dc:language>
  <cp:lastModifiedBy>Antonio</cp:lastModifiedBy>
  <dcterms:modified xsi:type="dcterms:W3CDTF">2009-03-18T17:08:22Z</dcterms:modified>
  <cp:revision>7</cp:revision>
  <dc:subject/>
  <dc:title>Fuentes de Oportunidades</dc:title>
</cp:coreProperties>
</file>