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EE38-0256-4555-B0C1-2AC7D2C1CE23}"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4856-75E0-478E-911E-0B11F8A68D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B9CE-37CE-4341-A288-91198EF173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A8D1-27E5-41BB-8E69-AE4492DA063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9ECE-A484-4EA8-8DB0-613B82D05E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192D-B3CA-464C-AE8B-613B6E019C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44F4-B395-4B5F-8725-7BA4144AEB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46F3-34F2-4358-9242-39BE26F301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A03A-6C54-4BA2-8718-6EA5F44B20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685E-D085-4AFD-9B55-704D059CE5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D9A4-B7C0-417B-B012-671E12C405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EA62-5833-4BCB-95C0-F4C8621CA7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079C-B681-4FC0-B063-21C0A81EC1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3C56-EFEF-4072-807F-50621667AB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A456-8ABD-4ED1-B6A7-15FFC3FF61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2E75-69FD-46D2-A9C0-43DEBF92A2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A319-D9A1-423F-A812-882984FEAD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35B1-FD82-41AD-8751-7A69543313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F7C2-2F07-4F00-8452-5A31264931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A398F-0199-4D11-97B8-75233FE1D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63CD6-53B8-43DA-A1BA-3128DE07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C1D4D-18FA-4178-BC78-FE5609795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ED2D0-976B-47DB-B256-67716CE56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A5E942-16CA-4EB6-9D32-FEFC8C414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58478-AAF7-4650-BAD2-8B83575BB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9284F-B6B7-4FF7-89FB-B54A0C39E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9F08B-7D18-4B42-9161-C9412676A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27670-7E16-4809-97B8-F2D728037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8E70F-55C4-4F6B-A441-AFC237758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177D1-D3F1-483B-9778-398EFE42B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1D3C7-A706-477B-B9E5-2C7C38279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8818B-864B-4C5D-BC34-9D3E4FA4F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924C7-7C27-452E-B650-CC448DE73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0386C-B3E1-4CE2-B09D-0C0B9D3E2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71CB0-FF06-4C9D-9C57-066B7D038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74B49-DDE3-4DC3-9011-ACF574228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5439B8-A0D9-4BB9-8BCA-51C30D9442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17FE3D-645A-4B3C-81FF-161498B83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1E68F-FE20-4034-B8A4-CA01B11156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1E032-79A4-4CAC-A66E-9DEFFEB05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72FA3A-A0D5-4690-A733-BC17334F06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8F624-45AD-4F76-8F25-9F5039735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8BADE-98CA-47AD-B7CE-67A24FE5E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4CCCC-A72A-4C17-B659-7B11E139D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2349D-97D5-4FF2-8158-17AB96ACD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38639-43B6-4489-907A-DBEAD4277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8E7EB4-AE7A-4A36-B4AD-0059A4DC1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B98E63-A14F-4163-821C-135F1903ED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A27915-EEF7-44DF-B64E-646C9184FF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6E0CA6-571B-4E8A-BB68-3A319B78F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AC8A1-5FD9-4F66-B2EA-D9767EE265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DB8BD-73AD-4FEE-B6E8-8499A52234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A0B6B-9DD5-4D4F-B59D-16EDD9FA2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DF960-1D91-4C36-A740-1B86F544D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99E754-DFDC-4D36-9A59-FF2AEC2A1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21D5C-DDED-4955-A457-E9C073CF2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E976A-03D0-477D-AF6F-DABB59BBC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36609-492A-4597-9F6A-39F120E62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7AA7F-61A3-4E54-A7B6-1B6786A42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8BAD9C-7578-41D2-8669-A0E6CAD596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40CE30-9251-458A-A761-E66606306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23A5A3-3CC8-49E8-A23B-061279714E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0FB0B-E9CD-4801-BB5F-8733E77D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C5E32-2D3E-4F5D-806C-22E4CA1C6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C075F-4DF7-4E38-B759-9FF2B01D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D0F1-9175-4D79-B264-490BE4F4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15EF-3F89-4FA8-95A5-E8D44E678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06AF-6002-4AF3-9AB9-6A58142F1AD5}" type="datetime">
              <a:rPr b="0" lang="es-CL"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20E1-3559-40AA-882C-8BBE95DFA748}"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4DE8-7849-4E98-90C0-4961FFD46982}" type="datetime">
              <a:rPr b="0" lang="es-CL"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1254-12F2-4B41-9156-1EE5650F0D9B}"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3841-2CB4-4426-BFB8-29E38B268EFA}" type="datetime">
              <a:rPr b="0" lang="es-CL"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2350-1EA6-4F94-B466-FE94C32E954E}"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0DAC-CF5E-4684-B870-897DDFBA43F6}" type="datetime">
              <a:rPr b="0" lang="es-CL"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0A7AB-37F5-498A-B21B-51460683DC97}"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DB37-C7F8-415A-8DF9-D49343E1529A}"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F289-8B26-415F-BFFE-D49BEC59805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4744-75F0-4D75-BB52-0F55255071B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3C31-C4E5-4C7F-9DD7-0110F36D22E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ED3C-4B53-46B9-A909-B7733A05D31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861E-E673-4EB7-B959-8826D558B51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A6E9-C4C6-42A7-9BEF-C8F1B56A540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B0E4-1AAA-431A-8035-A9929135171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38B6-3E83-413C-87B2-977724ACDB7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D5F5-EEC2-43D7-91CE-C18170B72F8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FF9E-E529-44F0-8A36-F3C5DC265C8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8388-7853-4A2E-AEA1-4B9FEA5F692B}"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629A-9B8D-402E-B655-EFE2AC3AE22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456B-0FA6-45FE-80AA-187CB37787C2}"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3512-B22D-4FC4-B735-8E0C66541BA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1826-50F7-4AAB-AAF9-7616BDAC270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D00C-CA90-4AFE-902C-BAA55BCA777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3B17-DA46-4B63-968A-F496264B541F}"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