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A5A-7077-42CD-B611-1DE928AD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CA2-8962-4967-B308-784EB692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782-D721-4435-80DB-230820C8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292-D322-4F8A-95FD-8791DF5D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5F0-D8F0-4DDC-BC80-009F3A9D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848D-EFDC-4EE7-B753-96A51CFE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CC35-D16B-4BD8-9085-9DB3DEC1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F426-ECC4-4DDB-BDA8-45A82E5B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C46-728B-4DA1-9127-D048B171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92BF-C2D4-4872-9927-A8F03EE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23A9-35AD-4B92-B7C0-06B2ADC7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886-FB54-41BE-BE4F-3D57A55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22B2-A7EF-40E9-9DDD-D3AAC118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CA77-0318-468D-BFAE-F9AE58C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AFEFF-51D5-4608-87D5-620E4733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5117-1A41-4337-92D8-52A193681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8D63-5694-47E2-9E37-D32118A1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A73-BA0E-4AF2-881D-11AFD7A8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D67-B0F0-4820-9DAC-C4C11313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CB9D-2C2E-4A22-9B76-D74145A5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1FF-AF59-42FA-8217-4405FF68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2BF-85CA-4E42-B9D3-35FAF59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F56-B831-448E-A79F-97D7767A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85D-0FE6-45FC-AC61-8BE3B862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F89E-E832-42DB-B951-CAF6C89B696C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40B-3ECE-4CF9-8213-7D9E97AC920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76520" y="244440"/>
            <a:ext cx="6302160" cy="630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E90-CBC7-4A9E-8BC2-D280547DEF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016F-C525-44F2-A2B4-2F0066F36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l eq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  <a:ea typeface="Arial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0716-CFCC-4BE6-8857-6D6AA9EA99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  <a:ea typeface="Arial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7989800">
            <a:off x="4975200" y="5204880"/>
            <a:ext cx="16128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  <a:ea typeface="Arial"/>
              </a:rPr>
              <a:t>perso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  <a:ea typeface="Arial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  <a:ea typeface="Arial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F9B-9100-4F25-B26D-77C02CF63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Arial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3B49-FF35-4F49-96AD-6E9313711C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lee</cp:lastModifiedBy>
  <cp:lastPrinted>2003-10-23T15:52:00Z</cp:lastPrinted>
  <dcterms:modified xsi:type="dcterms:W3CDTF">2009-09-24T18:48:38Z</dcterms:modified>
  <cp:revision>150</cp:revision>
  <dc:subject/>
  <dc:title>No Slide Title</dc:title>
</cp:coreProperties>
</file>