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CC3-ABC2-4E58-8892-D155F4F6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0D8-B5B7-4F1E-A0D4-05279909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64E-6B82-4899-951C-697A3D1E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504-0FAA-477A-A0A0-F1F6109D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028D-7390-47B5-B36F-529C95F2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6053-9D0F-480E-9F4E-3C06B2C1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D4B3-5B39-4F27-9C54-52439B78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6974-8384-4637-8898-05DE8B3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ABE-A660-428D-90F0-184E7FA6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AA3D-CD34-4C86-BD7E-C88AFCE1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24AB-BDE2-4708-BAAF-3A0AF846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DCD-F0A1-47D9-A5A1-F6BF933F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033B-5B10-4911-8E3D-6676C5E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1875-E4DB-4CF1-A068-934C8966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8D11-3E9E-423D-B68F-71EDB116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1BC6-A077-4552-8745-E4FFD9AE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0262-FF81-4038-AF55-5B258E99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D78-5A6B-4011-AE97-9020A7C7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8CE-8DD3-48F8-8D0B-814C9071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138-25BD-4AEF-A725-8D9B178B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5A2-2B42-442B-A08B-B9C3259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E5A-A2E8-4342-ABFB-E6B447E0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399-8129-4828-A76C-CE98B04B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ABE-1BE1-401B-B6CC-BBAD7206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462F-34F4-4E54-A2DC-E46692E150F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85BC-7B9F-4717-A57F-05655E1B99B7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44440"/>
            <a:ext cx="6302160" cy="630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99E-8536-4F28-8E8A-22666784C5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C96-3D99-4F35-A5B9-1DB06D8024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  <a:ea typeface="Arial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7989800">
            <a:off x="4975200" y="5204880"/>
            <a:ext cx="16128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l eq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EBC-37B4-4FBE-A5C4-1A6F91740B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  <a:ea typeface="Arial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7989800">
            <a:off x="4975200" y="5204880"/>
            <a:ext cx="16128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0DD-69F8-4230-9384-515463AC31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8B8-95A1-4309-8850-3F19E2A76E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lee</cp:lastModifiedBy>
  <cp:lastPrinted>2003-10-23T15:52:00Z</cp:lastPrinted>
  <dcterms:modified xsi:type="dcterms:W3CDTF">2009-09-24T18:48:38Z</dcterms:modified>
  <cp:revision>150</cp:revision>
  <dc:subject/>
  <dc:title>No Slide Title</dc:title>
</cp:coreProperties>
</file>