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CB1-1A16-49AA-AC13-885FE551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5BD-1841-4C67-A9EE-E9179C44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DF7-2A3A-44DE-903F-574F947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1B5-5FCE-474C-9C93-D26E7F65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5C6E-29FC-4491-AF09-62909735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3BC-E5CD-4CDD-9C12-7FD04BA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9C37-5A12-4FC2-B267-8B9824A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223-7009-4410-B509-AD8F137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9B5E-E85C-4FC2-AAF1-A12E818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11F-4AAA-4FD4-9065-0C3402E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B5D1-906D-4FD0-9807-A98B9F2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50B-B3DD-4C2C-A294-3370BE18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7F2F-7A86-4118-B498-97BDD83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9A6-5D04-48E8-9199-4126CBB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8EF9-0B50-456F-A25D-2FBDF3B7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7F1-9C34-4180-B3C3-16E34BDA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22A4-D710-46C4-B5D6-A569F4F9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554-5156-46E2-8842-3F361FA8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1D5-B04D-464F-8D2B-C39D1280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C92-DE43-4706-BAA0-EB12AB8C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FC7-3C98-4A5A-9171-2215C26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117-2629-4755-944E-55DF815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4CD-F692-4A12-A186-3542453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CE4-D478-460D-9081-CC5AB38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9692-8562-4229-B578-30A0833DFCF0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6E86-90B7-49BF-A337-FA0C255527F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44440"/>
            <a:ext cx="6302160" cy="630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9E5-7EC0-4B43-98B6-BB172D404B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F67-9441-48C6-8726-9EC166B78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l eq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184-5784-4750-9198-25DCF64DED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BB-0E07-4DD3-82FE-6674D32CF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A3D-82EA-40D4-B185-447C9D6D9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lee</cp:lastModifiedBy>
  <cp:lastPrinted>2003-10-23T15:52:00Z</cp:lastPrinted>
  <dcterms:modified xsi:type="dcterms:W3CDTF">2009-09-24T18:48:38Z</dcterms:modified>
  <cp:revision>150</cp:revision>
  <dc:subject/>
  <dc:title>No Slide Title</dc:title>
</cp:coreProperties>
</file>