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66E-AE6E-40F6-AEE8-19558C53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E9E-375F-40AF-A18C-6D42447B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C5A-8D95-4A59-B089-DD0F736B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5F7-DCD8-4250-82C8-12951ACD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7B2F-6D84-4A3B-AE83-0D233CD6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2A39-F8E9-40FB-A9A5-A53607DC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6EED-36BC-4977-98AB-E8560605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35CD-269A-4FC7-A823-C5D1772F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705E-094C-48A7-8A26-264DC5FA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A7E9-AD85-4596-9A0F-46D93043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56BA-2B57-42B3-B55F-E13C3A7B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3CF-56A2-421F-9555-7D3596F9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5DD9-481C-41A4-A30D-CA38D116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CFBB-4254-4DAA-8C3D-B5A955F9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4E8D-1728-4B93-8FA3-D49DDEF3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AA1C-A567-41A9-9728-4C5B4F93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5294-FC64-47E6-895B-2F233E4A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C35-6AC5-4674-96B4-BF51C262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FF2-C0A6-4635-AB22-6FF22B32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024-F2E0-482A-8B3A-8B92C152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F964-3C06-401E-8D23-ABD7DF35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B94-0400-48ED-9A90-BE954476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846-101B-4508-A32B-C6ED9936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321-F989-4CBD-BFA6-1919D8C9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2616-11C8-468E-AA17-38112F75BAF7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8CA5-0FD1-498C-B02F-36CA7407B66B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244440"/>
            <a:ext cx="6302160" cy="630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9508-FF7F-4279-9272-64A5E059B1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41640" y="1252440"/>
            <a:ext cx="526896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59B-292C-4538-999D-91A3A9AE52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  <a:ea typeface="Arial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  <a:ea typeface="Arial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7989800">
            <a:off x="4975200" y="5204880"/>
            <a:ext cx="161280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  <a:ea typeface="Arial"/>
              </a:rPr>
              <a:t>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461280" y="1720800"/>
            <a:ext cx="1671480" cy="636480"/>
          </a:xfrm>
          <a:prstGeom prst="wedgeRectCallout">
            <a:avLst>
              <a:gd name="adj1" fmla="val -67092"/>
              <a:gd name="adj2" fmla="val 1622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omo puede afectar el flujo la subestimación de la competencia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65920" y="4194000"/>
            <a:ext cx="1671480" cy="636840"/>
          </a:xfrm>
          <a:prstGeom prst="wedgeRectCallout">
            <a:avLst>
              <a:gd name="adj1" fmla="val -85138"/>
              <a:gd name="adj2" fmla="val 118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El equipo que lidera el proyecto, es capaz de implementarl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6920" y="1987560"/>
            <a:ext cx="1671480" cy="636480"/>
          </a:xfrm>
          <a:prstGeom prst="wedgeRectCallout">
            <a:avLst>
              <a:gd name="adj1" fmla="val 54462"/>
              <a:gd name="adj2" fmla="val 139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Está bien proyectado el mercad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178160"/>
            <a:ext cx="1671480" cy="636840"/>
          </a:xfrm>
          <a:prstGeom prst="wedgeRectCallout">
            <a:avLst>
              <a:gd name="adj1" fmla="val 69564"/>
              <a:gd name="adj2" fmla="val 137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ay un mecanismo de salida equilibrado entre los accionista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02040" y="1100160"/>
            <a:ext cx="1671840" cy="636480"/>
          </a:xfrm>
          <a:prstGeom prst="wedgeRectCallout">
            <a:avLst>
              <a:gd name="adj1" fmla="val -45537"/>
              <a:gd name="adj2" fmla="val 88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Es realista la proyección del fluj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11800" y="5815080"/>
            <a:ext cx="1671840" cy="636480"/>
          </a:xfrm>
          <a:prstGeom prst="wedgeRectCallout">
            <a:avLst>
              <a:gd name="adj1" fmla="val -121888"/>
              <a:gd name="adj2" fmla="val 34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Es realista el plazo y el presupuesto de implementación del producto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2280" y="5508720"/>
            <a:ext cx="1671480" cy="636480"/>
          </a:xfrm>
          <a:prstGeom prst="wedgeRectCallout">
            <a:avLst>
              <a:gd name="adj1" fmla="val 6601"/>
              <a:gd name="adj2" fmla="val 81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ay alguna regulación o ley que impida o dificulte el negocio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7CD-F383-41DD-BCF8-C166AD2E08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  <a:ea typeface="Arial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  <a:ea typeface="Arial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7989800">
            <a:off x="4975200" y="5204880"/>
            <a:ext cx="161280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  <a:ea typeface="Arial"/>
              </a:rPr>
              <a:t>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9722600">
            <a:off x="4269600" y="3030120"/>
            <a:ext cx="2655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solo paranoicos sobreviven 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125200">
            <a:off x="4430880" y="4539960"/>
            <a:ext cx="1783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manejo de crisis 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1376800">
            <a:off x="3331800" y="5517720"/>
            <a:ext cx="21344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mas tarde, mas caro 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363400">
            <a:off x="2267280" y="4578120"/>
            <a:ext cx="2152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quiero ver mi retorno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751400">
            <a:off x="2297880" y="3460680"/>
            <a:ext cx="1305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optimismo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448400">
            <a:off x="2888640" y="2727360"/>
            <a:ext cx="2881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No deseo que me pidan más pl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703200">
            <a:off x="397080" y="5873400"/>
            <a:ext cx="1293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imprevisto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62F-D5B9-404E-AE5E-4B6E2F4E0E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2880" y="2274840"/>
            <a:ext cx="750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La sensación de riesgo es un ju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Cada inversionista tiene sus propios mie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Cuidado con los escépticos y con los opti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Quién se hace car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Están pidiendo un socio, no un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Carnicero o Ejecu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Es justa tu ofer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64C-5F0A-467B-9177-43AA0520B7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4:49:35Z</dcterms:created>
  <dc:creator>michael</dc:creator>
  <dc:description/>
  <dc:language>en-US</dc:language>
  <cp:lastModifiedBy>jalee</cp:lastModifiedBy>
  <cp:lastPrinted>2003-10-23T15:52:00Z</cp:lastPrinted>
  <dcterms:modified xsi:type="dcterms:W3CDTF">2009-09-24T18:48:38Z</dcterms:modified>
  <cp:revision>150</cp:revision>
  <dc:subject/>
  <dc:title>No Slide Title</dc:title>
</cp:coreProperties>
</file>