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483D-E280-4B88-BC10-1F2AFE23B9D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6D74-16E7-4F44-8A5B-7351A7C618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8AEB-9379-4F9F-84B0-7B354D0B13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8264-5E15-4231-B359-AE24236051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6867-BA56-48F7-B33E-D97F675C6E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F973-440E-4334-BA64-5F9681A830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7756-208F-491B-A63E-7F6E1350A3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241A-F30A-4ACA-BAF2-D4380D49DF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2D37-B218-44AF-A3D2-048F828734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C04-FBE1-40C9-824B-89130BF85B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E651-B7C5-4269-B310-07B3331EAD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FD42-3F97-465E-ACD8-3A39DBF212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3F93-5E1A-4DCE-A1DF-F94D1845FC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D946-9DE1-4613-AFA5-5CEEEE304F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05DB-C573-4B7B-A2E6-7F19E42084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1C47-09FA-4C5C-A855-4E2713B428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68C6-A03B-4ADA-B6CE-357B1A9E5C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D696-2415-4549-8148-9DF15D4AC7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EFCA-A9BD-44D5-9458-496DA47697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04167-6EA6-41E6-A930-5DA9EAA8A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93A7-B133-436C-A330-C74559FF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C7B01-B9BD-4C4A-A79B-98C4C45B1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C2204-DBD2-4DBE-B4D7-956806B28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F3C13-1AD3-42BF-9C5F-EF695BB90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9322D-207A-4E6E-A271-285B0562F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43352-E45E-47FA-87D3-661B2C32D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99838-9F3E-4698-85B8-9157E1D6A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B6F94-9FE1-4E74-AF5A-98C22FA61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06A8E-9DC6-4543-9628-327A121DF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55911-AA46-4BE8-8185-10D4784E0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529A-1A21-487B-A5C4-01B6A22A1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67BE-A815-4FAD-9405-2FA2D2086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9141-6487-441F-93AC-20F4C88A1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BCDF9-6B7E-4C43-9331-86597BB6E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1B31D-90A7-4E90-B939-7A81C2682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38B7F-DD5A-4093-AA31-35DF0BD5C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0B24B-2AFF-46BF-8D05-EBCCF64923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5B7D1-71EC-4554-BEAF-885847ABB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A8325-5080-4FAF-96B9-CF0ED843B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8ED64-FB95-41EA-90F6-386CCEBAD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D7D5E-AB39-46F1-B70B-56F738535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4A691-A46D-4FA4-A825-1086E282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E0210-31FE-4B70-9B01-D99EE222E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B6089-8AC2-4AE2-87A2-70C16AAC5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DAB7E-42E1-4B1B-A48A-47383B6DB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C4533-9A48-4C6E-A5DE-532C94B74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027BC-0CFB-4FEB-8419-63FF7D01A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43496-9ACB-49B2-8865-F05A02756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934C0-73DB-4D90-9257-8D07BD7FC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326AE-A22A-44A4-B298-C3A4BC89C9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DE77E-F523-4F04-B099-028F85D8B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F0688-B03F-4EB3-BAAB-40BA2AB49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5CFE6-AA83-41CD-BFF5-7D654277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D1A76-1E63-4039-A109-0764B6FA5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872D7-6E44-471D-AD2E-E2D8710F8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8103F-5E1D-4E10-9A20-63972F958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D7D64-170A-47DD-AB0F-524DFC1C0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1C220-6B65-4CDC-967E-390AD949B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95466-09A6-4675-8491-E0F7E380A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CAE39-D9F1-44BA-A4CF-2E2483459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E30D47-63C7-4ADE-8372-3CE94C1F7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0A8001-523B-4BDD-AE89-7993AF3755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4CF2-D3F4-4595-8307-D3069F4E7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E0FA-9234-4183-A052-74319113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DC81-5FC9-4C0A-8A2F-3CE983B9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0F03-68CE-4EBE-990A-74419BF2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85371-10F4-4A28-AB6B-B09DE9632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F5F6-0B12-4247-A707-7E0D2BE517A6}" type="datetime">
              <a:rPr b="0" lang="es-CL"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332C-8E23-427D-80C2-D5A40F88A18C}"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427D-7E8B-4455-8B33-AC4816C9B749}" type="datetime">
              <a:rPr b="0" lang="es-CL"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0A4F-E91A-4A0C-81CB-74ECF574CE5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3033-E9EF-4DD8-AF97-76F9B17C645D}" type="datetime">
              <a:rPr b="0" lang="es-CL"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83BC-F717-4780-AFC5-362444472906}"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3632-CEA2-4B38-958E-852567C19794}" type="datetime">
              <a:rPr b="0" lang="es-CL"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6FF6-E31A-4403-920E-A95FADB04612}"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7E16-1CBB-4FAF-AA0A-AEC48A8D3315}"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F626-6F13-42DA-901D-E129E27F1AC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3642-F4E3-4189-9162-C69EA8CA868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6BB2-E346-4237-9B9E-D4830A61E61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893C-F2E9-4EA7-9625-F05D27E49AC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2C4F-CB65-4360-96D2-67FCE7FE1EE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4748-4B29-41B4-A9D2-3568FC28AE3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5AD8-6E9A-4C47-8A36-213F2DBAE6E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A1CC-4F9E-42E7-9E7A-5E9E6BB13C8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99EC-B631-42AA-B703-925200CD6BC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812F-643D-4887-9AE0-589149720F8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DE15-9508-4360-8375-33F3F497BC0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6F53-B23D-4710-A0CF-FE2487734363}"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8D11-E79A-4669-BC62-9A9BA225E81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80D6-C8CD-4482-91BE-350765D1653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9C78-DC6E-4BDD-9DBC-1208AD879BE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2C93-DAA4-470C-98C2-4BAA277EFD1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A5E5-F167-4053-A554-6016BB8C83C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