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30D7-4B2B-4115-A081-0076B8EF128E}"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77B1-A222-4BBB-9E6F-D640C83904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FD12-E59C-435F-8102-69C4A8B253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D6AC-5521-4CBA-A840-BE3B03A342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F9B8-7649-4604-BE65-8B3A16C134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CAAE-0979-4B1E-9407-467D4A34AB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0363-3F10-4C27-8129-07B16028C94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71D8-C6A4-4679-93AD-1A9E7141AE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EE31-21B8-471A-B84E-37DA16197C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DB16-C11E-413A-9036-FD4C379C68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57BD-1AFF-411A-B4BF-44B02539C3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8609-481A-4CC9-8F3B-CFF5DB54C9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82F5-CAC4-45F6-948A-8D812797AA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5F56-7801-478B-B5FF-318E278F8A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FF25-8CF4-42B3-B1F3-3182771737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C728-8A08-4A40-BA08-63FF9007AE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6108-C381-482B-BEA0-58CFF52E76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2AB3-82DA-4471-8FD8-D301D67753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84C5-8E86-492B-8ACE-0470926582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E9A7D-27D6-4D9D-B5AC-7DFFB5EBA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B26B8-3281-4ADA-88B5-25D095BE7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6305A-96F7-40D5-B638-B8765CCA8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2BDDE-69B4-4C7C-9F8D-37D6E2E9E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D66EC-D1E1-4437-AEAB-11C4B12F5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C9C23-24D5-4A5F-BBC1-CF0356A9F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302A2-0293-496B-9577-E4C0F25E9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DD04D-960C-49EA-9868-F36A625F9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D0031-663B-41F1-A381-F7F27BC8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DEBBD-9C40-4F75-9B94-03392BDFA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6437-FA7C-4E34-8DE9-29607DE0E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0E83-2EE0-4856-AAE5-548F850C8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EB9CB-16D2-4784-BFCD-015E49CB3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1F48-E87A-4D6C-B0D9-61CDA21F6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FA95E-D1A3-4CA4-98D1-E2D5201B3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19D0C-E0BE-4052-B98F-1F80E64DF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A5CD6-10D7-422F-B839-15BAB0624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65EA1-A121-4207-8F96-CA308D2AAB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FDCF6-95B0-4F8C-9FE9-A5C1913FA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09EA1-B8E1-4863-AB23-5ADBEC2CB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1DFF2-15E6-403D-A85E-883AE051B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7EF58-4CC3-4854-BAEC-C029C4392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7156-4C10-45BE-AC60-10F44E78D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F520D-A69B-4AC2-BFA2-AE2A83C5F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E99A6-11BD-4326-89A7-95DA3E917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AE290-A814-423F-88D5-96BEF1654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6356B-09C5-4E06-B76F-1C46A9FD4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7C20D-80CA-432C-8135-50B97BDAD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CCF129-EA1E-4C16-890F-CD91E25D1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527CC8-68B4-4EFD-AF7A-E51ED155C1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72F9D5-2BC5-4B13-833B-F09C845FC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D9D0C1-0ABB-4A44-818A-5DE6F9161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8EAA3-0C9D-4D46-A90E-C6689BC8C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922DB-7FCF-455F-9086-317F892F6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B3CFA-30EE-4984-BE47-944092A72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436AE-2799-445C-AA50-7D2A5193B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141E7-6EB5-405E-A4C9-AE99A13CD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48874-4E77-4F9A-8E83-635AADFD2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5262B-DCD5-4796-8FCB-6CB70EA5C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05C11-FB10-4CD5-9C6C-2009683ED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1057D-9902-4ADF-952A-3CE68C218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ECD56-2A43-49AE-9A86-3EA670DA75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15E18E-02E4-4E90-89FF-68D93CBDBF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E012A-B440-4AEB-81BB-421DC5B3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C12F-5BF0-4023-ADCD-1D564659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74AA-9B67-4550-85F4-6F400469B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187F-5C0C-459F-9B9D-08209FDC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EE43-4818-49EC-9382-6AD96CCA6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EB62-5DEB-46B7-8019-939DD98A1E80}" type="datetime">
              <a:rPr b="0" lang="es-CL"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843A-AC6E-4DF8-8678-F033E70C10BF}"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3F1B-4E26-42EC-B0CF-32AC4BE7C40A}" type="datetime">
              <a:rPr b="0" lang="es-CL"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DCD1-16D7-4B6B-B45C-A71859C769D8}"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D7AA-C64F-40E5-89C8-3FEA64575C5F}" type="datetime">
              <a:rPr b="0" lang="es-CL"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CD86-AED8-418B-B12A-3673EF1742C9}"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C69C-F7DC-41FD-B4A0-68E3BF82E324}" type="datetime">
              <a:rPr b="0" lang="es-CL"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661A-4286-4968-8853-D4056D8BBDDE}"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554C-FFEE-46D6-A21C-263E93A52746}"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81B1-ACFF-4343-BB9E-AF0B6705CCE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F5A9-0816-449C-A1E3-BFFDD7F5784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8856-5C75-4D1D-8971-51E4A108CB3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407B-E092-4208-AF8C-11C032B293E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6FBD-C166-4DD9-A693-8EF20587700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6705-6DF8-4F86-A1AA-2F9C0AC7982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CFBB-C2B8-4339-BD44-7E288E8C977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599C-10C6-45E9-9FD5-83F16CAC299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78F2-9B15-4325-BB5A-875C37B4952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3497-2CD9-4498-A3A4-9BDD1AC4D21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6270-1FB0-4BD0-8F69-B5EC611A107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855B-FF48-4DE0-ABED-1B26C6B0AD9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072F-5635-4BA4-B3DB-4A16F4559BE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3394-7C10-49BF-9A86-666A808722D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474C-B6F8-4F65-8C94-0F3FF03FD8D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EBD5-6147-43EA-BEA0-1CEDB24DD7C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F8E8-94C7-43E1-BF05-8959101186D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