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992-4877-45BD-8F8F-D8FF078C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5E6-B5CE-4EE7-A850-4B7ADEE7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B6C-4EF5-4739-8D44-C46F1C73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8F3-62B3-4EDC-93FC-9A190F11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6509-1B05-4A18-8762-DD47AF32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636E-029E-4B69-BFED-80EA6786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6B3D-0264-44D3-9C60-BFB74488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1B29-211A-4779-95E8-1C6AFD79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1EE1-37B0-491F-B8AF-93337324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C6BD-C336-4A12-ACD5-5876AA3F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D7C1-C904-461D-8BF4-89173111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F82-EDD6-4ACC-8265-DBB1E98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E9B-B123-4FBD-8B8E-ABDA3A9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5F01-7E27-4890-96D7-0FC5B77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4088-D327-4DA0-923F-52E1D3C3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E713-D7D2-4B43-BD26-DE7B2D74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4908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3400" y="144756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4908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3400" y="3875400"/>
            <a:ext cx="223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8F95-B85F-450B-8CE4-EC517130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F41-7AF4-431B-8E7B-6E6AFC34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BE7-583A-4D72-A515-58C7BC2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04F-4CEC-4FEC-8030-4622A699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228240"/>
            <a:ext cx="6933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516-5193-460B-90E3-0D68AC93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868-9EAD-47CD-8E1B-BF20865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796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FA3-2C6F-499A-8F2E-3DDA9AB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796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875400"/>
            <a:ext cx="69339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D20-5A93-416E-BBAB-6B4EE9B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B9FF-0E50-456D-8A60-BE5F4B507A5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FB85-E9C3-4720-8CC1-138BBF74B435}" type="slidenum">
              <a:rPr b="0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ts val="2398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ompany Name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33920" y="4038480"/>
            <a:ext cx="517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398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Logo placeholder"/>
          <p:cNvPicPr/>
          <p:nvPr/>
        </p:nvPicPr>
        <p:blipFill>
          <a:blip r:embed="rId2"/>
          <a:stretch/>
        </p:blipFill>
        <p:spPr>
          <a:xfrm>
            <a:off x="7769160" y="5940360"/>
            <a:ext cx="855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Resource Requirement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requirements for the following resourc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du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Risks and Reward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the risks of the proposed project and how they will be addres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imate expected rewards, particularly if you are seeking fund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Key Issue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ar te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key decisions and issues that need immediate or near-term res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consequences of decision postpon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ng te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issues needing long-term res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consequences of decision postpon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are seeking funding, be specific about any issues that require financial resources for resolu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Mission Statemen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arly state your company’s long-term miss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y to use words that will help direct the growth of your company, but be as concise as pos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The Team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CEO and key management by nam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 previous accomplishments to show that these are people with a record of succ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number of years of experience in this fiel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Market Summary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your market in the past, present, and futu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ew those changes in market share, leadership, players, market shifts, costs, pricing, or competition that provide the opportunity for your company’s succes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Opportunitie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problems and opportun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consumer problems, and define the nature of product/service opportunities that are created by those proble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Business Concep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the key technology, concept, or strategy on which your business is ba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ompetition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arize the competi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line your company’s competitive advanta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Goals and Objectives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five-year go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specific, measurable objectives for achieving your five-year go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market-share objec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 revenue/profitability objec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Financial Plan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line a high-level financial plan that defines your financial model and pricing assumption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lan should include expected annual sales and profits for the next three yea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several slides to cover this material appropriat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5:48:47Z</dcterms:created>
  <dc:creator>Juan C. Barros M.</dc:creator>
  <dc:description/>
  <cp:keywords/>
  <dc:language>en-US</dc:language>
  <cp:lastModifiedBy>Juan C. Barros M.</cp:lastModifiedBy>
  <dcterms:modified xsi:type="dcterms:W3CDTF">2009-08-15T15:49:34Z</dcterms:modified>
  <cp:revision>1</cp:revision>
  <dc:subject/>
  <dc:title>Company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5101033</vt:lpwstr>
  </property>
</Properties>
</file>