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874-F7DF-4A03-B43A-B27B4CBF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829-7D43-4BFE-BFF4-392B8A28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E7E-E134-4884-8CD4-72FA548A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E7C-D266-431A-B13E-68427181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B1B-770E-46F8-91BD-A168BEB8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E150-A1A4-48DB-891C-4F38F91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BD9-434C-456B-9407-108CFC7F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CAC4-1DBC-4BCA-84B8-AC69DF7F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E227-71BA-49E5-AE2F-BF38FE4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FD8-08E0-4317-BF75-784B6C5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585-BEA5-4F3B-8522-9E0656F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DBB-9FAD-4DE8-8EC8-DDF02E54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F86-7F7A-4F46-A9A2-19AC00E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BF70-9BCE-438F-9CC5-A9CF093B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C936-B7B1-451B-B243-F0192080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145F-5E3C-46E7-8C14-4E621395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CD27-F558-49F5-BE30-EC3F5A58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0D3-7F49-4B30-B183-B8ABBDA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815-631A-44FD-A555-E94BD117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BD4-7006-4036-93EB-33A5673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F98-01B4-4F26-BD9D-E95FCA9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F6D-6FFE-4FD0-87CE-D56A556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4D8-27E9-4E86-920A-C08266C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10C-A4EC-4FD3-99E5-1816F09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261-07ED-40CF-83A9-93022AEB9C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3844-A11D-4803-9CA4-81ADAB730D4B}" type="slidenum">
              <a:rPr b="0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ompany Name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392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Logo placeholder"/>
          <p:cNvPicPr/>
          <p:nvPr/>
        </p:nvPicPr>
        <p:blipFill>
          <a:blip r:embed="rId2"/>
          <a:stretch/>
        </p:blipFill>
        <p:spPr>
          <a:xfrm>
            <a:off x="7769160" y="5940360"/>
            <a:ext cx="855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Resource Requirement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requirements for the following resourc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Risks and Reward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risks of the proposed project and how they will be addres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imate expected rewards, particularly if you are seeking fund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Key Issu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ar te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key decisions and issues that need immediate or near-term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equences of decision postpon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g te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issues needing long-term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equences of decision postpon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are seeking funding, be specific about any issues that require financial resources for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Mission Statemen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ly state your company’s long-term mis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 to use words that will help direct the growth of your company, but be as concise as pos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The Team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CEO and key management by na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previous accomplishments to show that these are people with a record of succ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number of years of experience in this fiel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Market Summary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your market in the past, present, and fu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 those changes in market share, leadership, players, market shifts, costs, pricing, or competition that provide the opportunity for your company’s succ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Opportuniti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problems and opportun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umer problems, and define the nature of product/service opportunities that are created by those proble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Business Concep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key technology, concept, or strategy on which your business is ba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ompetition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competi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line your company’s competitive advant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Goals and Objectiv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five-year go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specific, measurable objectives for achieving your five-year go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market-share objec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revenue/profitability objec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Financial Plan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line a high-level financial plan that defines your financial model and pricing assumption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lan should include expected annual sales and profits for the next three yea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several slides to cover this material appropriat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5:48:47Z</dcterms:created>
  <dc:creator>Juan C. Barros M.</dc:creator>
  <dc:description/>
  <cp:keywords/>
  <dc:language>en-US</dc:language>
  <cp:lastModifiedBy>Juan C. Barros M.</cp:lastModifiedBy>
  <dcterms:modified xsi:type="dcterms:W3CDTF">2009-08-15T15:49:34Z</dcterms:modified>
  <cp:revision>1</cp:revision>
  <dc:subject/>
  <dc:title>Company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5101033</vt:lpwstr>
  </property>
</Properties>
</file>