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58F6-4256-459D-9A2E-BFD2028AB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522A-7256-49FE-A70D-AF139FCBF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505A-0CA2-4FC1-8BDD-40BA23F7A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6C97-2625-4390-82FE-D2312ADB6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D6A3-1368-4086-8C4B-A865D88CE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252D-ED28-4C76-90F8-5DDF9105B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220B-F1C3-49AE-A745-EFB0AE4F7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30B1-4A22-4D73-9CBD-2949C1518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9790-0FAC-4ACB-8AA5-A73C2A3E3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6A4E-4275-4D51-BA7A-C8879C6F5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8D64-07D7-4C56-B682-7A8FF9E4A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F7D1-087A-444D-B5F0-0F3BBF013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1C76-1502-4196-A60B-332F33C6C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574C-5CDA-437D-87B4-5B2290D83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AFEC-C1FA-47B7-B97C-6CA3566DE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9646-D222-4C16-83EB-28534E14B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E6A2-8F0A-446A-B73B-823F367A3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E7E1-8C9D-4E6C-BA3B-D69B54508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8C6C-ADDA-4F8F-8D63-558DB2E4D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822C-0337-4C38-9F38-F687FB2FE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2B65-31BD-42D9-AAED-60CF05485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F2A3-5C2A-46D5-A46A-597805ABB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D381-14CF-41DE-8F2E-06822BD28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7CFC-29B0-4441-8CDB-E8CA45438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96F0-B5BB-47C8-B162-8DD492160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E9CB-99B1-4519-959D-AACC71417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9E15-833F-425F-9C03-97BDA7A42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7F8F-6DAB-4784-9EFA-5B6E63CA9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19D2-E3A5-4255-A52D-07E0468D2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F7EB-E1DC-41F1-8F0D-F41A1F6A4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109A-013F-4B03-8AF7-1EFC4A6BA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6049-FAF2-457F-BB31-AC90FDBCF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C386-6DC2-4970-8A47-187440AA7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5DF2-1A17-4476-82A3-5B52759F8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F891-9C5C-4226-80A3-86288C987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A887-9D27-4CB3-B163-E519D5536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D132-7203-489D-8577-6AF8EBA6C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635D-A5E3-4768-B4D0-4FAD74461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1941-23AD-417A-9049-A485569B9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695F-D4E7-4547-A0D9-5F224696F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6BCB-0020-4590-BC61-8615B2184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629C-3AC2-4ED6-96B1-59A529422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A4182-504A-4A3F-9ECF-3B651AFB1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80D03-6CA0-4E9C-AE38-3DD0F6E5E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4CFAC-7E07-4E58-A5CE-D84345527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053DF-E9AF-41FF-A791-46E5CA538F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37606-6B43-4ABB-88CE-8A29C94AD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0F8F2-CD0C-4B76-8AC6-563BBC6D3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126DE-2B6F-4AEE-951F-24C7C1992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12F7C-9941-424C-BE66-064CF23EF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6CA41-A3A6-4F41-B325-FF4F0CAFC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C9161-CDA2-4995-A7CE-245536134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28010-D03E-47E9-8BEC-65AC221D0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C7B97-9C2B-425F-8879-AAF75EF29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–</a:t>
            </a:r>
            <a:fld id="{02720C3E-C0CE-43B0-B65D-DD3FC12DDFDF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085480"/>
            <a:ext cx="55627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1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ganizational Structure and Controls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ionships between Strategy and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y and structure have a reciprocal relationship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flows from or follows the selection of the firm’s strategy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nce in place, structure can influence current strategic actions as well as choices about futur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C9C73-C311-4893-8BF6-B9F72252015D}" type="slidenum">
              <a:t>10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534960" y="1030680"/>
            <a:ext cx="807408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grow in predictable patt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st by volum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by geograph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integration (vertical, horizontal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finally through product/business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growth patterns determine its structural fo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8C404-A398-4087-98CF-6945D0466888}" type="slidenum">
              <a:t>11</a:t>
            </a:fld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ll organizations require some form of organizational structure to implement and manage their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frequently alter their structure as they grow in size and complex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asic structure typ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mpl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unct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divisional structure (M-form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FFA51-27EC-44F1-A185-37EA0B156C40}" type="slidenum">
              <a:t>12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2133720" cy="253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 Growth Patter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1841400"/>
            <a:ext cx="365760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1311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6858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imp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09888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4235400"/>
            <a:ext cx="363204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4864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ultidivis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565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708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7209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09EA2-0D42-4B48-8F85-43DC153D5FB3}" type="slidenum">
              <a:t>13</a:t>
            </a:fld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381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17528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y and Structure Growth Patter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9400" y="304920"/>
            <a:ext cx="230508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023F1-3F04-44D7-AF83-10656C0AE7C5}" type="slidenum">
              <a:t>14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Simple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s all major decisions direct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nitors al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rves as an extension of the manager’s supervisor author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tched with focus strategies and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complete by offering a single product line in a single geographic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042DB-FFF2-42F8-9862-6B77DD6E5403}" type="slidenum">
              <a:t>15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imple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owth creat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and structural challe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lack organizational skills and experi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ome ineffective in managing the specialized and complex tasks involved with multiple organizational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7AA90-5E29-4D23-9921-AEEB63545181}" type="slidenum">
              <a:t>16</a:t>
            </a:fld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ief Executive Officer (CEO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mited corporate staff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nctional line managers in dominant organizational areas of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&amp;D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orts use of business-level strategies and some 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ngle or dominant business with low levels of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E850E-442B-4636-85ED-00536AFCD81A}" type="slidenum">
              <a:t>17</a:t>
            </a:fld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unc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orientation among organizational functions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ede communication and coordin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 the need for CEO to integrate decisions and actions of business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 career paths and professional development in specialized functional ar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use functional-area managers to focus on local versus overall company strategic iss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858EA-FB15-4CD0-BF0D-B594812EC4E8}" type="slidenum">
              <a:t>18</a:t>
            </a:fld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ng divisions function as separate businesses or profit cen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p corporate officer delegates responsibilities to division 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day-to-day oper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business-unit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as firm grows through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4A3FF-B496-445B-9DA0-42B4189192B3}" type="slidenum">
              <a:t>19</a:t>
            </a:fld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structure and controls and discuss the difference between strategic and financi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lationship between strategy and struc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unctional structures used to implement business-leve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 of three versions of the multidivisional (M-form) structure to implement different diversification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0D842-D282-4805-B9D0-8BDB0011DCB8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Major Benefi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rs are able to more accurately monitor the performance of each business, which simplifies the problem of contr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comparisons between divisions, which improves the resource allocation pro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imulates managers of poorly performing divisions to look for ways of improving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81D07-C4BC-4938-8ADD-BD37A5FB159D}" type="slidenum">
              <a:t>20</a:t>
            </a:fld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ing Strategy and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forms of the functional organizational structure are matched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leadership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grated cost leadership/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these forms are seen in three important structural characteristic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alization (number and types of job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ntralization (decision-making authority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(formal rules and work procedure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AA338-B73E-4947-8ECC-BE88E0280F7A}" type="slidenum">
              <a:t>21</a:t>
            </a:fld>
          </a:p>
        </p:txBody>
      </p:sp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al Structure for Implementation of a Cost Leadership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539720"/>
            <a:ext cx="8172360" cy="402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00800" y="1523880"/>
            <a:ext cx="25909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249"/>
              </a:spcBef>
              <a:tabLst>
                <a:tab algn="l" pos="0"/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is the main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engineering is emphasized rather than new product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large centralized staff coordinates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ed procedures allow for emergence of a low-cost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mechanical; job roles are highly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94488-0D21-41DD-843F-58DDB92DEE16}" type="slidenum">
              <a:t>22</a:t>
            </a:fld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 Cost Leadership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s is the main fun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cess engineering is emphasized over research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centralized staff oversees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ed procedures guide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is mechanic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highly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45AC8-6BE1-4E5F-88D2-A0CD1E2BAC2E}" type="slidenum">
              <a:t>23</a:t>
            </a:fld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504360"/>
            <a:ext cx="678204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 Structure for Implementation of a Differentiation Strategy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0120" y="1566720"/>
            <a:ext cx="8010360" cy="3724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470560"/>
            <a:ext cx="8001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Marketing is the main function for keeping track of new product ide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New product R&amp;D is empha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functions are decentralized, but R&amp;D and marketing may have centralized staffs that work closely with each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ation is limited so that new product ideas can emerge easily and change is more readily accomp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organic; job roles are less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53A3B-355A-4DB3-B2D1-A3514BA98FDF}" type="slidenum">
              <a:t>24</a:t>
            </a:fld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a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ing is the main function for tracking new product idea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product R&amp;D is emphas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st functions are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is limited to foster change and promote new id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verall structure is organic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less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EFDF6-8A97-4396-896A-281C309527F4}" type="slidenum">
              <a:t>25</a:t>
            </a:fld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the Integrated Cost Leadership/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lling products that create customer value due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ir relatively low product cost through an emphasis on production and process engineering, with infrequent product chang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asonable sources of differentiation based on new-product R&amp;D are emphasized while production and process engineering are no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frequently in global econom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419A8-57D5-4B4D-8C30-DA25217F996D}" type="slidenum">
              <a:t>26</a:t>
            </a:fld>
          </a:p>
        </p:txBody>
      </p:sp>
    </p:spTree>
  </p:cSld>
  <p:transition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an Integrated Cost Leadership/Differentiation Strateg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ntegrated form of the functional structure must have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cision-making patterns that are partially centralized and partially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mi-specialized job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ules and procedures that allow both formal and informal job behavi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72D38-EF81-49FB-8ADF-79F7FAD83706}" type="slidenum">
              <a:t>27</a:t>
            </a:fld>
          </a:p>
        </p:txBody>
      </p:sp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continuing success that lead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oth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creasing diversification creates control problems that the functional structure can’t handl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ormation processing, coordin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77A8F-22AB-4A02-8B93-4B31E6BD735C}" type="slidenum">
              <a:t>28</a:t>
            </a:fld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y requires firm to change from functional structure to a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levels of diversification create the need for implementation of a unique form of the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3F852-74E8-4448-AA5A-837B21957775}" type="slidenum">
              <a:t>29</a:t>
            </a:fld>
          </a:p>
        </p:txBody>
      </p:sp>
    </p:spTree>
  </p:cSld>
  <p:transition>
    <p:random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organizational structures used to implement three internationa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networks and discuss how strategic center firms implement such networks at the business, corporate and international leve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2E1F0-EF42-45FC-A1B3-B8A9DC25A685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58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4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Variations of the Multidivisional Structur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57200"/>
            <a:ext cx="8229600" cy="5335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1560600"/>
            <a:ext cx="712476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B7880-A8BE-4F14-B013-68F294285A04}" type="slidenum">
              <a:t>30</a:t>
            </a:fld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operative Form of the Multidivisional Structure for Implementation of a Related Constrain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81040"/>
            <a:ext cx="1828800" cy="479160"/>
            <a:chOff x="457200" y="58104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8104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74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285920"/>
            <a:ext cx="7010640" cy="4352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20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Structural integration devices create tight links among all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office emphasizes centralized strategic planning, huma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resources, and marketing to foster cooperation between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&amp;D is likely to be centralized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3962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wards are subjective and tend to emphasize overall corpor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formance in addition to divisional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lture emphasizes cooperative 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92FB5-F1CB-409F-8C52-7DD8249EE840}" type="slidenum">
              <a:t>31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opera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integration is used to bring about interdivisional coopera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ring divisional competencies facilitates development of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 foster divisional cooperation, the corporate office emphasizes centralization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4961C-0C55-4E12-A107-09E2E62F5388}" type="slidenum">
              <a:t>32</a:t>
            </a:fld>
          </a:p>
        </p:txBody>
      </p:sp>
    </p:spTree>
  </p:cSld>
  <p:transition>
    <p:random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&amp;D is likely to be centraliz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t, direct contact between division managers encourages and supports cooperation and sharing of competencies and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liaison ro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wards are subjective, emphasizing overall corporate performance in addition to divisional performan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534A8-F74F-435D-8B23-F0DCB5748C52}" type="slidenum">
              <a:t>33</a:t>
            </a:fld>
          </a:p>
        </p:txBody>
      </p:sp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6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U Form of the Multidivisional Structure for Implementation of a Related Link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" y="5842080"/>
            <a:ext cx="4114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uctural integration among divisions within SBUs, but independenc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ross SB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ic planning may be the most prominent function in headquarters for  managing the strategic planning approval process of SBUs for the pres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9720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ch SBU may have its own budget for staff to foster 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porate headquarters staff serve as consultants to SBUs and divisions, rather than having direct input to product strategy, as in the cooperativ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90440" y="1285920"/>
            <a:ext cx="6963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7988B-C611-4C8D-AAA4-32052B47699C}" type="slidenum">
              <a:t>34</a:t>
            </a:fld>
          </a:p>
        </p:txBody>
      </p:sp>
    </p:spTree>
  </p:cSld>
  <p:transition>
    <p:random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business unit (SBU) form is a structure consisting of three leve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headquar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business units (SBU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BU div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sha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s, or markets, or bo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8E56C-EF13-4191-B43F-8FBA2EDFE29E}" type="slidenum">
              <a:t>35</a:t>
            </a:fld>
          </a:p>
        </p:txBody>
      </p:sp>
    </p:spTree>
  </p:cSld>
  <p:transition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develop economies of scope and/or scale by sharing product or market competenc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SBU is a profit center controlled and evaluated by the headquarters off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by large fir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be complex due to an organization’s size and diversity in products and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A1F76-F585-40A8-B861-A691072ABBE3}" type="slidenum">
              <a:t>36</a:t>
            </a:fld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7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etitive Form of the Multidivisional Structure for Implementation of an Unrelat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4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3486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20" y="535608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headquarters has a small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 and auditing are the most prominent functions in the headquarters office to manage cash flow and assure the accuracy of performance data coming from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48640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legal affairs function becomes important when the firm acquires or divests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are independent and separate for financial evaluation purp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retain strategic control, but cash is managed by the corporate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compete for corporate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EFAA7-27EA-4B2A-B046-75EB79D54E73}" type="slidenum">
              <a:t>37</a:t>
            </a:fld>
          </a:p>
        </p:txBody>
      </p:sp>
    </p:spTree>
  </p:cSld>
  <p:transition>
    <p:random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mpeti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structure in which there is complete independence among the firm’s divi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isions do not share common corporate strength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ause strengths aren’t shared, integrating devices aren’t develop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arrangements emphasize divisional competition rather than cooper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4F122-D295-4FCF-9766-4DCD8ECB8C84}" type="slidenum">
              <a:t>38</a:t>
            </a:fld>
          </a:p>
        </p:txBody>
      </p:sp>
    </p:spTree>
  </p:cSld>
  <p:transition>
    <p:random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enefits from the internal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—corporate headquarters can have divisions working on different technologies to identify those with greatest future potenti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llenges the status quo and inertia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tivates effor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specific profit performance expectations for each division to promote internal competition for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58A55-9E1C-4946-8236-C983A5BC0C72}" type="slidenum">
              <a:t>39</a:t>
            </a:fld>
          </a:p>
        </p:txBody>
      </p:sp>
    </p:spTree>
  </p:cSld>
  <p:transition>
    <p:random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 and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structure specif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’s formal reporting relationships, procedures, controls, and authority and decision-making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work to be done and how to do it, given the firm’s strategy o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t is critical to match organizational structure to the firm’s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6046-8E9A-4239-B993-7925691128C6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1.1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s of the Structures Necessary to Implement the Related Constrained, Related Linked, and Unrelated Diversification Strategi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" y="1628640"/>
            <a:ext cx="83059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operative M-Form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BU M-Form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etitive M-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Constra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Link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nrelated Diversif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ized 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ly centr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ntralized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SBU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f integr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xist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subjec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 mixture 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objecti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rategic) criter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ive (strategi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bjec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 incen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over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linkage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divisio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, SBU, 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al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0440" y="116676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Structural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760" y="62895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implemented with structural for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4BC1F-0AE2-4536-98B4-4098C7EE852B}" type="slidenum">
              <a:t>40</a:t>
            </a:fld>
          </a:p>
        </p:txBody>
      </p:sp>
    </p:spTree>
  </p:cSld>
  <p:transition>
    <p:random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Strategies and Worldwide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rnational strategies allow the firm to search for new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B6FB3-8305-48CA-AAA6-3234DBC17F6E}" type="slidenum">
              <a:t>41</a:t>
            </a:fld>
          </a:p>
        </p:txBody>
      </p:sp>
    </p:spTree>
  </p:cSld>
  <p:transition>
    <p:random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5095800" cy="4497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670572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1.8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wide Geographic Area Structure for Implementation of a Multidomestic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2920" y="5678640"/>
            <a:ext cx="598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perimeter circles indicate decentralization of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hasis is on differentiation by local demand to fit an area or country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coordinates financial resources among independent subsidi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de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DD5BE-DF2A-449A-9F71-6058C54A9062}" type="slidenum">
              <a:t>42</a:t>
            </a:fld>
          </a:p>
        </p:txBody>
      </p:sp>
    </p:spTree>
  </p:cSld>
  <p:transition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: Implementing a Multidomestic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 decentralizes strategic and operating decision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units in each cou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characteristics tailored to local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counter global competitive forces b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protected market positions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ng in industry segments most affected by differences among loc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026F7-352C-48D5-B024-0C9497E13678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rldwide Geographic Area Struc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hasizes national interes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the firm’s efforts to satisfy local or cultural dif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little coordination between different county markets: integrating mechanisms aren’t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y disadvantage is inability to create global efficienc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373B4-23DB-4760-B4E4-0E443826B912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9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Product Divisional Structure for Implementation of a Glob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76520" y="1295280"/>
            <a:ext cx="5076720" cy="4524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360" y="5681520"/>
            <a:ext cx="779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eadquarters’ circle indicates centralization to coordinate information flow among worldwid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uses many intercoordination devices to facilitate global economies of scale and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also allocates financial resources in a cooperative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6738-2A6C-4329-84C3-887CA0E3A6E7}" type="slidenum">
              <a:t>45</a:t>
            </a:fld>
          </a:p>
        </p:txBody>
      </p:sp>
    </p:spTree>
  </p:cSld>
  <p:transition>
    <p:random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: Implementing a Glob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irm to offer standardized products across country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s on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 depends on firm’s ability to develop and take advantage of economies of scope and scale on global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tends to outsource some primary or support activities to the world’s best provi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850BD-430F-439C-991E-2CAD8635CA3E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entralizes decision-making authority in the worldwide division headquart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adquarters coordinates and integrates decisions and actions among divisional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grating mechanisms are importa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rect contact between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aison roles between depart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mporary task forces as well as permanent tea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80D7D-7937-4128-95EC-8D31A3E0FEF6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bination Structure: A Transnation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ansnation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bines multidomestic strategy’s local responsiveness with global strategy’s efficienc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bination structure draws characteristics and mechanisms from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geographic area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product divis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integrating mechanisms for the combination structure are less obviou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F0873-8AC4-4938-85C2-7721164479E0}" type="slidenum">
              <a:t>48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010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0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the Hybrid Form of the Combination Structure for Implementation of a Transnation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9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61960" y="1600200"/>
            <a:ext cx="80200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9D871-DEA2-4C3B-8928-1989AB42F9AD}" type="slidenum">
              <a:t>49</a:t>
            </a:fld>
          </a:p>
        </p:txBody>
      </p:sp>
    </p:spTree>
  </p:cSld>
  <p:transition>
    <p:random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uctures provi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stability provides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apacity required to consistently and predictably manage daily work routi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flexibility provides for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opportunity to explore competitiv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llocation of resources to activities that shape needed competitive advanta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AD4A7-C217-4E47-AF57-ED1F1B87B9DD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twork strategy exist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form several alliances in order to improve performance of the alliance network itself through cooperative endeav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formed to create value by participating in multiple cooperative arrangements such as alliances and joint vent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ABADF-F11D-452E-BFA8-59E734A25361}" type="slidenum">
              <a:t>50</a:t>
            </a:fld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 are used to impleme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cooperative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enter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around which the network’s cooperative relationships revol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2B03D-8614-4B2B-848B-33D3ED1D18DF}" type="slidenum">
              <a:t>51</a:t>
            </a:fld>
          </a:p>
        </p:txBody>
      </p:sp>
    </p:spTree>
  </p:cSld>
  <p:transition>
    <p:random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44600" y="447840"/>
            <a:ext cx="215568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978280" y="671400"/>
            <a:ext cx="487044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02FF7-2728-4D7D-971D-C27FE2B2260E}" type="slidenum">
              <a:t>52</a:t>
            </a:fld>
          </a:p>
        </p:txBody>
      </p:sp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Center Fi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s the foundation for the strategic network’s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aspects of organizational structure such as formal reporting relationship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s the complex, cooperative interactions among network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gages in four primary task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outsourc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ce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FE25C-0C1B-42DD-9E22-55CC9150D978}" type="slidenum">
              <a:t>53</a:t>
            </a:fld>
          </a:p>
        </p:txBody>
      </p:sp>
    </p:spTree>
  </p:cSld>
  <p:transition>
    <p:random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have complementary competencies in different value chain stages that let them cooperatively integrate their different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that agree to combine competencies to create value in the same stage of the value chai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trategic center firm is obvious in vertical alliances, but not always in horizontal allian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D9363-AA8A-4A0E-8213-498EFB41142F}" type="slidenum">
              <a:t>54</a:t>
            </a:fld>
          </a:p>
        </p:txBody>
      </p:sp>
    </p:spTree>
  </p:cSld>
  <p:transition>
    <p:random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: International 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anchi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mon form of cooperative strategy used to facilitate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the firm to use its competencies to extend or diversify its product or market reach without completing a merger or acquisi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34B9D-C745-45C3-9BA9-BCCA94801080}" type="slidenum">
              <a:t>55</a:t>
            </a:fld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used to implement international cooperative strategies for competing in sever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countries’ regulatory environments increase the challenge of managing international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stributed 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the organizational structure used to manage international cooper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trategic center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4B430-41D7-4EB9-903F-6CE1A8862874}" type="slidenum">
              <a:t>56</a:t>
            </a:fld>
          </a:p>
        </p:txBody>
      </p:sp>
    </p:spTree>
  </p:cSld>
  <p:transition>
    <p:random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2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Distributed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819520" y="72864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B2592-51EB-44EE-A358-58BD514DB44B}" type="slidenum">
              <a:t>57</a:t>
            </a:fld>
          </a:p>
        </p:txBody>
      </p:sp>
    </p:spTree>
  </p:cSld>
  <p:transition>
    <p:random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rposes of Organizational Contro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uide the use of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cate how to compare actual results with expected resul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ggest corrective actions to take when the difference between actual and expected results is unaccept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wo Types of Organizational 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59C73-6BB1-413E-B5D0-24AB6E424AF1}" type="slidenum">
              <a:t>6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640" y="1295280"/>
            <a:ext cx="250848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s: Su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ncerned with examining the fit between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ght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portunities in its external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etitive advanta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valuate the degree to which the firm focuses on the requirements to implement its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35480" y="1492200"/>
            <a:ext cx="2330280" cy="914400"/>
            <a:chOff x="3435480" y="1492200"/>
            <a:chExt cx="2330280" cy="914400"/>
          </a:xfrm>
        </p:grpSpPr>
        <p:sp>
          <p:nvSpPr>
            <p:cNvPr id="113" name=""/>
            <p:cNvSpPr/>
            <p:nvPr/>
          </p:nvSpPr>
          <p:spPr>
            <a:xfrm>
              <a:off x="3435480" y="1492200"/>
              <a:ext cx="233028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0800" y="1566360"/>
              <a:ext cx="215712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90560" y="1492200"/>
            <a:ext cx="1879560" cy="914400"/>
            <a:chOff x="790560" y="1492200"/>
            <a:chExt cx="1879560" cy="914400"/>
          </a:xfrm>
        </p:grpSpPr>
        <p:sp>
          <p:nvSpPr>
            <p:cNvPr id="116" name=""/>
            <p:cNvSpPr/>
            <p:nvPr/>
          </p:nvSpPr>
          <p:spPr>
            <a:xfrm>
              <a:off x="79056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502320" y="1492200"/>
            <a:ext cx="1879560" cy="914400"/>
            <a:chOff x="6502320" y="1492200"/>
            <a:chExt cx="1879560" cy="914400"/>
          </a:xfrm>
        </p:grpSpPr>
        <p:sp>
          <p:nvSpPr>
            <p:cNvPr id="119" name=""/>
            <p:cNvSpPr/>
            <p:nvPr/>
          </p:nvSpPr>
          <p:spPr>
            <a:xfrm>
              <a:off x="65023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7108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"/>
          <p:cNvCxnSpPr>
            <a:stCxn id="113" idx="1"/>
            <a:endCxn id="116" idx="3"/>
          </p:cNvCxnSpPr>
          <p:nvPr/>
        </p:nvCxnSpPr>
        <p:spPr>
          <a:xfrm flipH="1">
            <a:off x="2669760" y="1949040"/>
            <a:ext cx="766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2" name=""/>
          <p:cNvCxnSpPr>
            <a:stCxn id="113" idx="3"/>
            <a:endCxn id="119" idx="1"/>
          </p:cNvCxnSpPr>
          <p:nvPr/>
        </p:nvCxnSpPr>
        <p:spPr>
          <a:xfrm>
            <a:off x="576576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F9B60-2D2D-4B96-B942-AFC4BFB5BE12}" type="slidenum">
              <a:t>7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915160" y="1295280"/>
            <a:ext cx="250812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74788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Controls: O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Value Added (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78080" y="1492200"/>
            <a:ext cx="2330640" cy="914400"/>
            <a:chOff x="3178080" y="1492200"/>
            <a:chExt cx="2330640" cy="914400"/>
          </a:xfrm>
        </p:grpSpPr>
        <p:sp>
          <p:nvSpPr>
            <p:cNvPr id="127" name=""/>
            <p:cNvSpPr/>
            <p:nvPr/>
          </p:nvSpPr>
          <p:spPr>
            <a:xfrm>
              <a:off x="3178080" y="1492200"/>
              <a:ext cx="233064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3760" y="1566360"/>
              <a:ext cx="215748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492200"/>
            <a:ext cx="1879560" cy="914400"/>
            <a:chOff x="533520" y="1492200"/>
            <a:chExt cx="1879560" cy="914400"/>
          </a:xfrm>
        </p:grpSpPr>
        <p:sp>
          <p:nvSpPr>
            <p:cNvPr id="130" name=""/>
            <p:cNvSpPr/>
            <p:nvPr/>
          </p:nvSpPr>
          <p:spPr>
            <a:xfrm>
              <a:off x="5335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28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45280" y="1492200"/>
            <a:ext cx="1879560" cy="914400"/>
            <a:chOff x="6245280" y="1492200"/>
            <a:chExt cx="1879560" cy="914400"/>
          </a:xfrm>
        </p:grpSpPr>
        <p:sp>
          <p:nvSpPr>
            <p:cNvPr id="133" name=""/>
            <p:cNvSpPr/>
            <p:nvPr/>
          </p:nvSpPr>
          <p:spPr>
            <a:xfrm>
              <a:off x="624528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404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1"/>
            <a:endCxn id="130" idx="3"/>
          </p:cNvCxnSpPr>
          <p:nvPr/>
        </p:nvCxnSpPr>
        <p:spPr>
          <a:xfrm flipH="1">
            <a:off x="2412360" y="194904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7" idx="3"/>
            <a:endCxn id="133" idx="1"/>
          </p:cNvCxnSpPr>
          <p:nvPr/>
        </p:nvCxnSpPr>
        <p:spPr>
          <a:xfrm>
            <a:off x="550872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62F8D-8736-43A1-8054-11B9C72C9597}" type="slidenum">
              <a:t>8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tching Control to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ative use of controls varies by type of strateg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diversified firms using a cost leadership strategy emphasize financial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anies and business units using a differentiation strategy emphasize strategic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7B492-C9D1-4FEC-8D0E-33A8930E62C2}" type="slidenum">
              <a:t>9</a:t>
            </a:fld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07Z</dcterms:modified>
  <cp:revision>43</cp:revision>
  <dc:subject>Chapter 11</dc:subject>
  <dc:title>Strategic Management 7e.</dc:title>
</cp:coreProperties>
</file>