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E2A9-6A5E-4A75-9708-37AF031E9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278A-4E53-4458-A269-A65E12687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18B7-2C7B-4D3A-B5AB-065072F6E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8BD0-BD18-4527-BA00-5254832DD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94E1-2E60-4399-ACB8-1E08B8DAD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F46E-3488-429A-B463-1DE011653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A30F-1398-4613-95B7-9377753A3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B5EB-09E4-4F61-8B41-05EBBADA5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F56D-9F41-47FD-AC7D-9E3ED02E2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EA9A-1A08-4C9A-8301-E17BAE5D4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92EE-1F35-45F0-8599-44E949778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1058-4FBF-448F-8CBA-B1969E874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35E4-3A24-4219-BAE0-73C392342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8509-5EA2-4EBA-BE0A-95A06ABA0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62E5-0145-4134-B4AE-38BCD153B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6494-5E1B-47DF-B0EC-31EC83984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0080-B76E-4D82-B36A-868124909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F387-6F6E-4B79-B968-720131F05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ED1B-3F73-4250-939B-E9CEB7DB6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1EE7-8D74-4310-B835-6565B0EE2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7740-E332-43E1-B08D-12C2C1D96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6EF3-C0AE-4B24-9D96-B17C09B59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F56D-7263-4CD0-A26F-9CF644440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CF70-04CC-4ED8-9744-9E95B89DC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671A-A822-433D-9221-6FA371119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6308-FDF9-4722-9F66-A89565B7F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7928-63BA-4853-B020-CE2F12920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D363-D6D4-4423-8C98-4F8D1E102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6BE0-08FC-4C43-B337-F73CEF3E5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2DF0-CA6E-49CF-B2B9-5AF921225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21BC-D107-421E-A7CB-A51B5AF29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5E89-1E45-44C4-97D9-7E527083D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52EA-EB9C-4D1F-B2E6-D1340166A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F8D3-4F68-45AC-95D0-1FF827556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B829-822D-4DD7-B86A-9F2E5C789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9C2F-012F-4CB6-A101-E110FA36F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BB25-E151-42C0-8305-5D10A1BAE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82E4-5A3C-4E83-B6B9-48CECE78B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B105-F4E4-4855-AC90-0E083C70B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7D48-AEBD-44E7-9568-997CBBC59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8EE9-764F-4591-8D98-3DD68FCCE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6CF5-EF90-4C47-A8B2-5C5743EE0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ABB28-9BDD-4A49-9B7B-7D21CAD9FB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F9DE7-EB87-4AC9-8974-A9FDBCEDF2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7801E-5465-4115-B086-3183E3330C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C49CC-78C5-4377-B6F1-BB1B88A624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77E14-D681-4595-ACFB-0ED3A6C15F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3D678-BC43-492B-90A1-3CF03953E3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7E709-2427-4B1A-B852-3F7ABFC304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44AAF-F748-49D3-91A0-4ED4DBF810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23FA1-6FFD-456B-9B33-A6A4E872F2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03817-34C6-4DFF-AA34-35B703F778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53CCE-FE48-44AE-83D1-B28E3432CE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D9D1B-B34B-41D3-8495-0BBA408D07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–</a:t>
            </a:r>
            <a:fld id="{DD51F4DF-828F-45CE-B2C6-9FCD1655810D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085480"/>
            <a:ext cx="556272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1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Organizational Structure and Controls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ionships between Strategy and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y and structure have a reciprocal relationship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flows from or follows the selection of the firm’s strategy but …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nce in place, structure can influence current strategic actions as well as choices about futur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3CDB5-DC4C-4584-A994-0FF6E7B526E2}" type="slidenum">
              <a:t>10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flipV="1">
            <a:off x="534960" y="1030680"/>
            <a:ext cx="807408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grow in predictable patt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st by volum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by geograph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integration (vertical, horizontal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d finally through product/business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growth patterns determine its structural for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45EE9-7252-4A11-AEF2-9D21745C7E59}" type="slidenum">
              <a:t>11</a:t>
            </a:fld>
          </a:p>
        </p:txBody>
      </p:sp>
    </p:spTree>
  </p:cSld>
  <p:transition>
    <p:random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ll organizations require some form of organizational structure to implement and manage their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frequently alter their structure as they grow in size and complex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asic structure typ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mpl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unct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ltidivisional structure (M-form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0EBE3-ED65-4EA7-8A85-BC3877F380FF}" type="slidenum">
              <a:t>12</a:t>
            </a:fld>
          </a:p>
        </p:txBody>
      </p:sp>
    </p:spTree>
  </p:cSld>
  <p:transition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2133720" cy="253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 Growth Patter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1841400"/>
            <a:ext cx="365760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13111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6858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impl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09888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Funct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4235400"/>
            <a:ext cx="363204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54864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5e1700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Multidivis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129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2565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3708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4952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3720960"/>
            <a:ext cx="236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9C606-D24B-4F1E-A3E8-CA98C2757AFE}" type="slidenum">
              <a:t>13</a:t>
            </a:fld>
          </a:p>
        </p:txBody>
      </p:sp>
    </p:spTree>
  </p:cSld>
  <p:transition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5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5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85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9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3813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17528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y and Structure Growth Patter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019400" y="304920"/>
            <a:ext cx="230508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7E48A-1662-4FD0-B071-3C6BB60783A6}" type="slidenum">
              <a:t>14</a:t>
            </a:fld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Simple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s all major decisions direct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nitors all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aff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rves as an extension of the manager’s supervisor author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tched with focus strategies and business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complete by offering a single product line in a single geographic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82637-38E7-4279-9CD3-6D8889AD30EC}" type="slidenum">
              <a:t>15</a:t>
            </a:fld>
          </a:p>
        </p:txBody>
      </p:sp>
    </p:spTree>
  </p:cSld>
  <p:transition>
    <p:random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imple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rowth creat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lex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and structural challe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lack organizational skills and experie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ome ineffective in managing the specialized and complex tasks involved with multiple organizational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66E7B-66A8-4681-B1BB-4329AAA23D94}" type="slidenum">
              <a:t>16</a:t>
            </a:fld>
          </a:p>
        </p:txBody>
      </p:sp>
    </p:spTree>
  </p:cSld>
  <p:transition>
    <p:random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ief Executive Officer (CEO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mited corporate staff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unctional line managers in dominant organizational areas of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&amp;D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orts use of business-level strategies and some corporate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ngle or dominant business with low levels of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FCBCD-795A-44A3-AF4E-E4C8EE342FAA}" type="slidenum">
              <a:t>17</a:t>
            </a:fld>
          </a:p>
        </p:txBody>
      </p:sp>
    </p:spTree>
  </p:cSld>
  <p:transition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unc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orientation among organizational functions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ede communication and coordin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 the need for CEO to integrate decisions and actions of business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 career paths and professional development in specialized functional ar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use functional-area managers to focus on local versus overall company strategic iss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25500-0923-4FF1-8518-923879188675}" type="slidenum">
              <a:t>18</a:t>
            </a:fld>
          </a:p>
        </p:txBody>
      </p:sp>
    </p:spTree>
  </p:cSld>
  <p:transition>
    <p:random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ng divisions function as separate businesses or profit cen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p corporate officer delegates responsibilities to division 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day-to-day oper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business-unit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as firm grows through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D583B-7E0C-435D-8514-BE82BCC65638}" type="slidenum">
              <a:t>19</a:t>
            </a:fld>
          </a:p>
        </p:txBody>
      </p:sp>
    </p:spTree>
  </p:cSld>
  <p:transition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structure and controls and discuss the difference between strategic and financial contro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elationship between strategy and structu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unctional structures used to implement business-leve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use of three versions of the multidivisional (M-form) structure to implement different diversification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0A818-8B85-4363-BFE8-4FA693ACC2B3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Major Benefi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rs are able to more accurately monitor the performance of each business, which simplifies the problem of contr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comparisons between divisions, which improves the resource allocation pro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imulates managers of poorly performing divisions to look for ways of improving performa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8CB29-064E-4F4B-BFA3-C633FD5AC55E}" type="slidenum">
              <a:t>20</a:t>
            </a:fld>
          </a:p>
        </p:txBody>
      </p:sp>
    </p:spTree>
  </p:cSld>
  <p:transition>
    <p:random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ing Strategy and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forms of the functional organizational structure are matched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leadership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grated cost leadership/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these forms are seen in three important structural characteristic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alization (number and types of job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ntralization (decision-making authority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(formal rules and work procedure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DB1D3-83A9-4F15-AE93-5080CD40FD25}" type="slidenum">
              <a:t>21</a:t>
            </a:fld>
          </a:p>
        </p:txBody>
      </p:sp>
    </p:spTree>
  </p:cSld>
  <p:transition>
    <p:random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al Structure for Implementation of a Cost Leadership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8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3520" y="1539720"/>
            <a:ext cx="8172360" cy="4023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400800" y="1523880"/>
            <a:ext cx="2590920" cy="17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spcBef>
                <a:spcPts val="249"/>
              </a:spcBef>
              <a:tabLst>
                <a:tab algn="l" pos="0"/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perations is the main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s engineering is emphasized rather than new product R&amp;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latively large centralized staff coordinates fun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ed procedures allow for emergence of a low-cost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mechanical; job roles are highly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C351D-755C-4625-9BB9-2D6E05BCA1CD}" type="slidenum">
              <a:t>22</a:t>
            </a:fld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5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 Cost Leadership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s is the main func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cess engineering is emphasized over research and develop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centralized staff oversees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ed procedures guide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is mechanic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highly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D9981-747F-498F-8DEA-CC0D43DFA56A}" type="slidenum">
              <a:t>23</a:t>
            </a:fld>
          </a:p>
        </p:txBody>
      </p:sp>
    </p:spTree>
  </p:cSld>
  <p:transition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504360"/>
            <a:ext cx="6782040" cy="1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 Structure for Implementation of a Differentiation Strategy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00120" y="1566720"/>
            <a:ext cx="8010360" cy="3724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57200" y="5470560"/>
            <a:ext cx="8001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Marketing is the main function for keeping track of new product idea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New product R&amp;D is emphas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st functions are decentralized, but R&amp;D and marketing may have centralized staffs that work closely with each o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ation is limited so that new product ideas can emerge easily and change is more readily accompl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organic; job roles are less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55013-8D75-4ED1-97A8-7DA1168FCE2F}" type="slidenum">
              <a:t>24</a:t>
            </a:fld>
          </a:p>
        </p:txBody>
      </p:sp>
    </p:spTree>
  </p:cSld>
  <p:transition>
    <p:random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a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ing is the main function for tracking new product idea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product R&amp;D is emphas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st functions are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is limited to foster change and promote new id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verall structure is organic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less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DDF70-AC88-479F-8831-D37B82D39694}" type="slidenum">
              <a:t>25</a:t>
            </a:fld>
          </a:p>
        </p:txBody>
      </p:sp>
    </p:spTree>
  </p:cSld>
  <p:transition>
    <p:random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the Integrated Cost Leadership/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lling products that create customer value due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ir relatively low product cost through an emphasis on production and process engineering, with infrequent product chang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asonable sources of differentiation based on new-product R&amp;D are emphasized while production and process engineering are no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frequently in global econom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239A8-0292-461A-B1AA-195FD849CA07}" type="slidenum">
              <a:t>26</a:t>
            </a:fld>
          </a:p>
        </p:txBody>
      </p:sp>
    </p:spTree>
  </p:cSld>
  <p:transition>
    <p:random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an Integrated Cost Leadership/Differentiation Strateg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integrated form of the functional structure must have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cision-making patterns that are partially centralized and partially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mi-specialized job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ules and procedures that allow both formal and informal job behavi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B0793-CDDA-4F2D-A991-9B7E215C9ADB}" type="slidenum">
              <a:t>27</a:t>
            </a:fld>
          </a:p>
        </p:txBody>
      </p:sp>
    </p:spTree>
  </p:cSld>
  <p:transition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continuing success that lead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oth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creasing diversification creates control problems that the functional structure can’t handl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ormation processing, coordin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376DC-F690-43BD-84DF-ED10DDC9038F}" type="slidenum">
              <a:t>28</a:t>
            </a:fld>
          </a:p>
        </p:txBody>
      </p:sp>
    </p:spTree>
  </p:cSld>
  <p:transition>
    <p:random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y requires firm to change from functional structure to a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levels of diversification create the need for implementation of a unique form of the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5A4F2-C343-41B3-AFB4-FB4A816ACAFD}" type="slidenum">
              <a:t>29</a:t>
            </a:fld>
          </a:p>
        </p:txBody>
      </p:sp>
    </p:spTree>
  </p:cSld>
  <p:transition>
    <p:random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organizational structures used to implement three internationa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networks and discuss how strategic center firms implement such networks at the business, corporate and international leve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12CAB-1EB4-4A99-A53E-B3E5D66CC823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58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4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ree Variations of the Multidivisional Structur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457200"/>
            <a:ext cx="8229600" cy="5335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1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90720" y="1560600"/>
            <a:ext cx="7124760" cy="331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3C1E2-51B5-4FE9-9782-ECA03E99033A}" type="slidenum">
              <a:t>30</a:t>
            </a:fld>
          </a:p>
        </p:txBody>
      </p:sp>
    </p:spTree>
  </p:cSld>
  <p:transition>
    <p:random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5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operative Form of the Multidivisional Structure for Implementation of a Related Constrain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581040"/>
            <a:ext cx="1828800" cy="479160"/>
            <a:chOff x="457200" y="581040"/>
            <a:chExt cx="1828800" cy="479160"/>
          </a:xfrm>
        </p:grpSpPr>
        <p:sp>
          <p:nvSpPr>
            <p:cNvPr id="221" name=""/>
            <p:cNvSpPr/>
            <p:nvPr/>
          </p:nvSpPr>
          <p:spPr>
            <a:xfrm>
              <a:off x="685800" y="58104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8874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66680" y="1285920"/>
            <a:ext cx="7010640" cy="4352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57200" y="57150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Structural integration devices create tight links among all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office emphasizes centralized strategic planning, human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resources, and marketing to foster cooperation between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&amp;D is likely to be centralized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715000"/>
            <a:ext cx="3962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wards are subjective and tend to emphasize overall corporate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formance in addition to divisional perform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ulture emphasizes cooperative sha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0F4A8-EB47-4E71-8C0B-E0CCAD8E46CC}" type="slidenum">
              <a:t>31</a:t>
            </a:fld>
          </a:p>
        </p:txBody>
      </p:sp>
    </p:spTree>
  </p:cSld>
  <p:transition>
    <p:random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0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opera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integration is used to bring about interdivisional coopera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haring divisional competencies facilitates development of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 foster divisional cooperation, the corporate office emphasizes centralization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plann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F6360-9314-4176-AB9E-6143B2629D30}" type="slidenum">
              <a:t>32</a:t>
            </a:fld>
          </a:p>
        </p:txBody>
      </p:sp>
    </p:spTree>
  </p:cSld>
  <p:transition>
    <p:random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0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opera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&amp;D is likely to be centraliz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equent, direct contact between division managers encourages and supports cooperation and sharing of competencies and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 of liaison rol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wards are subjective, emphasizing overall corporate performance in addition to divisional performanc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EB8D1-4387-4DC9-9EBC-E2B6C28D4F95}" type="slidenum">
              <a:t>33</a:t>
            </a:fld>
          </a:p>
        </p:txBody>
      </p:sp>
    </p:spTree>
  </p:cSld>
  <p:transition>
    <p:random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467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6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BU Form of the Multidivisional Structure for Implementation of a Related Link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57200" y="5842080"/>
            <a:ext cx="4114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uctural integration among divisions within SBUs, but independence 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ross SB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ategic planning may be the most prominent function in headquarters for  managing the strategic planning approval process of SBUs for the presid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97204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ach SBU may have its own budget for staff to foster integ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rporate headquarters staff serve as consultants to SBUs and divisions, rather than having direct input to product strategy, as in the cooperative fo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090440" y="1285920"/>
            <a:ext cx="69631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2F96C-761E-431A-85A7-E0465C418451}" type="slidenum">
              <a:t>34</a:t>
            </a:fld>
          </a:p>
        </p:txBody>
      </p:sp>
    </p:spTree>
  </p:cSld>
  <p:transition>
    <p:random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000"/>
                            </p:stCondLst>
                            <p:childTnLst>
                              <p:par>
                                <p:cTn id="9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business unit (SBU) form is a structure consisting of three leve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headquar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business units (SBU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BU divis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sha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s, or markets, or both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3EA9E-5939-4BF8-BBB5-66F11F1F3353}" type="slidenum">
              <a:t>35</a:t>
            </a:fld>
          </a:p>
        </p:txBody>
      </p:sp>
    </p:spTree>
  </p:cSld>
  <p:transition>
    <p:random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develop economies of scope and/or scale by sharing product or market competenc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SBU is a profit center controlled and evaluated by the headquarters off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by large firm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n be complex due to an organization’s size and diversity in products and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B96FD-3E65-41D7-B27C-5DF148848E20}" type="slidenum">
              <a:t>36</a:t>
            </a:fld>
          </a:p>
        </p:txBody>
      </p:sp>
    </p:spTree>
  </p:cSld>
  <p:transition>
    <p:random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7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etitive Form of the Multidivisional Structure for Implementation of an Unrelat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49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104840" y="1295280"/>
            <a:ext cx="6934320" cy="34862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33520" y="5356080"/>
            <a:ext cx="365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headquarters has a small sta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ance and auditing are the most prominent functions in the headquarters office to manage cash flow and assure the accuracy of performance data coming from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5486400"/>
            <a:ext cx="457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 legal affairs function becomes important when the firm acquires or divests asse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are independent and separate for financial evaluation purpo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retain strategic control, but cash is managed by the corporate off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compete for corporate resour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86166-74AA-4970-85DD-FE75A645D6CC}" type="slidenum">
              <a:t>37</a:t>
            </a:fld>
          </a:p>
        </p:txBody>
      </p:sp>
    </p:spTree>
  </p:cSld>
  <p:transition>
    <p:random/>
  </p:transition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0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500"/>
                            </p:stCondLst>
                            <p:childTnLst>
                              <p:par>
                                <p:cTn id="1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mpeti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structure in which there is complete independence among the firm’s divi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isions do not share common corporate strength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ause strengths aren’t shared, integrating devices aren’t develop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arrangements emphasize divisional competition rather than cooper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588F2-59B0-4884-AB16-29F85E19B864}" type="slidenum">
              <a:t>38</a:t>
            </a:fld>
          </a:p>
        </p:txBody>
      </p:sp>
    </p:spTree>
  </p:cSld>
  <p:transition>
    <p:random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enefits from the internal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—corporate headquarters can have divisions working on different technologies to identify those with greatest future potenti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llenges the status quo and inertia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tivates effor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specific profit performance expectations for each division to promote internal competition for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E0A43-1A74-45A8-8C5F-C7D4FC2FA8EE}" type="slidenum">
              <a:t>39</a:t>
            </a:fld>
          </a:p>
        </p:txBody>
      </p:sp>
    </p:spTree>
  </p:cSld>
  <p:transition>
    <p:random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 and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al structure specifi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’s formal reporting relationships, procedures, controls, and authority and decision-making proces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work to be done and how to do it, given the firm’s strategy o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t is critical to match organizational structure to the firm’s strateg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092F6-5805-4D8F-926B-B2F0E33BEEAB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5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11.1</a:t>
            </a: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s of the Structures Necessary to Implement the Related Constrained, Related Linked, and Unrelated Diversification Strategie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03200" y="1628640"/>
            <a:ext cx="830592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operative M-Form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BU M-Form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mpetitive M-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uctura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Constrain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Link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Unrelated Diversifica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alization o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alized a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ally centraliz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ntralized t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off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 SBU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of integr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r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xiste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subject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a mixture 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objectiv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trategic) criteri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ive (strategic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raisal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objectiv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 incen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overa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xed linkage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divisiona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ens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, SBU, 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al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40440" y="1166760"/>
            <a:ext cx="24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all Structural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760" y="6289560"/>
            <a:ext cx="26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ategy implemented with structural for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7116C-D22F-428F-A732-E0CB416E455F}" type="slidenum">
              <a:t>40</a:t>
            </a:fld>
          </a:p>
        </p:txBody>
      </p:sp>
    </p:spTree>
  </p:cSld>
  <p:transition>
    <p:random/>
  </p:transition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0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Strategies and Worldwide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rnational strategies allow the firm to search for new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E5730-4B39-418C-B2E2-6E362386D776}" type="slidenum">
              <a:t>41</a:t>
            </a:fld>
          </a:p>
        </p:txBody>
      </p:sp>
    </p:spTree>
  </p:cSld>
  <p:transition>
    <p:random/>
  </p:transition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5095800" cy="44974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495000"/>
            <a:ext cx="670572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1.8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ldwide Geographic Area Structure for Implementation of a Multidomestic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7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12920" y="5678640"/>
            <a:ext cx="598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perimeter circles indicate decentralization of ope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phasis is on differentiation by local demand to fit an area or country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coordinates financial resources among independent subsidi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de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CCE39-983A-4D1E-9306-2B26D0EB705D}" type="slidenum">
              <a:t>42</a:t>
            </a:fld>
          </a:p>
        </p:txBody>
      </p:sp>
    </p:spTree>
  </p:cSld>
  <p:transition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0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: Implementing a Multidomestic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 decentralizes strategic and operating decision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units in each cou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characteristics tailored to local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counter global competitive forces b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ing protected market positions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ng in industry segments most affected by differences among loc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1D337-3571-48E5-876D-23FC77073598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Worldwide Geographic Area Struc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mphasizes national interes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the firm’s efforts to satisfy local or cultural dif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s little coordination between different county markets: integrating mechanisms aren’t need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ey disadvantage is inability to create global efficienc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0ABE4-2F6C-4665-B87F-D9EBC1780557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9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orldwide Product Divisional Structure for Implementation of a Glob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576520" y="1295280"/>
            <a:ext cx="5076720" cy="45244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360" y="5681520"/>
            <a:ext cx="77914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headquarters’ circle indicates centralization to coordinate information flow among worldwide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uses many intercoordination devices to facilitate global economies of scale and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also allocates financial resources in a cooperative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6C490-92B8-49F9-83E6-86F339C79BAF}" type="slidenum">
              <a:t>45</a:t>
            </a:fld>
          </a:p>
        </p:txBody>
      </p:sp>
    </p:spTree>
  </p:cSld>
  <p:transition>
    <p:random/>
  </p:transition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0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: Implementing a Glob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lob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irm to offer standardized products across country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s on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ccess depends on firm’s ability to develop and take advantage of economies of scope and scale on global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tends to outsource some primary or support activities to the world’s best provi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ACF69-595A-4D85-B0C4-FDFD754D5758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entralizes decision-making authority in the worldwide division headquart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adquarters coordinates and integrates decisions and actions among divisional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grating mechanisms are importa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rect contact between manag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aison roles between depart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mporary task forces as well as permanent team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995DA-1294-42F7-884D-2E033D61BDC1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bination Structure: A Transnation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ransnation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bines multidomestic strategy’s local responsiveness with global strategy’s efficienc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bination structure draws characteristics and mechanisms from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geographic area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product divis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integrating mechanisms for the combination structure are less obviou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222C7-58CF-4C45-8962-327A31306D62}" type="slidenum">
              <a:t>48</a:t>
            </a:fld>
          </a:p>
        </p:txBody>
      </p:sp>
    </p:spTree>
  </p:cSld>
  <p:transition>
    <p:random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010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0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ing the Hybrid Form of the Combination Structure for Implementation of a Transnation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9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61960" y="1600200"/>
            <a:ext cx="8020080" cy="31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A522D-F500-4F98-8134-1F8F4CD25983}" type="slidenum">
              <a:t>49</a:t>
            </a:fld>
          </a:p>
        </p:txBody>
      </p:sp>
    </p:spTree>
  </p:cSld>
  <p:transition>
    <p:random/>
  </p:transition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0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tructures provi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a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stability provides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apacity required to consistently and predictably manage daily work routi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flexibility provides for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opportunity to explore competitive pos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llocation of resources to activities that shape needed competitive advanta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04436-327E-4452-BD6E-11B7C734BA95}" type="slidenum">
              <a:t>5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etwork strategy exist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artners form several alliances in order to improve performance of the alliance network itself through cooperative endeav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formed to create value by participating in multiple cooperative arrangements such as alliances and joint ventur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04730-7638-4607-9844-EC174A0A44D0}" type="slidenum">
              <a:t>50</a:t>
            </a:fld>
          </a:p>
        </p:txBody>
      </p:sp>
    </p:spTree>
  </p:cSld>
  <p:transition>
    <p:random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0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9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 are used to impleme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tional cooperative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enter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 around which the network’s cooperative relationships revol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2F859-824E-4469-96D6-D90C17267F1F}" type="slidenum">
              <a:t>51</a:t>
            </a:fld>
          </a:p>
        </p:txBody>
      </p:sp>
    </p:spTree>
  </p:cSld>
  <p:transition>
    <p:random/>
  </p:transition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44600" y="447840"/>
            <a:ext cx="2155680" cy="11523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2978280" y="671400"/>
            <a:ext cx="4870440" cy="53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2833D-5D1B-4468-A5DA-40B9691A6D3D}" type="slidenum">
              <a:t>52</a:t>
            </a:fld>
          </a:p>
        </p:txBody>
      </p:sp>
    </p:spTree>
  </p:cSld>
  <p:transition>
    <p:random/>
  </p:transition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0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93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Center Fi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s the foundation for the strategic network’s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ed with aspects of organizational structure such as formal reporting relationship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s the complex, cooperative interactions among network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ngages in four primary task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outsourc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ce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B9305-C3E2-49D4-89E9-FF1A9DEE12EB}" type="slidenum">
              <a:t>53</a:t>
            </a:fld>
          </a:p>
        </p:txBody>
      </p:sp>
    </p:spTree>
  </p:cSld>
  <p:transition>
    <p:random/>
  </p:transition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0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0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have complementary competencies in different value chain stages that let them cooperatively integrate their different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that agree to combine competencies to create value in the same stage of the value chai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trategic center firm is obvious in vertical alliances, but not always in horizontal allian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813E9-170B-494B-B324-519A752F9DB8}" type="slidenum">
              <a:t>54</a:t>
            </a:fld>
          </a:p>
        </p:txBody>
      </p:sp>
    </p:spTree>
  </p:cSld>
  <p:transition>
    <p:random/>
  </p:transition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0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: International Franchis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anchisi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mmon form of cooperative strategy used to facilitate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the firm to use its competencies to extend or diversify its product or market reach without completing a merger or acquisi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B2DC2-CE08-4A9C-BABF-7056F0AEB1E7}" type="slidenum">
              <a:t>55</a:t>
            </a:fld>
          </a:p>
        </p:txBody>
      </p:sp>
    </p:spTree>
  </p:cSld>
  <p:transition>
    <p:random/>
  </p:transition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0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Internationa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used to implement international cooperative strategies for competing in sever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countries’ regulatory environments increase the challenge of managing international net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stributed 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the organizational structure used to manage international cooperativ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strategic center fi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FD589-5884-4A0C-9E61-41820C47A803}" type="slidenum">
              <a:t>56</a:t>
            </a:fld>
          </a:p>
        </p:txBody>
      </p:sp>
    </p:spTree>
  </p:cSld>
  <p:transition>
    <p:random/>
  </p:transition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fill="hold">
                      <p:stCondLst>
                        <p:cond delay="0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1527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2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Distributed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2819520" y="728640"/>
            <a:ext cx="5257800" cy="54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72DCE-CCCF-41CE-88DE-2F128006585F}" type="slidenum">
              <a:t>57</a:t>
            </a:fld>
          </a:p>
        </p:txBody>
      </p:sp>
    </p:spTree>
  </p:cSld>
  <p:transition>
    <p:random/>
  </p:transition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0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urposes of Organizational Contro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uide the use of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cate how to compare actual results with expected resul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ggest corrective actions to take when the difference between actual and expected results is unaccept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wo Types of Organizational Contro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nancial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601E1-A657-4290-9E8C-57396954D71F}" type="slidenum">
              <a:t>6</a:t>
            </a:fld>
          </a:p>
        </p:txBody>
      </p:sp>
    </p:spTree>
  </p:cSld>
  <p:transition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5640" y="1295280"/>
            <a:ext cx="250848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s: Su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ncerned with examining the fit between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ght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pportunities in its external environme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mpetitive advantag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valuate the degree to which the firm focuses on the requirements to implement its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435480" y="1492200"/>
            <a:ext cx="2330280" cy="914400"/>
            <a:chOff x="3435480" y="1492200"/>
            <a:chExt cx="2330280" cy="914400"/>
          </a:xfrm>
        </p:grpSpPr>
        <p:sp>
          <p:nvSpPr>
            <p:cNvPr id="113" name=""/>
            <p:cNvSpPr/>
            <p:nvPr/>
          </p:nvSpPr>
          <p:spPr>
            <a:xfrm>
              <a:off x="3435480" y="1492200"/>
              <a:ext cx="233028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20800" y="1566360"/>
              <a:ext cx="215712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90560" y="1492200"/>
            <a:ext cx="1879560" cy="914400"/>
            <a:chOff x="790560" y="1492200"/>
            <a:chExt cx="1879560" cy="914400"/>
          </a:xfrm>
        </p:grpSpPr>
        <p:sp>
          <p:nvSpPr>
            <p:cNvPr id="116" name=""/>
            <p:cNvSpPr/>
            <p:nvPr/>
          </p:nvSpPr>
          <p:spPr>
            <a:xfrm>
              <a:off x="79056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932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502320" y="1492200"/>
            <a:ext cx="1879560" cy="914400"/>
            <a:chOff x="6502320" y="1492200"/>
            <a:chExt cx="1879560" cy="914400"/>
          </a:xfrm>
        </p:grpSpPr>
        <p:sp>
          <p:nvSpPr>
            <p:cNvPr id="119" name=""/>
            <p:cNvSpPr/>
            <p:nvPr/>
          </p:nvSpPr>
          <p:spPr>
            <a:xfrm>
              <a:off x="65023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7108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1" name=""/>
          <p:cNvCxnSpPr>
            <a:stCxn id="113" idx="1"/>
            <a:endCxn id="116" idx="3"/>
          </p:cNvCxnSpPr>
          <p:nvPr/>
        </p:nvCxnSpPr>
        <p:spPr>
          <a:xfrm flipH="1">
            <a:off x="2669760" y="1949040"/>
            <a:ext cx="766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2" name=""/>
          <p:cNvCxnSpPr>
            <a:stCxn id="113" idx="3"/>
            <a:endCxn id="119" idx="1"/>
          </p:cNvCxnSpPr>
          <p:nvPr/>
        </p:nvCxnSpPr>
        <p:spPr>
          <a:xfrm>
            <a:off x="576576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9430C-8BB2-4676-A9BC-CE6E2AE9B4C5}" type="slidenum">
              <a:t>7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915160" y="1295280"/>
            <a:ext cx="250812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747880"/>
            <a:ext cx="8229600" cy="33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Controls: O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as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Value Added (E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178080" y="1492200"/>
            <a:ext cx="2330640" cy="914400"/>
            <a:chOff x="3178080" y="1492200"/>
            <a:chExt cx="2330640" cy="914400"/>
          </a:xfrm>
        </p:grpSpPr>
        <p:sp>
          <p:nvSpPr>
            <p:cNvPr id="127" name=""/>
            <p:cNvSpPr/>
            <p:nvPr/>
          </p:nvSpPr>
          <p:spPr>
            <a:xfrm>
              <a:off x="3178080" y="1492200"/>
              <a:ext cx="233064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63760" y="1566360"/>
              <a:ext cx="215748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33520" y="1492200"/>
            <a:ext cx="1879560" cy="914400"/>
            <a:chOff x="533520" y="1492200"/>
            <a:chExt cx="1879560" cy="914400"/>
          </a:xfrm>
        </p:grpSpPr>
        <p:sp>
          <p:nvSpPr>
            <p:cNvPr id="130" name=""/>
            <p:cNvSpPr/>
            <p:nvPr/>
          </p:nvSpPr>
          <p:spPr>
            <a:xfrm>
              <a:off x="5335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228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245280" y="1492200"/>
            <a:ext cx="1879560" cy="914400"/>
            <a:chOff x="6245280" y="1492200"/>
            <a:chExt cx="1879560" cy="914400"/>
          </a:xfrm>
        </p:grpSpPr>
        <p:sp>
          <p:nvSpPr>
            <p:cNvPr id="133" name=""/>
            <p:cNvSpPr/>
            <p:nvPr/>
          </p:nvSpPr>
          <p:spPr>
            <a:xfrm>
              <a:off x="624528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1404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1"/>
            <a:endCxn id="130" idx="3"/>
          </p:cNvCxnSpPr>
          <p:nvPr/>
        </p:nvCxnSpPr>
        <p:spPr>
          <a:xfrm flipH="1">
            <a:off x="2412360" y="1949040"/>
            <a:ext cx="765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7" idx="3"/>
            <a:endCxn id="133" idx="1"/>
          </p:cNvCxnSpPr>
          <p:nvPr/>
        </p:nvCxnSpPr>
        <p:spPr>
          <a:xfrm>
            <a:off x="550872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01945-3766-4610-89DA-E9F1114A6A8F}" type="slidenum">
              <a:t>8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Matching Control to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lative use of controls varies by type of strateg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diversified firms using a cost leadership strategy emphasize financial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anies and business units using a differentiation strategy emphasize strategic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C8157-E0AF-47A7-B5B5-57BC60C35411}" type="slidenum">
              <a:t>9</a:t>
            </a:fld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9:07Z</dcterms:modified>
  <cp:revision>43</cp:revision>
  <dc:subject>Chapter 11</dc:subject>
  <dc:title>Strategic Management 7e.</dc:title>
</cp:coreProperties>
</file>