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10.gif" ContentType="image/gi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2424-B552-4FD3-8475-77D4DC001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F93D-61EF-4D1A-A7ED-346C3759A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2FE7-F9BE-4076-8F1F-9635C9E42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077B-AB7E-4D29-8B74-E0605DEBD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FBDF-37CB-4911-9DEE-4252DB87E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32E8-00A3-4F57-8805-0634316B5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A2CD-B329-49AE-8FFD-993D6AB9A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AD02-9B4D-4E9F-AD89-2BEEB31CD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521B-DAC1-42E7-B99D-BAFBEF28E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2C8B-399B-4E1C-B3C5-0AA15B316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50CD-F6E1-4859-9108-F31AE7BC9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C73D-7358-4481-A125-9F6E309E2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9742-BCAA-4E95-B3FC-61E669F43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B44B-E190-44D2-8C4C-2B74F8773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C617-0B5C-436B-9FAA-D70883D24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5602-E755-462B-A6B1-165D81D0E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6D7E-1095-4F95-8D56-39974FA5E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706F-BFDA-4233-AEFC-8EBF0460A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A032-3593-429B-9A27-EEBD340D5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56E1-C028-4730-8BA0-0CAB24AD2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3E79-966F-4A6B-9913-C0E2B3E32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44B2-448A-4DEF-906B-65EF9660C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C744-9FBE-4E71-8C39-59522B20B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79E9-DF71-48CE-BBD3-0284F0108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65EB-02C0-4701-8BF5-5D849249B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1A84-51A5-4BD1-AA73-067A37512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4040-FBE6-4272-B4F3-DB20F47D5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A68B-E902-475A-AF1E-56A3EC1E4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C21D-0646-407C-9988-B38F78C05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3135-AC1E-41F2-87E3-FB76AF76F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9AB7B-DAE1-4A51-9187-7A55A1F01E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CDDC2-6C00-4ECD-A14D-8EE916FA19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D6475-9FB7-4AAC-81C4-0A8BD74BD9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615B0-DA00-4B11-8B94-D78CF7AA29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31FF9-16CB-49C7-9C5C-AB8480820A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BD0A8-97FF-42C1-8723-497D1367A9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6688B-2F0D-43CE-9D1D-EFDCBA02F7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24AB7-AECF-439C-B2DF-8D042553E4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197FA-1D24-4267-9E21-9975652113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AFBF7-FF3C-44A6-8900-A3B96CB32F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87E7A-95FD-4026-B4AF-5D69E95FDA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09726-A2D5-4A5C-808F-7939022EBE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–</a:t>
            </a:r>
            <a:fld id="{B2947034-D0AE-4843-B8CB-99C22C05A4B6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4636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0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rporate Governance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Opportunis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eeking of self-interest with guile (cunning or deceit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opportunism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attitude (inclination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et of behaviors (specific acts of self-interest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opportunism prevents the maximization of shareholder wealth (the primary goal of owner/principals)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4CAD8-606C-4F6E-99A5-8CAF81D4CA4C}" type="slidenum">
              <a:t>10</a:t>
            </a:fld>
          </a:p>
        </p:txBody>
      </p:sp>
    </p:spTree>
  </p:cSld>
  <p:transition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ponse to Managerial Opportunis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incipals do not know beforehand which agents will or will not act opportunisticall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us, principals establish governance and control mechanisms to prevent managerial opportunis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81C11-E64F-4D64-A0E8-D5918C18B0E2}" type="slidenum">
              <a:t>11</a:t>
            </a:fld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amples of the Agency Proble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Problem of Product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size, and the relationship of size to managerial compens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duction of managerial employment ris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 of Free Cash Flow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prefer to invest these funds in additional product diversification (see above)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areholders prefer the funds as dividends so they control how the funds are invest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761D5-3F14-45AE-B871-28875984F646}" type="slidenum">
              <a:t>12</a:t>
            </a:fld>
          </a:p>
        </p:txBody>
      </p:sp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495360"/>
            <a:ext cx="7934400" cy="70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0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r and Shareholder Risk and Diversification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3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14280" y="1143000"/>
            <a:ext cx="6715440" cy="491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CFF04-B353-4C27-A3A5-1F4B91979470}" type="slidenum">
              <a:t>13</a:t>
            </a:fld>
          </a:p>
        </p:txBody>
      </p:sp>
    </p:spTree>
  </p:cSld>
  <p:transition>
    <p:random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Costs and 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gency Cos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um of incentive costs, monitoring costs, enforcement costs, and individual financial losses incurred by principals, because governance mechanisms cannot guarantee total compliance by the ag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incipals may engage in monitoring behavior to assess the activities and decisions of manag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ever, dispersed shareholding makes it difficult and inefficient to monitor management’s behavio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6883C-CF8C-4EE8-8451-E20A44F834F5}" type="slidenum">
              <a:t>14</a:t>
            </a:fld>
          </a:p>
        </p:txBody>
      </p:sp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Costs and 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oards of Directors have a fiduciary duty to shareholders to monitor managemen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ever, Boards of Directors are often accused of being lax in performing this func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92F96-B06A-47D3-BC3E-25953A162D08}" type="slidenum">
              <a:t>15</a:t>
            </a:fld>
          </a:p>
        </p:txBody>
      </p:sp>
    </p:spTree>
  </p:cSld>
  <p:transition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6064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10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porate Governance Mechanism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1327320"/>
            <a:ext cx="8305560" cy="47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Governance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wnership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amounts of stock owned by individual shareholders and institutional inves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s responsible for representing the firm’s owners by monitoring top-level managers’ strategic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ecutive Compen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salary, bonuses, and long-term incentives to align managers’ interests with shareholders’ interest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Governance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ket for Corporat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urchase of a company that is underperforming relative to industry rivals in order to improve the firm’s strategic competi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50A8A-20D0-4C3B-858C-6F126A3169B7}" type="slidenum">
              <a:t>16</a:t>
            </a:fld>
          </a:p>
        </p:txBody>
      </p:sp>
    </p:spTree>
  </p:cSld>
  <p:transition>
    <p:random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200400" y="1314360"/>
            <a:ext cx="990720" cy="44053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405320"/>
              <a:gd name="textAreaBottom" fmla="*/ 4404240 h 44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727"/>
                </a:lnTo>
                <a:cubicBezTo>
                  <a:pt x="10800" y="2738"/>
                  <a:pt x="5400" y="2749"/>
                  <a:pt x="0" y="2749"/>
                </a:cubicBezTo>
                <a:cubicBezTo>
                  <a:pt x="5400" y="2749"/>
                  <a:pt x="10800" y="2760"/>
                  <a:pt x="10800" y="2771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777840" y="1330200"/>
            <a:ext cx="4908600" cy="43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arge block shareholders have a strong incentive to monitor management closely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ir large stakes make it worth their while to spend time, effort and expense to monitor closely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y may also obtain Board seats which enhances their ability to monitor effectively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inancial institutions are legally forbidden from directly holding board sea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44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9E3DE-74C0-46CB-AE8A-41A09D111806}" type="slidenum">
              <a:t>17</a:t>
            </a:fld>
          </a:p>
        </p:txBody>
      </p:sp>
    </p:spTree>
  </p:cSld>
  <p:transition>
    <p:random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00400" y="1386000"/>
            <a:ext cx="990720" cy="3186000"/>
          </a:xfrm>
          <a:custGeom>
            <a:avLst/>
            <a:gdLst>
              <a:gd name="textAreaLeft" fmla="*/ 632880 w 990720"/>
              <a:gd name="textAreaRight" fmla="*/ 991080 w 990720"/>
              <a:gd name="textAreaTop" fmla="*/ 720 h 3186000"/>
              <a:gd name="textAreaBottom" fmla="*/ 3185280 h 31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3530"/>
                </a:lnTo>
                <a:cubicBezTo>
                  <a:pt x="10800" y="3541"/>
                  <a:pt x="5400" y="3552"/>
                  <a:pt x="0" y="3552"/>
                </a:cubicBezTo>
                <a:cubicBezTo>
                  <a:pt x="5400" y="3552"/>
                  <a:pt x="10800" y="3563"/>
                  <a:pt x="10800" y="3574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777840" y="1455840"/>
            <a:ext cx="4908600" cy="39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increasing influence of institutional owners (stock mutual funds and pension funds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Have the size (proxy voting power) and incentive (demand for returns to funds) to discipline ineffective top-level manage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an affect the firm’s choice of strategi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50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CAB35-F994-4094-8FD9-83CDA77A3FD1}" type="slidenum">
              <a:t>18</a:t>
            </a:fld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200400" y="1386000"/>
            <a:ext cx="990720" cy="387180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871800"/>
              <a:gd name="textAreaBottom" fmla="*/ 3870720 h 38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901"/>
                </a:lnTo>
                <a:cubicBezTo>
                  <a:pt x="10800" y="2912"/>
                  <a:pt x="5400" y="2923"/>
                  <a:pt x="0" y="2923"/>
                </a:cubicBezTo>
                <a:cubicBezTo>
                  <a:pt x="5400" y="2923"/>
                  <a:pt x="10800" y="2934"/>
                  <a:pt x="10800" y="294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777840" y="1452240"/>
            <a:ext cx="4908600" cy="37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hareholder activism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can convene to discuss corporation’s direction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f a consensus exists, shareholders can vote as a block to elect their candidates to the board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xy fight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re are limits on shareholder activism available to institutional owners in responding to activists’ tactic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56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E5F40-BFA8-4416-8C1A-ED6553B09F17}" type="slidenum">
              <a:t>19</a:t>
            </a:fld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corporate governance and explain why it is used to monitor and control managers’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y ownership has been largely separated from managerial control in the modern corporatio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 agency relationship and managerial opportunism and describe their strategic implic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hree internal governance mechanisms—ownership concentration, the board of directors, and executive compensation—are used to monitor and control managerial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CA539-914F-4BA2-B27F-741CAF46587A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200400" y="1386000"/>
            <a:ext cx="990720" cy="402408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024080"/>
              <a:gd name="textAreaBottom" fmla="*/ 4023000 h 40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226"/>
                </a:lnTo>
                <a:cubicBezTo>
                  <a:pt x="10800" y="8237"/>
                  <a:pt x="5400" y="8248"/>
                  <a:pt x="0" y="8248"/>
                </a:cubicBezTo>
                <a:cubicBezTo>
                  <a:pt x="5400" y="8248"/>
                  <a:pt x="10800" y="8259"/>
                  <a:pt x="10800" y="8270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952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oard of director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Group of elected individuals that acts in the owners’ interests to formally monitor and control the firm’s top-level executiv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oard has the power to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irect the affairs of the organiz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unish and reward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tect owners from managerial opportunis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62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165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381FF-D199-48CA-B098-ACCDB7C8C1CB}" type="slidenum">
              <a:t>20</a:t>
            </a:fld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200400" y="1386000"/>
            <a:ext cx="990720" cy="34909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490920"/>
              <a:gd name="textAreaBottom" fmla="*/ 3489840 h 34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9575"/>
                </a:lnTo>
                <a:cubicBezTo>
                  <a:pt x="10800" y="9586"/>
                  <a:pt x="5400" y="9597"/>
                  <a:pt x="0" y="9597"/>
                </a:cubicBezTo>
                <a:cubicBezTo>
                  <a:pt x="5400" y="9597"/>
                  <a:pt x="10800" y="9608"/>
                  <a:pt x="10800" y="9619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position of Board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n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the firm’s CEO and other top-level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Related Out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individuals uninvolved with day-to-day operations, but who have a relationship with the fir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Out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individuals who are independent of the firm’s day-to-day operations and other relationship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71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174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01DDA-87E5-4C97-B55F-AA8B3B0D1138}" type="slidenum">
              <a:t>21</a:t>
            </a:fld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200400" y="1386000"/>
            <a:ext cx="990720" cy="39481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948120"/>
              <a:gd name="textAreaBottom" fmla="*/ 3947040 h 39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741"/>
                </a:lnTo>
                <a:cubicBezTo>
                  <a:pt x="10800" y="8752"/>
                  <a:pt x="5400" y="8763"/>
                  <a:pt x="0" y="8763"/>
                </a:cubicBezTo>
                <a:cubicBezTo>
                  <a:pt x="5400" y="8763"/>
                  <a:pt x="10800" y="8774"/>
                  <a:pt x="10800" y="878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riticisms of Boards of Directors includ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oo readily approve managers’ self-serving initiativ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re exploited by managers with personal ties to board memb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re not vigilant enough in hiring and monitoring CEO behavior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ack of agreement about the number of and most appropriate role of outside directo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80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183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A052E-F6E1-4EB0-AA8F-D8CDF4DAA0D9}" type="slidenum">
              <a:t>22</a:t>
            </a:fld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200400" y="1386000"/>
            <a:ext cx="990720" cy="39481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948120"/>
              <a:gd name="textAreaBottom" fmla="*/ 3947040 h 39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368"/>
                </a:lnTo>
                <a:cubicBezTo>
                  <a:pt x="10800" y="8379"/>
                  <a:pt x="5400" y="8390"/>
                  <a:pt x="0" y="8390"/>
                </a:cubicBezTo>
                <a:cubicBezTo>
                  <a:pt x="5400" y="8390"/>
                  <a:pt x="10800" y="8401"/>
                  <a:pt x="10800" y="8412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nhancing the effectiveness of boards and director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ore diversity in the backgrounds of board memb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onger internal management and accounting control system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ore formal processes to evaluate the board’s performanc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dopting a “lead director” role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hanges in compensation of directo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89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192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22CE4-9780-48DE-859E-8769267A9F01}" type="slidenum">
              <a:t>23</a:t>
            </a:fld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00400" y="1386000"/>
            <a:ext cx="990720" cy="4557600"/>
          </a:xfrm>
          <a:custGeom>
            <a:avLst/>
            <a:gdLst>
              <a:gd name="textAreaLeft" fmla="*/ 632880 w 990720"/>
              <a:gd name="textAreaRight" fmla="*/ 991080 w 990720"/>
              <a:gd name="textAreaTop" fmla="*/ 1440 h 4557600"/>
              <a:gd name="textAreaBottom" fmla="*/ 4556160 h 45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2399"/>
                </a:lnTo>
                <a:cubicBezTo>
                  <a:pt x="10800" y="12410"/>
                  <a:pt x="5400" y="12421"/>
                  <a:pt x="0" y="12421"/>
                </a:cubicBezTo>
                <a:cubicBezTo>
                  <a:pt x="5400" y="12421"/>
                  <a:pt x="10800" y="12432"/>
                  <a:pt x="10800" y="12443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20680" indent="-22068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orms of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alaries, bonuses, long-term performance incentives, stock awards, stock op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20680" indent="-22068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actors complicating executive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ategic decisions by top-level managers are complex, non-routine and affect the firm over an extended period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ther variables affecting the firm’s performance over time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98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01" name="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mpensation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04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D7CBD-05D9-43A0-B164-9F6245F3C86D}" type="slidenum">
              <a:t>24</a:t>
            </a:fld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200400" y="1386000"/>
            <a:ext cx="990720" cy="37195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719520"/>
              <a:gd name="textAreaBottom" fmla="*/ 3718440 h 37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5060"/>
                </a:lnTo>
                <a:cubicBezTo>
                  <a:pt x="10800" y="15071"/>
                  <a:pt x="5400" y="15082"/>
                  <a:pt x="0" y="15082"/>
                </a:cubicBezTo>
                <a:cubicBezTo>
                  <a:pt x="5400" y="15082"/>
                  <a:pt x="10800" y="15093"/>
                  <a:pt x="10800" y="15104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imits on the effectiveness of executive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Unintended consequences of stock op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irm performance not as important than firm siz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Balance sheet not showing executive wealth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ptions not expensed at the time they are awarded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10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13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16" name="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mpensation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A379D-859C-4683-AC47-76BC4EDCB795}" type="slidenum">
              <a:t>25</a:t>
            </a:fld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200400" y="1690560"/>
            <a:ext cx="990720" cy="379584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795840"/>
              <a:gd name="textAreaBottom" fmla="*/ 3794760 h 37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8877"/>
                </a:lnTo>
                <a:cubicBezTo>
                  <a:pt x="10800" y="18888"/>
                  <a:pt x="5400" y="18899"/>
                  <a:pt x="0" y="18899"/>
                </a:cubicBezTo>
                <a:cubicBezTo>
                  <a:pt x="5400" y="18899"/>
                  <a:pt x="10800" y="18910"/>
                  <a:pt x="10800" y="18921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762000" y="1752480"/>
            <a:ext cx="4876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dividuals and firms buy or take over undervalued corpor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neffective managers are usually replaced in such takeove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reat of takeover may lead firm to operate more efficientl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hanges in regulations have made hostile takeovers difficul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22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41440" y="4538520"/>
            <a:ext cx="2811240" cy="1036440"/>
            <a:chOff x="541440" y="4538520"/>
            <a:chExt cx="2811240" cy="1036440"/>
          </a:xfrm>
        </p:grpSpPr>
        <p:sp>
          <p:nvSpPr>
            <p:cNvPr id="225" name=""/>
            <p:cNvSpPr/>
            <p:nvPr/>
          </p:nvSpPr>
          <p:spPr>
            <a:xfrm>
              <a:off x="541440" y="45385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7b9395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4400" y="46162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c5b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Market 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rporate Control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28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31" name="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mpens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3AE63-4347-46B2-AC00-388EE22A6F88}" type="slidenum">
              <a:t>26</a:t>
            </a:fld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500"/>
                            </p:stCondLst>
                            <p:childTnLst>
                              <p:par>
                                <p:cTn id="6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000"/>
                            </p:stCondLst>
                            <p:childTnLst>
                              <p:par>
                                <p:cTn id="6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200400" y="1512720"/>
            <a:ext cx="990720" cy="425304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253040"/>
              <a:gd name="textAreaBottom" fmla="*/ 4251960 h 42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8079"/>
                </a:lnTo>
                <a:cubicBezTo>
                  <a:pt x="10800" y="18090"/>
                  <a:pt x="5400" y="18101"/>
                  <a:pt x="0" y="18101"/>
                </a:cubicBezTo>
                <a:cubicBezTo>
                  <a:pt x="5400" y="18101"/>
                  <a:pt x="10800" y="18112"/>
                  <a:pt x="10800" y="18123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733920" y="1523520"/>
            <a:ext cx="4876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anagerial defense tactics increase the costs of mounting a takeov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fense tactics may requir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sset restructuring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hanges in the financial structure of the fir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 approval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arket for corporate control lacks the precision of internal governance mechanis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37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40" name="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mpens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41440" y="4538520"/>
            <a:ext cx="2811240" cy="1036440"/>
            <a:chOff x="541440" y="4538520"/>
            <a:chExt cx="2811240" cy="1036440"/>
          </a:xfrm>
        </p:grpSpPr>
        <p:sp>
          <p:nvSpPr>
            <p:cNvPr id="243" name=""/>
            <p:cNvSpPr/>
            <p:nvPr/>
          </p:nvSpPr>
          <p:spPr>
            <a:xfrm>
              <a:off x="541440" y="45385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4400" y="46162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Market 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rporate Control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46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17B50-44AC-45A1-A720-C580BDFF6F02}" type="slidenum">
              <a:t>27</a:t>
            </a:fld>
          </a:p>
        </p:txBody>
      </p:sp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70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500"/>
                            </p:stCondLst>
                            <p:childTnLst>
                              <p:par>
                                <p:cTn id="71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500"/>
                            </p:stCondLst>
                            <p:childTnLst>
                              <p:par>
                                <p:cTn id="7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000"/>
                            </p:stCondLst>
                            <p:childTnLst>
                              <p:par>
                                <p:cTn id="7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500"/>
                            </p:stCondLst>
                            <p:childTnLst>
                              <p:par>
                                <p:cTn id="7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560" y="44136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10.2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General Environment: Segments and Elem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209520" y="1251000"/>
            <a:ext cx="878220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Defense strateg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Categor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Popularit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Effectiveness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Stockholder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mong firms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s a defense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wealth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son pi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rate char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l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end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lden parachu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lig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tig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enma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l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sti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 structu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nclus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6360" y="6313320"/>
            <a:ext cx="7688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. A. Pearce II &amp; R. B. Robinson, Jr., 2004, Hostile takeover defenses that maximize shareholder wealth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Business Horizons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7(5): 15–24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41730-6653-47AC-BCBE-322C8C415B3C}" type="slidenum">
              <a:t>28</a:t>
            </a:fld>
          </a:p>
        </p:txBody>
      </p:sp>
    </p:spTree>
  </p:cSld>
  <p:transition>
    <p:random/>
  </p:transition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181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erman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wner and manager are often the same in private firm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ublic firms often have a dominant shareholder, frequently a ban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requently there is less emphasis on shareholder value than in U.S. firms, although this may be changing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888160" y="4038480"/>
            <a:ext cx="1655640" cy="19051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6324480" y="2819520"/>
            <a:ext cx="2286000" cy="13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808B8-E5D3-44DF-A70B-B4549A0155A4}" type="slidenum">
              <a:t>29</a:t>
            </a:fld>
          </a:p>
        </p:txBody>
      </p:sp>
    </p:spTree>
  </p:cSld>
  <p:transition>
    <p:random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types of compensation executives receive and their effects on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the external corporate governance mechanism—the market for corporate control—acts as a restraint on top-level managers’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use of corporate governance in international settings, in particular in Germany and Japa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rporate governance fosters ethical strategic decisions and the importance of such behaviors on the part of top-level executiv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A314D-0714-4FA8-81DC-43AED2ECC779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006800" y="225252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the functions of direction and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006800" y="347184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appointing members to the Vo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06800" y="493704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appointing members to the Aufsichtsr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01760" y="2057400"/>
            <a:ext cx="2482560" cy="1033200"/>
            <a:chOff x="1301760" y="2057400"/>
            <a:chExt cx="2482560" cy="1033200"/>
          </a:xfrm>
        </p:grpSpPr>
        <p:sp>
          <p:nvSpPr>
            <p:cNvPr id="260" name=""/>
            <p:cNvSpPr/>
            <p:nvPr/>
          </p:nvSpPr>
          <p:spPr>
            <a:xfrm>
              <a:off x="1301760" y="2057400"/>
              <a:ext cx="2482560" cy="10332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361880" y="2125440"/>
              <a:ext cx="2327400" cy="897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orst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301760" y="3352680"/>
            <a:ext cx="2482920" cy="1033200"/>
            <a:chOff x="1301760" y="3352680"/>
            <a:chExt cx="2482920" cy="1033200"/>
          </a:xfrm>
        </p:grpSpPr>
        <p:sp>
          <p:nvSpPr>
            <p:cNvPr id="263" name=""/>
            <p:cNvSpPr/>
            <p:nvPr/>
          </p:nvSpPr>
          <p:spPr>
            <a:xfrm>
              <a:off x="1301760" y="3352680"/>
              <a:ext cx="2482920" cy="1033200"/>
            </a:xfrm>
            <a:prstGeom prst="rect">
              <a:avLst/>
            </a:pr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362240" y="3420720"/>
              <a:ext cx="2327040" cy="8971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5e4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ufsichtsr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300320" y="4627440"/>
            <a:ext cx="2495520" cy="1359000"/>
            <a:chOff x="1300320" y="4627440"/>
            <a:chExt cx="2495520" cy="1359000"/>
          </a:xfrm>
        </p:grpSpPr>
        <p:sp>
          <p:nvSpPr>
            <p:cNvPr id="266" name=""/>
            <p:cNvSpPr/>
            <p:nvPr/>
          </p:nvSpPr>
          <p:spPr>
            <a:xfrm>
              <a:off x="1300320" y="4627440"/>
              <a:ext cx="2495520" cy="13590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377720" y="4802400"/>
              <a:ext cx="2340000" cy="10087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Un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embers Shar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8" name=""/>
          <p:cNvCxnSpPr>
            <a:stCxn id="266" idx="0"/>
            <a:endCxn id="263" idx="2"/>
          </p:cNvCxnSpPr>
          <p:nvPr/>
        </p:nvCxnSpPr>
        <p:spPr>
          <a:xfrm flipH="1" flipV="1">
            <a:off x="2542680" y="4385880"/>
            <a:ext cx="5760" cy="241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69" name=""/>
          <p:cNvCxnSpPr>
            <a:stCxn id="263" idx="0"/>
            <a:endCxn id="260" idx="2"/>
          </p:cNvCxnSpPr>
          <p:nvPr/>
        </p:nvCxnSpPr>
        <p:spPr>
          <a:xfrm flipV="1">
            <a:off x="2542680" y="3090600"/>
            <a:ext cx="1080" cy="262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270" name=""/>
          <p:cNvSpPr/>
          <p:nvPr/>
        </p:nvSpPr>
        <p:spPr>
          <a:xfrm>
            <a:off x="1952640" y="1295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Germany: Two-tiered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01F8B-DB54-4383-BD0D-8C4D6FD87E92}" type="slidenum">
              <a:t>30</a:t>
            </a:fld>
          </a:p>
        </p:txBody>
      </p:sp>
    </p:spTree>
  </p:cSld>
  <p:transition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0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000"/>
                            </p:stCondLst>
                            <p:childTnLst>
                              <p:par>
                                <p:cTn id="8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00"/>
                            </p:stCondLst>
                            <p:childTnLst>
                              <p:par>
                                <p:cTn id="8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864480" y="3352680"/>
            <a:ext cx="1670040" cy="17049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9562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pa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ortant governance factor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n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eiretsus: strongly interrelated groups of firms tied together by cross-shareholding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anks (especially “main bank”) are highly influential with firm’s manag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172200" y="1981080"/>
            <a:ext cx="2127240" cy="149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A1D0C-F57D-4FD0-9199-22D1A1621ACD}" type="slidenum">
              <a:t>31</a:t>
            </a:fld>
          </a:p>
        </p:txBody>
      </p:sp>
    </p:spTree>
  </p:cSld>
  <p:transition>
    <p:random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pan (cont’d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Other governance characteristics: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government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relationships between firms and government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ive and stable shareholders who exert littl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bsence of external market for corporat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94E55-53CC-4C80-96B3-64E2802E2F45}" type="slidenum">
              <a:t>32</a:t>
            </a:fld>
          </a:p>
        </p:txBody>
      </p:sp>
    </p:spTree>
  </p:cSld>
  <p:transition>
    <p:random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lobal Corporate Govern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2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Organizations worldwide are adopting a relatively uniform governance structure.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s of directors are becoming smaller, with more independent and outside me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ors are becoming more a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apidly developing market economies, minority shareholder rights are not protected by adequate governance contr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8D7BD-A321-4A5D-BEA4-745C3E0761B8}" type="slidenum">
              <a:t>33</a:t>
            </a:fld>
          </a:p>
        </p:txBody>
      </p:sp>
    </p:spTree>
  </p:cSld>
  <p:transition>
    <p:random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566640" y="4716360"/>
            <a:ext cx="2584440" cy="846360"/>
            <a:chOff x="566640" y="4716360"/>
            <a:chExt cx="2584440" cy="846360"/>
          </a:xfrm>
        </p:grpSpPr>
        <p:sp>
          <p:nvSpPr>
            <p:cNvPr id="280" name=""/>
            <p:cNvSpPr/>
            <p:nvPr/>
          </p:nvSpPr>
          <p:spPr>
            <a:xfrm>
              <a:off x="566640" y="4716360"/>
              <a:ext cx="2584440" cy="84636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9200" y="477432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566640" y="3835440"/>
            <a:ext cx="2584440" cy="846000"/>
            <a:chOff x="566640" y="3835440"/>
            <a:chExt cx="2584440" cy="846000"/>
          </a:xfrm>
        </p:grpSpPr>
        <p:sp>
          <p:nvSpPr>
            <p:cNvPr id="283" name=""/>
            <p:cNvSpPr/>
            <p:nvPr/>
          </p:nvSpPr>
          <p:spPr>
            <a:xfrm>
              <a:off x="566640" y="38354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5320" y="38890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518760"/>
            <a:ext cx="541008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Ethical Behavio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1752480" y="1905120"/>
            <a:ext cx="563904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530520" y="3033720"/>
            <a:ext cx="510552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71360" indent="-1713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hareholders (in the capital market stakeholder group) are viewed as the most important stakeholder gro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he focus of governance mechanisms is on the control of managerial decisions to assure shareholder inter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nterests of shareholders is served by the Board of Direc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24080" y="3022560"/>
            <a:ext cx="609840" cy="2743200"/>
          </a:xfrm>
          <a:custGeom>
            <a:avLst/>
            <a:gdLst>
              <a:gd name="textAreaLeft" fmla="*/ 389520 w 609840"/>
              <a:gd name="textAreaRight" fmla="*/ 610200 w 609840"/>
              <a:gd name="textAreaTop" fmla="*/ 720 h 2743200"/>
              <a:gd name="textAreaBottom" fmla="*/ 274248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918"/>
                </a:lnTo>
                <a:cubicBezTo>
                  <a:pt x="10800" y="2929"/>
                  <a:pt x="5400" y="2940"/>
                  <a:pt x="0" y="2940"/>
                </a:cubicBezTo>
                <a:cubicBezTo>
                  <a:pt x="5400" y="2940"/>
                  <a:pt x="10800" y="2951"/>
                  <a:pt x="10800" y="2962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65200" y="2963880"/>
            <a:ext cx="2584440" cy="846000"/>
            <a:chOff x="565200" y="2963880"/>
            <a:chExt cx="2584440" cy="846000"/>
          </a:xfrm>
        </p:grpSpPr>
        <p:sp>
          <p:nvSpPr>
            <p:cNvPr id="290" name=""/>
            <p:cNvSpPr/>
            <p:nvPr/>
          </p:nvSpPr>
          <p:spPr>
            <a:xfrm>
              <a:off x="565200" y="296388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3880" y="301788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DDE3F-6567-418D-9854-BB9F523E6F4A}" type="slidenum">
              <a:t>34</a:t>
            </a:fld>
          </a:p>
        </p:txBody>
      </p:sp>
    </p:spTree>
  </p:cSld>
  <p:transition>
    <p:random/>
  </p:transition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500"/>
                            </p:stCondLst>
                            <p:childTnLst>
                              <p:par>
                                <p:cTn id="9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2000"/>
                            </p:stCondLst>
                            <p:childTnLst>
                              <p:par>
                                <p:cTn id="9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2500"/>
                            </p:stCondLst>
                            <p:childTnLst>
                              <p:par>
                                <p:cTn id="93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3000"/>
                            </p:stCondLst>
                            <p:childTnLst>
                              <p:par>
                                <p:cTn id="94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3500"/>
                            </p:stCondLst>
                            <p:childTnLst>
                              <p:par>
                                <p:cTn id="94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566640" y="4718160"/>
            <a:ext cx="2584440" cy="846000"/>
            <a:chOff x="566640" y="4718160"/>
            <a:chExt cx="2584440" cy="846000"/>
          </a:xfrm>
        </p:grpSpPr>
        <p:sp>
          <p:nvSpPr>
            <p:cNvPr id="293" name=""/>
            <p:cNvSpPr/>
            <p:nvPr/>
          </p:nvSpPr>
          <p:spPr>
            <a:xfrm>
              <a:off x="566640" y="471816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9200" y="477612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66640" y="3833640"/>
            <a:ext cx="2584440" cy="846360"/>
            <a:chOff x="566640" y="3833640"/>
            <a:chExt cx="2584440" cy="846360"/>
          </a:xfrm>
        </p:grpSpPr>
        <p:sp>
          <p:nvSpPr>
            <p:cNvPr id="296" name=""/>
            <p:cNvSpPr/>
            <p:nvPr/>
          </p:nvSpPr>
          <p:spPr>
            <a:xfrm>
              <a:off x="566640" y="3833640"/>
              <a:ext cx="2584440" cy="8463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5320" y="38872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65200" y="2959200"/>
            <a:ext cx="2584440" cy="846000"/>
            <a:chOff x="565200" y="2959200"/>
            <a:chExt cx="2584440" cy="846000"/>
          </a:xfrm>
        </p:grpSpPr>
        <p:sp>
          <p:nvSpPr>
            <p:cNvPr id="299" name=""/>
            <p:cNvSpPr/>
            <p:nvPr/>
          </p:nvSpPr>
          <p:spPr>
            <a:xfrm>
              <a:off x="565200" y="295920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3880" y="301320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160" y="518760"/>
            <a:ext cx="80010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Behavio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040200"/>
            <a:ext cx="4952880" cy="19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roduct market stakeholders (customers, suppliers and host communities) and organizational stakeholders may withdraw their support of the firm if their needs are not met, at least minim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2997360"/>
            <a:ext cx="609840" cy="2082600"/>
          </a:xfrm>
          <a:custGeom>
            <a:avLst/>
            <a:gdLst>
              <a:gd name="textAreaLeft" fmla="*/ 389520 w 609840"/>
              <a:gd name="textAreaRight" fmla="*/ 610200 w 609840"/>
              <a:gd name="textAreaTop" fmla="*/ 360 h 2082600"/>
              <a:gd name="textAreaBottom" fmla="*/ 2082240 h 2082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3001"/>
                </a:lnTo>
                <a:cubicBezTo>
                  <a:pt x="10800" y="13012"/>
                  <a:pt x="5400" y="13023"/>
                  <a:pt x="0" y="13023"/>
                </a:cubicBezTo>
                <a:cubicBezTo>
                  <a:pt x="5400" y="13023"/>
                  <a:pt x="10800" y="13034"/>
                  <a:pt x="10800" y="1304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752480" y="1905120"/>
            <a:ext cx="563904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8F548-35A8-44CE-9492-020A46468FA6}" type="slidenum">
              <a:t>35</a:t>
            </a:fld>
          </a:p>
        </p:txBody>
      </p:sp>
    </p:spTree>
  </p:cSld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0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500"/>
                            </p:stCondLst>
                            <p:childTnLst>
                              <p:par>
                                <p:cTn id="96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124080" y="2971800"/>
            <a:ext cx="609840" cy="2743200"/>
          </a:xfrm>
          <a:custGeom>
            <a:avLst/>
            <a:gdLst>
              <a:gd name="textAreaLeft" fmla="*/ 389520 w 609840"/>
              <a:gd name="textAreaRight" fmla="*/ 610200 w 609840"/>
              <a:gd name="textAreaTop" fmla="*/ 720 h 2743200"/>
              <a:gd name="textAreaBottom" fmla="*/ 274248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6703"/>
                </a:lnTo>
                <a:cubicBezTo>
                  <a:pt x="10800" y="16714"/>
                  <a:pt x="5400" y="16725"/>
                  <a:pt x="0" y="16725"/>
                </a:cubicBezTo>
                <a:cubicBezTo>
                  <a:pt x="5400" y="16725"/>
                  <a:pt x="10800" y="16736"/>
                  <a:pt x="10800" y="16747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66640" y="3822840"/>
            <a:ext cx="2584440" cy="846000"/>
            <a:chOff x="566640" y="3822840"/>
            <a:chExt cx="2584440" cy="846000"/>
          </a:xfrm>
        </p:grpSpPr>
        <p:sp>
          <p:nvSpPr>
            <p:cNvPr id="307" name=""/>
            <p:cNvSpPr/>
            <p:nvPr/>
          </p:nvSpPr>
          <p:spPr>
            <a:xfrm>
              <a:off x="566640" y="38228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25320" y="38764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566640" y="4710240"/>
            <a:ext cx="2584440" cy="846000"/>
            <a:chOff x="566640" y="4710240"/>
            <a:chExt cx="2584440" cy="846000"/>
          </a:xfrm>
        </p:grpSpPr>
        <p:sp>
          <p:nvSpPr>
            <p:cNvPr id="310" name=""/>
            <p:cNvSpPr/>
            <p:nvPr/>
          </p:nvSpPr>
          <p:spPr>
            <a:xfrm>
              <a:off x="566640" y="47102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19200" y="476820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565200" y="2951280"/>
            <a:ext cx="2584440" cy="846000"/>
            <a:chOff x="565200" y="2951280"/>
            <a:chExt cx="2584440" cy="846000"/>
          </a:xfrm>
        </p:grpSpPr>
        <p:sp>
          <p:nvSpPr>
            <p:cNvPr id="313" name=""/>
            <p:cNvSpPr/>
            <p:nvPr/>
          </p:nvSpPr>
          <p:spPr>
            <a:xfrm>
              <a:off x="565200" y="295128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23880" y="300528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518760"/>
            <a:ext cx="80010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Behavio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1790640" y="1905120"/>
            <a:ext cx="556272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5320" y="3014640"/>
            <a:ext cx="495288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ome observers believe that ethically responsible companies design and use governance mechanisms that serve all stakeholders’ inter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mportance of maintaining ethical behavior is seen in the examples of Enron, WorldCom, HealthSouth and Ty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66B8B-BE10-4092-879C-C61C353EE94F}" type="slidenum">
              <a:t>36</a:t>
            </a:fld>
          </a:p>
        </p:txBody>
      </p:sp>
    </p:spTree>
  </p:cSld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0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"/>
                            </p:stCondLst>
                            <p:childTnLst>
                              <p:par>
                                <p:cTn id="97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1000"/>
                            </p:stCondLst>
                            <p:childTnLst>
                              <p:par>
                                <p:cTn id="9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 Govern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 governance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relationship among stakeholders that is used to determine and control the strategic direction and performance of organiz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ed with identifying ways to ensure that strategic decisions are made more effective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ed in corporations to establish order between the firm’s owners and its top-level managers whose interests may be in confli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3BF7F-A07E-4248-B46A-594CD902544C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992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ship Concentr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lative amounts of stock owned by individual shareholders and institutional investo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oard of Directo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viduals responsible 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representing the firm’s 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wners by monitoring top-level managers’ strategic decis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86400" y="2401920"/>
            <a:ext cx="2801880" cy="209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DBC72-0C6F-43B0-81EC-F70468B90B10}" type="slidenum">
              <a:t>5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486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ecutive Compens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use of salary, bonuses, and long-term incentives to align managers’ interests with shareholders’ intere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 for Corporate Contro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purchase of a firm that is underperforming relative to industry rivals in order to improve its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791320" y="2009880"/>
            <a:ext cx="2879640" cy="286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0F3E8-9ACE-411F-BFDB-4388B17958C3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23888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paration of Ownership and Managerial Contro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asis of the modern corpor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purchase stock, becoming residual claimant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reduce risk by holding diversified portfolio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fessional managers are contracted to provide decision making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odern public corporation form leads to efficient specialization of task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Risk bearing by sharehold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ategy development and decision making by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1C0BD-33B7-4B00-87E4-0AA177B4D86F}" type="slidenum">
              <a:t>7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463680"/>
            <a:ext cx="79344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0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gency Relationship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17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391520" cy="453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53C78-F76F-4490-AAF1-0A27A6059201}" type="slidenum">
              <a:t>8</a:t>
            </a:fld>
          </a:p>
        </p:txBody>
      </p:sp>
    </p:spTree>
  </p:cSld>
  <p:transition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Relationship Proble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ncipal and agent have divergent interests and goa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hareholders lack direct control of large, publicly traded corpor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nt makes decisions that result in the pursuit of goals that conflict with those of the princip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t is difficult or expensive for the principal to verify that the agent has behaved appropriatel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nt falls prey to managerial opportunis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E3B4A-6DF5-49AC-A7A7-F43FC3F57378}" type="slidenum">
              <a:t>9</a:t>
            </a:fld>
          </a:p>
        </p:txBody>
      </p:sp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8:42Z</dcterms:modified>
  <cp:revision>46</cp:revision>
  <dc:subject>Chapter 10</dc:subject>
  <dc:title>Strategic Management 7e.</dc:title>
</cp:coreProperties>
</file>