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B9C1-150C-4FA4-82A5-7B27D0A76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409D-102E-4403-9018-9862D821D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E247-7D45-4604-BC3D-4C907BFFA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628C-2A9E-4946-B679-29EACB09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3770-E843-439A-B2B5-37ACEDE6D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FAC8-9BB2-4A79-B2D5-8ECFF71B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198E-846E-4641-BBFE-B410E179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FE46-D3A4-44C3-9AF0-166F1D99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A2F1-BDBE-4E9B-AF9E-73688299C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4863-8C84-4DD1-A9E3-6156710FC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783E-D675-455E-BB92-8FD0405E3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89A3-B521-441A-B766-8A73BA428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3C12-932B-4A0E-8D05-3A6A5B07A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8037-979D-4230-8F04-412BF9379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C8DC-9AA2-4395-8D12-BD6959665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B780-73F4-4F80-8359-62C9AD5C5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ABAB-98F0-4B0E-A5F1-A90E9840D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2C3F-64E5-49D5-AEDF-D84284F30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B000-4185-4F50-885C-04274FF99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EC2A-F8DE-4AC6-8AB2-FA1DF9AA0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70E9-523B-43A0-8AFA-55DF6C684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B79B-CB63-4659-9D53-AF5228017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F318-EEA8-4821-B79B-CC06C6056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0BBF-1603-4A6D-959D-58D0B612B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A011-C91C-4070-AEF8-9B4562D50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3E6-163C-48D2-89E4-FE49FF2E3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E1F-9DF7-4419-A27D-B12A0A4A1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7D18-6A83-4411-BE2C-992521DEF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8DE7-3687-4EB9-ABE6-1D8CE12BF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14EB-9CC6-4FCE-9E3C-1E3E5332B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FEB9-2CEE-4898-A257-BEC6F6E9D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6F81-AE21-41AC-B995-E449BA0DD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F77D-E0A8-4B17-8930-5F81F2FF2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CDAD-6218-4513-858F-AF7ABA4C6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D33E-00CC-46BD-979A-BDEF9140E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DAD8-7258-40FE-997B-C7706F6E7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251A-C6B5-4222-892E-6FEB1B5C7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B4C0-10F9-49AC-B6CD-D523533B8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D7D5-93AF-442F-B852-AC7DEF61F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5646-EFBB-4120-8288-52986BBBE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41D7-E8E7-4944-8F6C-BBB8CD34B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C58C-AFF7-4DA9-BC2D-CBC92B634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6E9DC2E8-BC6F-4231-A125-B46CBDB7ED58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1879F-73E0-4376-B0D5-FEBCA57E1029}" type="slidenum">
              <a:t>10</a:t>
            </a:fld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5B68-6640-4487-BD67-785FE1107285}" type="slidenum">
              <a:t>11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5E9D-E8F1-4975-B77A-F1F6E90C0880}" type="slidenum">
              <a:t>12</a:t>
            </a:fld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CB56-1BF5-4412-BDDF-FA1CD6F0086D}" type="slidenum">
              <a:t>13</a:t>
            </a:fld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A80D-E452-4AFF-8F75-F4C5173B7E93}" type="slidenum">
              <a:t>14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674D-CC42-448A-A831-B839E067C665}" type="slidenum">
              <a:t>15</a:t>
            </a:fld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DC40-995F-46C7-A3DF-B73632F9A08C}" type="slidenum">
              <a:t>16</a:t>
            </a:fld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44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66B4-B081-496C-9B4B-EE5ECD997BC6}" type="slidenum">
              <a:t>17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9B3D-BDBA-4542-B636-3CFEA7DE1C6D}" type="slidenum">
              <a:t>18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6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1A0D-5B8D-4466-B87C-60172B6A57DE}" type="slidenum">
              <a:t>19</a:t>
            </a:fld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800D-D10D-46AD-997E-0154B935BCB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6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65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431F-81FF-4816-A5A7-6D745E8C0F01}" type="slidenum">
              <a:t>20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1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7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1186-F5FD-4315-9969-50BD4B1C8149}" type="slidenum">
              <a:t>21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8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3395-878A-4AC5-B183-B83662960471}" type="slidenum">
              <a:t>22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9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92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19998-C78E-4144-B129-B890FBC4F5B5}" type="slidenum">
              <a:t>23</a:t>
            </a:fld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8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0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03F1-2C4F-4614-A7A1-5031312AA48B}" type="slidenum">
              <a:t>24</a:t>
            </a:fld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16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2332-F816-409E-A229-101255471A93}" type="slidenum">
              <a:t>25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25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c5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8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3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822A-CB54-487B-B0BC-68F6679DDD42}" type="slidenum">
              <a:t>26</a:t>
            </a:fld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7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0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43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46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97D8-399C-414A-A91F-3F8E92E7FB49}" type="slidenum">
              <a:t>27</a:t>
            </a:fld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6F20-E163-4C68-853E-92B6E9A94941}" type="slidenum">
              <a:t>28</a:t>
            </a:fld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8282-9E69-4F1F-B6C6-1845B793AC4D}" type="slidenum">
              <a:t>29</a:t>
            </a:fld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DE99-D079-4FBF-A1EB-62752ACF815C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260" name="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263" name="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266" name="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stCxn id="266" idx="0"/>
            <a:endCxn id="263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69" name=""/>
          <p:cNvCxnSpPr>
            <a:stCxn id="263" idx="0"/>
            <a:endCxn id="260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70" name="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11AD-B1B5-47AC-B070-B749B7D20B6B}" type="slidenum">
              <a:t>30</a:t>
            </a:fld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07E3-CE17-45ED-A976-367FE5E6EFB0}" type="slidenum">
              <a:t>31</a:t>
            </a:fld>
          </a:p>
        </p:txBody>
      </p:sp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FFC9-1576-4740-AE95-8FD0693A98DB}" type="slidenum">
              <a:t>32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0AE2-7102-4327-93D1-F7E6D163BAF3}" type="slidenum">
              <a:t>33</a:t>
            </a:fld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280" name="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283" name="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290" name="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5230-1A03-47CF-ACCA-D6F334E1AF7F}" type="slidenum">
              <a:t>34</a:t>
            </a:fld>
          </a:p>
        </p:txBody>
      </p: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293" name="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296" name="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299" name="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1740-F82B-43EE-9B9D-5F217BC7EC25}" type="slidenum">
              <a:t>35</a:t>
            </a:fld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07" name="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10" name="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13" name="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6CAB-6E23-48F1-A64A-C2368339F2B8}" type="slidenum">
              <a:t>36</a:t>
            </a:fld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2664-0286-4DAA-9C06-3BA79F6AD12E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5F64-2298-49AE-B907-D0F73337F0AE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8980-7B4F-42D4-B763-051FAEC0C79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1CC9-56E2-4D5D-952D-7746585365C9}" type="slidenum">
              <a:t>7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1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6E50-F323-4370-850C-2378DA5A58A4}" type="slidenum">
              <a:t>8</a:t>
            </a:fld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0089-2762-4B40-A160-58145C0D07AD}" type="slidenum">
              <a:t>9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42Z</dcterms:modified>
  <cp:revision>46</cp:revision>
  <dc:subject>Chapter 10</dc:subject>
  <dc:title>Strategic Management 7e.</dc:title>
</cp:coreProperties>
</file>