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10.gif" ContentType="image/gi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4F54-47C3-4A63-8A06-FB0070DC6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1B81-FB65-481F-A2EC-80D8DC9F6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6D35-68A9-4ABF-BF92-D75B16542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501C-3254-43DE-92B2-6FCC1DEAE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FAD5-E321-4DC7-99B1-ACEB697B9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3D6D-E95B-4A5D-B597-68001E47C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E0C3-555D-474A-AC4C-5432F6ADB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B147-1EDB-4E0A-8284-AD48159BC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F97C-A51F-4512-A755-D66A93221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82BF-6B1E-4D2D-988F-59397687D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AF4C-6307-4437-B322-6552596CF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81C1-F3E1-4E6C-A2B8-3A0D209BF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C5BC-4325-4CE3-91C8-617911F4C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6257-99F9-4392-9262-5D5E2C541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36E7-FA00-4C16-A4CE-6687DFE6E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3115-E40E-41AD-B712-EADA4CF6E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6650-DA84-4E1C-AA39-BCDB8DE0D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06E0-3302-4DB7-9DF3-2BE16960E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53B6-AFA7-4FC7-9858-8FBA0D89B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869C-58C9-4D95-87E9-38B700102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C80D-D546-4574-AFFB-6E50FB581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E439-C1AA-4D8C-B6D0-A05B07E50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C45B-A5B4-44C1-B921-E63817080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5B8F-7C96-4876-9B3E-2686E7D01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F192-FD73-45A2-9FCE-178C825D8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0A65-8412-4A9D-A0EF-4D577225E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D722-2764-46CD-A557-1E8513717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9299-4A0A-4616-87EB-294823B63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9057-493D-42DC-BEE1-F3FBD7F12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EE96-84CD-495A-9136-F30E6975C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7202B-5CE4-4BF3-9BA1-0758D0E72B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2613C-9FD4-4B5D-935D-4F58547208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8F933-BFEE-4D76-A868-EE5BA6CD2B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DA1C4-BBFF-479E-AA4A-A798DD92F9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63AC3-7179-417A-BD0F-DFC92CF5CA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C4D59-0543-4AB0-AB17-58E35BE723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6F6BE-0FBA-4695-AF62-530D7FB830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2B843-A727-44BC-AFA1-0A6F17B423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10228-96BA-4DCC-A89E-0F2CCC4DAC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8E991-4713-4F11-BC51-139390429A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3DEF2-B666-41A3-9A2B-296E75FBEC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0E5D7-5F2A-41A8-818B-C10FDC8375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–</a:t>
            </a:r>
            <a:fld id="{8E62807B-72CA-43CB-BDBC-F4613E97523C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646360"/>
            <a:ext cx="5562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0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rporate Governance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ial Opportunis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eeking of self-interest with guile (cunning or deceit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opportunism i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attitude (inclination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et of behaviors (specific acts of self-interest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opportunism prevents the maximization of shareholder wealth (the primary goal of owner/principals)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73808-31A8-4D88-992E-BF3CE4072A75}" type="slidenum">
              <a:t>10</a:t>
            </a:fld>
          </a:p>
        </p:txBody>
      </p:sp>
    </p:spTree>
  </p:cSld>
  <p:transition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ponse to Managerial Opportunis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incipals do not know beforehand which agents will or will not act opportunisticall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us, principals establish governance and control mechanisms to prevent managerial opportunis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97156-5AB5-4747-8C57-D936CF0AC735}" type="slidenum">
              <a:t>11</a:t>
            </a:fld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amples of the Agency Proble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Problem of Product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size, and the relationship of size to managerial compens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duction of managerial employment ris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 of Free Cash Flow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s prefer to invest these funds in additional product diversification (see above)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areholders prefer the funds as dividends so they control how the funds are invest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73C5E-5415-46BF-8DCA-DD786E8FCDA8}" type="slidenum">
              <a:t>12</a:t>
            </a:fld>
          </a:p>
        </p:txBody>
      </p:sp>
    </p:spTree>
  </p:cSld>
  <p:transition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495360"/>
            <a:ext cx="7934400" cy="70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0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r and Shareholder Risk and Diversification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3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14280" y="1143000"/>
            <a:ext cx="6715440" cy="491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8AA32-747B-4383-A7A8-3E778FAD74D4}" type="slidenum">
              <a:t>13</a:t>
            </a:fld>
          </a:p>
        </p:txBody>
      </p:sp>
    </p:spTree>
  </p:cSld>
  <p:transition>
    <p:random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gency Costs and Governance Mechanis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gency Cos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um of incentive costs, monitoring costs, enforcement costs, and individual financial losses incurred by principals, because governance mechanisms cannot guarantee total compliance by the ag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incipals may engage in monitoring behavior to assess the activities and decisions of manage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ever, dispersed shareholding makes it difficult and inefficient to monitor management’s behavio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BBE92-288E-455C-9AC9-24586A5532CB}" type="slidenum">
              <a:t>14</a:t>
            </a:fld>
          </a:p>
        </p:txBody>
      </p:sp>
    </p:spTree>
  </p:cSld>
  <p:transition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gency Costs and 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oards of Directors have a fiduciary duty to shareholders to monitor managemen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ever, Boards of Directors are often accused of being lax in performing this func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C172B-FCEE-47F3-98AA-417A15632EEF}" type="slidenum">
              <a:t>15</a:t>
            </a:fld>
          </a:p>
        </p:txBody>
      </p:sp>
    </p:spTree>
  </p:cSld>
  <p:transition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6064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10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porate Governance Mechanism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1327320"/>
            <a:ext cx="8305560" cy="47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 Governance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wnership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 amounts of stock owned by individual shareholders and institutional inves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s responsible for representing the firm’s owners by monitoring top-level managers’ strategic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ecutive Compen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salary, bonuses, and long-term incentives to align managers’ interests with shareholders’ interest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Governance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rket for Corporat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urchase of a company that is underperforming relative to industry rivals in order to improve the firm’s strategic competi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F3943-A78C-4CC7-8A29-674C930C8F31}" type="slidenum">
              <a:t>16</a:t>
            </a:fld>
          </a:p>
        </p:txBody>
      </p:sp>
    </p:spTree>
  </p:cSld>
  <p:transition>
    <p:random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200400" y="1314360"/>
            <a:ext cx="990720" cy="44053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4405320"/>
              <a:gd name="textAreaBottom" fmla="*/ 4404240 h 44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2727"/>
                </a:lnTo>
                <a:cubicBezTo>
                  <a:pt x="10800" y="2738"/>
                  <a:pt x="5400" y="2749"/>
                  <a:pt x="0" y="2749"/>
                </a:cubicBezTo>
                <a:cubicBezTo>
                  <a:pt x="5400" y="2749"/>
                  <a:pt x="10800" y="2760"/>
                  <a:pt x="10800" y="2771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777840" y="1330200"/>
            <a:ext cx="4908600" cy="43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32560" indent="-23256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arge block shareholders have a strong incentive to monitor management closely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heir large stakes make it worth their while to spend time, effort and expense to monitor closely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hey may also obtain Board seats which enhances their ability to monitor effectively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32560" indent="-23256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inancial institutions are legally forbidden from directly holding board sea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44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centration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92189-CA36-48F1-9205-9DF49A0B9D81}" type="slidenum">
              <a:t>17</a:t>
            </a:fld>
          </a:p>
        </p:txBody>
      </p:sp>
    </p:spTree>
  </p:cSld>
  <p:transition>
    <p:random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00400" y="1386000"/>
            <a:ext cx="990720" cy="3186000"/>
          </a:xfrm>
          <a:custGeom>
            <a:avLst/>
            <a:gdLst>
              <a:gd name="textAreaLeft" fmla="*/ 632880 w 990720"/>
              <a:gd name="textAreaRight" fmla="*/ 991080 w 990720"/>
              <a:gd name="textAreaTop" fmla="*/ 720 h 3186000"/>
              <a:gd name="textAreaBottom" fmla="*/ 3185280 h 31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3530"/>
                </a:lnTo>
                <a:cubicBezTo>
                  <a:pt x="10800" y="3541"/>
                  <a:pt x="5400" y="3552"/>
                  <a:pt x="0" y="3552"/>
                </a:cubicBezTo>
                <a:cubicBezTo>
                  <a:pt x="5400" y="3552"/>
                  <a:pt x="10800" y="3563"/>
                  <a:pt x="10800" y="3574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777840" y="1455840"/>
            <a:ext cx="4908600" cy="39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increasing influence of institutional owners (stock mutual funds and pension funds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Have the size (proxy voting power) and incentive (demand for returns to funds) to discipline ineffective top-level manage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an affect the firm’s choice of strategi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50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centration 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AB28A-2CDD-4530-A960-657006BF1D18}" type="slidenum">
              <a:t>18</a:t>
            </a:fld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200400" y="1386000"/>
            <a:ext cx="990720" cy="387180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871800"/>
              <a:gd name="textAreaBottom" fmla="*/ 3870720 h 38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2901"/>
                </a:lnTo>
                <a:cubicBezTo>
                  <a:pt x="10800" y="2912"/>
                  <a:pt x="5400" y="2923"/>
                  <a:pt x="0" y="2923"/>
                </a:cubicBezTo>
                <a:cubicBezTo>
                  <a:pt x="5400" y="2923"/>
                  <a:pt x="10800" y="2934"/>
                  <a:pt x="10800" y="2945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777840" y="1452240"/>
            <a:ext cx="4908600" cy="37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32560" indent="-23256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hareholder activism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s can convene to discuss corporation’s direction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f a consensus exists, shareholders can vote as a block to elect their candidates to the board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xy fight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here are limits on shareholder activism available to institutional owners in responding to activists’ tactic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56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centration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5DD9B-0A7E-42B5-BFB9-7B3B6265B0BC}" type="slidenum">
              <a:t>19</a:t>
            </a:fld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corporate governance and explain why it is used to monitor and control managers’ strategic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y ownership has been largely separated from managerial control in the modern corporation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 agency relationship and managerial opportunism and describe their strategic implica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hree internal governance mechanisms—ownership concentration, the board of directors, and executive compensation—are used to monitor and control managerial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D3CEE-7A4D-4370-B015-FA66C9AA2CAB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200400" y="1386000"/>
            <a:ext cx="990720" cy="402408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4024080"/>
              <a:gd name="textAreaBottom" fmla="*/ 4023000 h 40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8226"/>
                </a:lnTo>
                <a:cubicBezTo>
                  <a:pt x="10800" y="8237"/>
                  <a:pt x="5400" y="8248"/>
                  <a:pt x="0" y="8248"/>
                </a:cubicBezTo>
                <a:cubicBezTo>
                  <a:pt x="5400" y="8248"/>
                  <a:pt x="10800" y="8259"/>
                  <a:pt x="10800" y="8270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952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oard of director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Group of elected individuals that acts in the owners’ interests to formally monitor and control the firm’s top-level executiv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oard has the power to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irect the affairs of the organiz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unish and reward manag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tect owners from managerial opportunism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62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165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D6B14-1A6E-4364-A411-ABFCDB0933D3}" type="slidenum">
              <a:t>20</a:t>
            </a:fld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200400" y="1386000"/>
            <a:ext cx="990720" cy="34909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490920"/>
              <a:gd name="textAreaBottom" fmla="*/ 3489840 h 34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9575"/>
                </a:lnTo>
                <a:cubicBezTo>
                  <a:pt x="10800" y="9586"/>
                  <a:pt x="5400" y="9597"/>
                  <a:pt x="0" y="9597"/>
                </a:cubicBezTo>
                <a:cubicBezTo>
                  <a:pt x="5400" y="9597"/>
                  <a:pt x="10800" y="9608"/>
                  <a:pt x="10800" y="9619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position of Board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nsiders: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 the firm’s CEO and other top-level manag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Related Outsiders: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 individuals uninvolved with day-to-day operations, but who have a relationship with the firm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Outsiders: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 individuals who are independent of the firm’s day-to-day operations and other relationship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71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174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A87E4-4DD0-4916-810E-BA1202FEE7ED}" type="slidenum">
              <a:t>21</a:t>
            </a:fld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200400" y="1386000"/>
            <a:ext cx="990720" cy="39481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948120"/>
              <a:gd name="textAreaBottom" fmla="*/ 3947040 h 39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8741"/>
                </a:lnTo>
                <a:cubicBezTo>
                  <a:pt x="10800" y="8752"/>
                  <a:pt x="5400" y="8763"/>
                  <a:pt x="0" y="8763"/>
                </a:cubicBezTo>
                <a:cubicBezTo>
                  <a:pt x="5400" y="8763"/>
                  <a:pt x="10800" y="8774"/>
                  <a:pt x="10800" y="8785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riticisms of Boards of Directors include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oo readily approve managers’ self-serving initiativ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re exploited by managers with personal ties to board memb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re not vigilant enough in hiring and monitoring CEO behavior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ack of agreement about the number of and most appropriate role of outside directo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80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183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ADE75-1FD2-424C-A00F-29108CD17FA3}" type="slidenum">
              <a:t>22</a:t>
            </a:fld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200400" y="1386000"/>
            <a:ext cx="990720" cy="39481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948120"/>
              <a:gd name="textAreaBottom" fmla="*/ 3947040 h 39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8368"/>
                </a:lnTo>
                <a:cubicBezTo>
                  <a:pt x="10800" y="8379"/>
                  <a:pt x="5400" y="8390"/>
                  <a:pt x="0" y="8390"/>
                </a:cubicBezTo>
                <a:cubicBezTo>
                  <a:pt x="5400" y="8390"/>
                  <a:pt x="10800" y="8401"/>
                  <a:pt x="10800" y="8412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nhancing the effectiveness of boards and director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ore diversity in the backgrounds of board memb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ronger internal management and accounting control system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ore formal processes to evaluate the board’s performanc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dopting a “lead director” role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hanges in compensation of directo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89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192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64C95-0EBA-49C9-A932-8D7B7F686F3D}" type="slidenum">
              <a:t>23</a:t>
            </a:fld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200400" y="1386000"/>
            <a:ext cx="990720" cy="4557600"/>
          </a:xfrm>
          <a:custGeom>
            <a:avLst/>
            <a:gdLst>
              <a:gd name="textAreaLeft" fmla="*/ 632880 w 990720"/>
              <a:gd name="textAreaRight" fmla="*/ 991080 w 990720"/>
              <a:gd name="textAreaTop" fmla="*/ 1440 h 4557600"/>
              <a:gd name="textAreaBottom" fmla="*/ 4556160 h 45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2399"/>
                </a:lnTo>
                <a:cubicBezTo>
                  <a:pt x="10800" y="12410"/>
                  <a:pt x="5400" y="12421"/>
                  <a:pt x="0" y="12421"/>
                </a:cubicBezTo>
                <a:cubicBezTo>
                  <a:pt x="5400" y="12421"/>
                  <a:pt x="10800" y="12432"/>
                  <a:pt x="10800" y="12443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20680" indent="-22068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orms of compensation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86440" indent="-25812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alaries, bonuses, long-term performance incentives, stock awards, stock op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20680" indent="-22068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actors complicating executive compensation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86440" indent="-25812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rategic decisions by top-level managers are complex, non-routine and affect the firm over an extended period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586440" indent="-25812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ther variables affecting the firm’s performance over time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98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01" name="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mpensation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04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2E096-1B90-4AE4-BCB0-085B42970516}" type="slidenum">
              <a:t>24</a:t>
            </a:fld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200400" y="1386000"/>
            <a:ext cx="990720" cy="37195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719520"/>
              <a:gd name="textAreaBottom" fmla="*/ 3718440 h 37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5060"/>
                </a:lnTo>
                <a:cubicBezTo>
                  <a:pt x="10800" y="15071"/>
                  <a:pt x="5400" y="15082"/>
                  <a:pt x="0" y="15082"/>
                </a:cubicBezTo>
                <a:cubicBezTo>
                  <a:pt x="5400" y="15082"/>
                  <a:pt x="10800" y="15093"/>
                  <a:pt x="10800" y="15104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imits on the effectiveness of executive compensation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Unintended consequences of stock op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irm performance not as important than firm siz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Balance sheet not showing executive wealth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ptions not expensed at the time they are awarded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10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13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16" name="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mpensation 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53067-E5EE-46C2-94F2-995ED610F47C}" type="slidenum">
              <a:t>25</a:t>
            </a:fld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200400" y="1690560"/>
            <a:ext cx="990720" cy="379584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795840"/>
              <a:gd name="textAreaBottom" fmla="*/ 3794760 h 37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8877"/>
                </a:lnTo>
                <a:cubicBezTo>
                  <a:pt x="10800" y="18888"/>
                  <a:pt x="5400" y="18899"/>
                  <a:pt x="0" y="18899"/>
                </a:cubicBezTo>
                <a:cubicBezTo>
                  <a:pt x="5400" y="18899"/>
                  <a:pt x="10800" y="18910"/>
                  <a:pt x="10800" y="18921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762000" y="1752480"/>
            <a:ext cx="4876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dividuals and firms buy or take over undervalued corpora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neffective managers are usually replaced in such takeove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reat of takeover may lead firm to operate more efficientl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hanges in regulations have made hostile takeovers difficul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22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41440" y="4538520"/>
            <a:ext cx="2811240" cy="1036440"/>
            <a:chOff x="541440" y="4538520"/>
            <a:chExt cx="2811240" cy="1036440"/>
          </a:xfrm>
        </p:grpSpPr>
        <p:sp>
          <p:nvSpPr>
            <p:cNvPr id="225" name=""/>
            <p:cNvSpPr/>
            <p:nvPr/>
          </p:nvSpPr>
          <p:spPr>
            <a:xfrm>
              <a:off x="541440" y="45385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7b9395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4400" y="46162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c5b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Market f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rporate Control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28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31" name="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mpens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8619B-EF40-4465-97F4-F8C143F98142}" type="slidenum">
              <a:t>26</a:t>
            </a:fld>
          </a:p>
        </p:txBody>
      </p: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500"/>
                            </p:stCondLst>
                            <p:childTnLst>
                              <p:par>
                                <p:cTn id="6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000"/>
                            </p:stCondLst>
                            <p:childTnLst>
                              <p:par>
                                <p:cTn id="6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200400" y="1512720"/>
            <a:ext cx="990720" cy="425304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4253040"/>
              <a:gd name="textAreaBottom" fmla="*/ 4251960 h 42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8079"/>
                </a:lnTo>
                <a:cubicBezTo>
                  <a:pt x="10800" y="18090"/>
                  <a:pt x="5400" y="18101"/>
                  <a:pt x="0" y="18101"/>
                </a:cubicBezTo>
                <a:cubicBezTo>
                  <a:pt x="5400" y="18101"/>
                  <a:pt x="10800" y="18112"/>
                  <a:pt x="10800" y="18123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733920" y="1523520"/>
            <a:ext cx="4876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anagerial defense tactics increase the costs of mounting a takeov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efense tactics may require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sset restructuring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hanges in the financial structure of the firm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 approval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arket for corporate control lacks the precision of internal governance mechanis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37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40" name="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mpens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41440" y="4538520"/>
            <a:ext cx="2811240" cy="1036440"/>
            <a:chOff x="541440" y="4538520"/>
            <a:chExt cx="2811240" cy="1036440"/>
          </a:xfrm>
        </p:grpSpPr>
        <p:sp>
          <p:nvSpPr>
            <p:cNvPr id="243" name=""/>
            <p:cNvSpPr/>
            <p:nvPr/>
          </p:nvSpPr>
          <p:spPr>
            <a:xfrm>
              <a:off x="541440" y="45385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4400" y="46162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Market f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rporate Control 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46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CBBFA-6636-4997-8D55-D17C188BB2A1}" type="slidenum">
              <a:t>27</a:t>
            </a:fld>
          </a:p>
        </p:txBody>
      </p:sp>
    </p:spTree>
  </p:cSld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70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500"/>
                            </p:stCondLst>
                            <p:childTnLst>
                              <p:par>
                                <p:cTn id="71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7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500"/>
                            </p:stCondLst>
                            <p:childTnLst>
                              <p:par>
                                <p:cTn id="7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000"/>
                            </p:stCondLst>
                            <p:childTnLst>
                              <p:par>
                                <p:cTn id="7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500"/>
                            </p:stCondLst>
                            <p:childTnLst>
                              <p:par>
                                <p:cTn id="7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560" y="44136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10.2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General Environment: Segments and Elem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209520" y="1251000"/>
            <a:ext cx="878220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Defense strategy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Category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Popularity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Effectiveness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Stockholder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mong firms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s a defense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wealth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son pi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porate char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lo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end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lden parachu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lig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tig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enmai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lo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sti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tal structu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nclusi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6360" y="6313320"/>
            <a:ext cx="7688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. A. Pearce II &amp; R. B. Robinson, Jr., 2004, Hostile takeover defenses that maximize shareholder wealth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Business Horizons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7(5): 15–24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44007-A4E5-4E16-9084-BCCD86A4F902}" type="slidenum">
              <a:t>28</a:t>
            </a:fld>
          </a:p>
        </p:txBody>
      </p:sp>
    </p:spTree>
  </p:cSld>
  <p:transition>
    <p:random/>
  </p:transition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181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erman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wner and manager are often the same in private firm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ublic firms often have a dominant shareholder, frequently a ban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requently there is less emphasis on shareholder value than in U.S. firms, although this may be changing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5888160" y="4038480"/>
            <a:ext cx="1655640" cy="19051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6324480" y="2819520"/>
            <a:ext cx="2286000" cy="137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0713F-F3B6-4BEF-AF9F-D0FF2F417BE8}" type="slidenum">
              <a:t>29</a:t>
            </a:fld>
          </a:p>
        </p:txBody>
      </p:sp>
    </p:spTree>
  </p:cSld>
  <p:transition>
    <p:random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types of compensation executives receive and their effects on strategic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the external corporate governance mechanism—the market for corporate control—acts as a restraint on top-level managers’ strategic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use of corporate governance in international settings, in particular in Germany and Japan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rporate governance fosters ethical strategic decisions and the importance of such behaviors on the part of top-level executiv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C303F-7F63-47F9-87D0-C9252C2825F5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006800" y="2252520"/>
            <a:ext cx="399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 for the functions of direction and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006800" y="3471840"/>
            <a:ext cx="399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 for appointing members to the Vo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06800" y="4937040"/>
            <a:ext cx="399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 for appointing members to the Aufsichtsr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01760" y="2057400"/>
            <a:ext cx="2482560" cy="1033200"/>
            <a:chOff x="1301760" y="2057400"/>
            <a:chExt cx="2482560" cy="1033200"/>
          </a:xfrm>
        </p:grpSpPr>
        <p:sp>
          <p:nvSpPr>
            <p:cNvPr id="260" name=""/>
            <p:cNvSpPr/>
            <p:nvPr/>
          </p:nvSpPr>
          <p:spPr>
            <a:xfrm>
              <a:off x="1301760" y="2057400"/>
              <a:ext cx="2482560" cy="10332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361880" y="2125440"/>
              <a:ext cx="2327400" cy="897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orsta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301760" y="3352680"/>
            <a:ext cx="2482920" cy="1033200"/>
            <a:chOff x="1301760" y="3352680"/>
            <a:chExt cx="2482920" cy="1033200"/>
          </a:xfrm>
        </p:grpSpPr>
        <p:sp>
          <p:nvSpPr>
            <p:cNvPr id="263" name=""/>
            <p:cNvSpPr/>
            <p:nvPr/>
          </p:nvSpPr>
          <p:spPr>
            <a:xfrm>
              <a:off x="1301760" y="3352680"/>
              <a:ext cx="2482920" cy="1033200"/>
            </a:xfrm>
            <a:prstGeom prst="rect">
              <a:avLst/>
            </a:pr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362240" y="3420720"/>
              <a:ext cx="2327040" cy="8971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5e4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ufsichtsr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300320" y="4627440"/>
            <a:ext cx="2495520" cy="1359000"/>
            <a:chOff x="1300320" y="4627440"/>
            <a:chExt cx="2495520" cy="1359000"/>
          </a:xfrm>
        </p:grpSpPr>
        <p:sp>
          <p:nvSpPr>
            <p:cNvPr id="266" name=""/>
            <p:cNvSpPr/>
            <p:nvPr/>
          </p:nvSpPr>
          <p:spPr>
            <a:xfrm>
              <a:off x="1300320" y="4627440"/>
              <a:ext cx="2495520" cy="13590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377720" y="4802400"/>
              <a:ext cx="2340000" cy="10087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Union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embers Shar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68" name=""/>
          <p:cNvCxnSpPr>
            <a:stCxn id="266" idx="0"/>
            <a:endCxn id="263" idx="2"/>
          </p:cNvCxnSpPr>
          <p:nvPr/>
        </p:nvCxnSpPr>
        <p:spPr>
          <a:xfrm flipH="1" flipV="1">
            <a:off x="2542680" y="4385880"/>
            <a:ext cx="5760" cy="241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69" name=""/>
          <p:cNvCxnSpPr>
            <a:stCxn id="263" idx="0"/>
            <a:endCxn id="260" idx="2"/>
          </p:cNvCxnSpPr>
          <p:nvPr/>
        </p:nvCxnSpPr>
        <p:spPr>
          <a:xfrm flipV="1">
            <a:off x="2542680" y="3090600"/>
            <a:ext cx="1080" cy="262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270" name=""/>
          <p:cNvSpPr/>
          <p:nvPr/>
        </p:nvSpPr>
        <p:spPr>
          <a:xfrm>
            <a:off x="1952640" y="1295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Germany: Two-tiered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8323A-7D2F-486E-B449-7B0D4D649025}" type="slidenum">
              <a:t>30</a:t>
            </a:fld>
          </a:p>
        </p:txBody>
      </p:sp>
    </p:spTree>
  </p:cSld>
  <p:transition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0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00"/>
                            </p:stCondLst>
                            <p:childTnLst>
                              <p:par>
                                <p:cTn id="8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000"/>
                            </p:stCondLst>
                            <p:childTnLst>
                              <p:par>
                                <p:cTn id="80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500"/>
                            </p:stCondLst>
                            <p:childTnLst>
                              <p:par>
                                <p:cTn id="8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000"/>
                            </p:stCondLst>
                            <p:childTnLst>
                              <p:par>
                                <p:cTn id="8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6864480" y="3352680"/>
            <a:ext cx="1670040" cy="17049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9562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pa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ortant governance factor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n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eiretsus: strongly interrelated groups of firms tied together by cross-shareholding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anks (especially “main bank”) are highly influential with firm’s manag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172200" y="1981080"/>
            <a:ext cx="2127240" cy="149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E19E4-E76A-4D1E-9ABD-99833FDD9F0F}" type="slidenum">
              <a:t>31</a:t>
            </a:fld>
          </a:p>
        </p:txBody>
      </p:sp>
    </p:spTree>
  </p:cSld>
  <p:transition>
    <p:random/>
  </p:transition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0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pan (cont’d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Other governance characteristics: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ful government 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relationships between firms and government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ive and stable shareholders who exert littl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bsence of external market for corporat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F801A-8BA6-40B8-9ED0-9BFF89FE1402}" type="slidenum">
              <a:t>32</a:t>
            </a:fld>
          </a:p>
        </p:txBody>
      </p:sp>
    </p:spTree>
  </p:cSld>
  <p:transition>
    <p:random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lobal Corporate Govern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2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Organizations worldwide are adopting a relatively uniform governance structure.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s of directors are becoming smaller, with more independent and outside me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ors are becoming more a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apidly developing market economies, minority shareholder rights are not protected by adequate governance contr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616C6-08E3-436A-A523-354012803F5D}" type="slidenum">
              <a:t>33</a:t>
            </a:fld>
          </a:p>
        </p:txBody>
      </p:sp>
    </p:spTree>
  </p:cSld>
  <p:transition>
    <p:random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566640" y="4716360"/>
            <a:ext cx="2584440" cy="846360"/>
            <a:chOff x="566640" y="4716360"/>
            <a:chExt cx="2584440" cy="846360"/>
          </a:xfrm>
        </p:grpSpPr>
        <p:sp>
          <p:nvSpPr>
            <p:cNvPr id="280" name=""/>
            <p:cNvSpPr/>
            <p:nvPr/>
          </p:nvSpPr>
          <p:spPr>
            <a:xfrm>
              <a:off x="566640" y="4716360"/>
              <a:ext cx="2584440" cy="84636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9200" y="477432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566640" y="3835440"/>
            <a:ext cx="2584440" cy="846000"/>
            <a:chOff x="566640" y="3835440"/>
            <a:chExt cx="2584440" cy="846000"/>
          </a:xfrm>
        </p:grpSpPr>
        <p:sp>
          <p:nvSpPr>
            <p:cNvPr id="283" name=""/>
            <p:cNvSpPr/>
            <p:nvPr/>
          </p:nvSpPr>
          <p:spPr>
            <a:xfrm>
              <a:off x="566640" y="383544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5320" y="388908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Product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518760"/>
            <a:ext cx="541008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and Ethical Behavio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1752480" y="1905120"/>
            <a:ext cx="563904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t is important to serve the interests of the firm’s multiple stakeholder grou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530520" y="3033720"/>
            <a:ext cx="510552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171360" indent="-17136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hareholders (in the capital market stakeholder group) are viewed as the most important stakeholder gro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he focus of governance mechanisms is on the control of managerial decisions to assure shareholder inter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nterests of shareholders is served by the Board of Direc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24080" y="3022560"/>
            <a:ext cx="609840" cy="2743200"/>
          </a:xfrm>
          <a:custGeom>
            <a:avLst/>
            <a:gdLst>
              <a:gd name="textAreaLeft" fmla="*/ 389520 w 609840"/>
              <a:gd name="textAreaRight" fmla="*/ 610200 w 609840"/>
              <a:gd name="textAreaTop" fmla="*/ 720 h 2743200"/>
              <a:gd name="textAreaBottom" fmla="*/ 274248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2918"/>
                </a:lnTo>
                <a:cubicBezTo>
                  <a:pt x="10800" y="2929"/>
                  <a:pt x="5400" y="2940"/>
                  <a:pt x="0" y="2940"/>
                </a:cubicBezTo>
                <a:cubicBezTo>
                  <a:pt x="5400" y="2940"/>
                  <a:pt x="10800" y="2951"/>
                  <a:pt x="10800" y="2962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65200" y="2963880"/>
            <a:ext cx="2584440" cy="846000"/>
            <a:chOff x="565200" y="2963880"/>
            <a:chExt cx="2584440" cy="846000"/>
          </a:xfrm>
        </p:grpSpPr>
        <p:sp>
          <p:nvSpPr>
            <p:cNvPr id="290" name=""/>
            <p:cNvSpPr/>
            <p:nvPr/>
          </p:nvSpPr>
          <p:spPr>
            <a:xfrm>
              <a:off x="565200" y="296388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3880" y="3017880"/>
              <a:ext cx="2467080" cy="738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apital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7A0F8-71A9-4DE6-A74F-43F6B25E06CD}" type="slidenum">
              <a:t>34</a:t>
            </a:fld>
          </a:p>
        </p:txBody>
      </p:sp>
    </p:spTree>
  </p:cSld>
  <p:transition>
    <p:random/>
  </p:transition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1000"/>
                            </p:stCondLst>
                            <p:childTnLst>
                              <p:par>
                                <p:cTn id="9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500"/>
                            </p:stCondLst>
                            <p:childTnLst>
                              <p:par>
                                <p:cTn id="9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2000"/>
                            </p:stCondLst>
                            <p:childTnLst>
                              <p:par>
                                <p:cTn id="9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2500"/>
                            </p:stCondLst>
                            <p:childTnLst>
                              <p:par>
                                <p:cTn id="93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3000"/>
                            </p:stCondLst>
                            <p:childTnLst>
                              <p:par>
                                <p:cTn id="94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3500"/>
                            </p:stCondLst>
                            <p:childTnLst>
                              <p:par>
                                <p:cTn id="94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"/>
          <p:cNvGrpSpPr/>
          <p:nvPr/>
        </p:nvGrpSpPr>
        <p:grpSpPr>
          <a:xfrm>
            <a:off x="566640" y="4718160"/>
            <a:ext cx="2584440" cy="846000"/>
            <a:chOff x="566640" y="4718160"/>
            <a:chExt cx="2584440" cy="846000"/>
          </a:xfrm>
        </p:grpSpPr>
        <p:sp>
          <p:nvSpPr>
            <p:cNvPr id="293" name=""/>
            <p:cNvSpPr/>
            <p:nvPr/>
          </p:nvSpPr>
          <p:spPr>
            <a:xfrm>
              <a:off x="566640" y="471816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9200" y="477612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66640" y="3833640"/>
            <a:ext cx="2584440" cy="846360"/>
            <a:chOff x="566640" y="3833640"/>
            <a:chExt cx="2584440" cy="846360"/>
          </a:xfrm>
        </p:grpSpPr>
        <p:sp>
          <p:nvSpPr>
            <p:cNvPr id="296" name=""/>
            <p:cNvSpPr/>
            <p:nvPr/>
          </p:nvSpPr>
          <p:spPr>
            <a:xfrm>
              <a:off x="566640" y="3833640"/>
              <a:ext cx="2584440" cy="8463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5320" y="388728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Product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65200" y="2959200"/>
            <a:ext cx="2584440" cy="846000"/>
            <a:chOff x="565200" y="2959200"/>
            <a:chExt cx="2584440" cy="846000"/>
          </a:xfrm>
        </p:grpSpPr>
        <p:sp>
          <p:nvSpPr>
            <p:cNvPr id="299" name=""/>
            <p:cNvSpPr/>
            <p:nvPr/>
          </p:nvSpPr>
          <p:spPr>
            <a:xfrm>
              <a:off x="565200" y="295920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3880" y="3013200"/>
              <a:ext cx="2467080" cy="738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ital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160" y="518760"/>
            <a:ext cx="80010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and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Behavio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040200"/>
            <a:ext cx="4952880" cy="19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roduct market stakeholders (customers, suppliers and host communities) and organizational stakeholders may withdraw their support of the firm if their needs are not met, at least minim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2997360"/>
            <a:ext cx="609840" cy="2082600"/>
          </a:xfrm>
          <a:custGeom>
            <a:avLst/>
            <a:gdLst>
              <a:gd name="textAreaLeft" fmla="*/ 389520 w 609840"/>
              <a:gd name="textAreaRight" fmla="*/ 610200 w 609840"/>
              <a:gd name="textAreaTop" fmla="*/ 360 h 2082600"/>
              <a:gd name="textAreaBottom" fmla="*/ 2082240 h 2082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3001"/>
                </a:lnTo>
                <a:cubicBezTo>
                  <a:pt x="10800" y="13012"/>
                  <a:pt x="5400" y="13023"/>
                  <a:pt x="0" y="13023"/>
                </a:cubicBezTo>
                <a:cubicBezTo>
                  <a:pt x="5400" y="13023"/>
                  <a:pt x="10800" y="13034"/>
                  <a:pt x="10800" y="13045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752480" y="1905120"/>
            <a:ext cx="563904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t is important to serve the interests of the firm’s multiple stakeholder grou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DA8E8-A54B-4D06-9DA2-7DC850BB063C}" type="slidenum">
              <a:t>35</a:t>
            </a:fld>
          </a:p>
        </p:txBody>
      </p:sp>
    </p:spTree>
  </p:cSld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0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500"/>
                            </p:stCondLst>
                            <p:childTnLst>
                              <p:par>
                                <p:cTn id="96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124080" y="2971800"/>
            <a:ext cx="609840" cy="2743200"/>
          </a:xfrm>
          <a:custGeom>
            <a:avLst/>
            <a:gdLst>
              <a:gd name="textAreaLeft" fmla="*/ 389520 w 609840"/>
              <a:gd name="textAreaRight" fmla="*/ 610200 w 609840"/>
              <a:gd name="textAreaTop" fmla="*/ 720 h 2743200"/>
              <a:gd name="textAreaBottom" fmla="*/ 274248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6703"/>
                </a:lnTo>
                <a:cubicBezTo>
                  <a:pt x="10800" y="16714"/>
                  <a:pt x="5400" y="16725"/>
                  <a:pt x="0" y="16725"/>
                </a:cubicBezTo>
                <a:cubicBezTo>
                  <a:pt x="5400" y="16725"/>
                  <a:pt x="10800" y="16736"/>
                  <a:pt x="10800" y="16747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66640" y="3822840"/>
            <a:ext cx="2584440" cy="846000"/>
            <a:chOff x="566640" y="3822840"/>
            <a:chExt cx="2584440" cy="846000"/>
          </a:xfrm>
        </p:grpSpPr>
        <p:sp>
          <p:nvSpPr>
            <p:cNvPr id="307" name=""/>
            <p:cNvSpPr/>
            <p:nvPr/>
          </p:nvSpPr>
          <p:spPr>
            <a:xfrm>
              <a:off x="566640" y="382284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25320" y="387648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Product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566640" y="4710240"/>
            <a:ext cx="2584440" cy="846000"/>
            <a:chOff x="566640" y="4710240"/>
            <a:chExt cx="2584440" cy="846000"/>
          </a:xfrm>
        </p:grpSpPr>
        <p:sp>
          <p:nvSpPr>
            <p:cNvPr id="310" name=""/>
            <p:cNvSpPr/>
            <p:nvPr/>
          </p:nvSpPr>
          <p:spPr>
            <a:xfrm>
              <a:off x="566640" y="471024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19200" y="476820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565200" y="2951280"/>
            <a:ext cx="2584440" cy="846000"/>
            <a:chOff x="565200" y="2951280"/>
            <a:chExt cx="2584440" cy="846000"/>
          </a:xfrm>
        </p:grpSpPr>
        <p:sp>
          <p:nvSpPr>
            <p:cNvPr id="313" name=""/>
            <p:cNvSpPr/>
            <p:nvPr/>
          </p:nvSpPr>
          <p:spPr>
            <a:xfrm>
              <a:off x="565200" y="295128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23880" y="3005280"/>
              <a:ext cx="2467080" cy="738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ital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160" y="518760"/>
            <a:ext cx="80010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and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Behavio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6" name=""/>
          <p:cNvSpPr/>
          <p:nvPr/>
        </p:nvSpPr>
        <p:spPr>
          <a:xfrm>
            <a:off x="1790640" y="1905120"/>
            <a:ext cx="556272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t is important to serve the interests of the firm’s multiple stakeholder grou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5320" y="3014640"/>
            <a:ext cx="495288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ome observers believe that ethically responsible companies design and use governance mechanisms that serve all stakeholders’ inter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mportance of maintaining ethical behavior is seen in the examples of Enron, WorldCom, HealthSouth and Ty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46D8F-980F-4862-93B0-5E9378ABE179}" type="slidenum">
              <a:t>36</a:t>
            </a:fld>
          </a:p>
        </p:txBody>
      </p:sp>
    </p:spTree>
  </p:cSld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0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500"/>
                            </p:stCondLst>
                            <p:childTnLst>
                              <p:par>
                                <p:cTn id="97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1000"/>
                            </p:stCondLst>
                            <p:childTnLst>
                              <p:par>
                                <p:cTn id="9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 Govern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 governance i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relationship among stakeholders that is used to determine and control the strategic direction and performance of organiz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ed with identifying ways to ensure that strategic decisions are made more effective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sed in corporations to establish order between the firm’s owners and its top-level managers whose interests may be in confli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C983A-D14F-49A6-9F95-DA43DCAA1C10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Governance Mechanis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7992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ship Concentr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lative amounts of stock owned by individual shareholders and institutional investo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oard of Directo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viduals responsible </a:t>
            </a:r>
            <a:br>
              <a:rPr sz="2400"/>
            </a:b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representing the firm’s </a:t>
            </a:r>
            <a:br>
              <a:rPr sz="2400"/>
            </a:b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wners by monitoring top-level managers’ strategic decis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486400" y="2401920"/>
            <a:ext cx="2801880" cy="209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51876-1277-4166-B0BE-08767C033172}" type="slidenum">
              <a:t>5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486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xecutive Compens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use of salary, bonuses, and long-term incentives to align managers’ interests with shareholders’ intere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 for Corporate Contro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purchase of a firm that is underperforming relative to industry rivals in order to improve its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791320" y="2009880"/>
            <a:ext cx="2879640" cy="286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DA79B-DE58-4C95-97E1-B743E9C9C2FF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23888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paration of Ownership and Managerial Contro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asis of the modern corpor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s purchase stock, becoming residual claimant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s reduce risk by holding diversified portfolio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fessional managers are contracted to provide decision making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odern public corporation form leads to efficient specialization of task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Risk bearing by sharehold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rategy development and decision making by manag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2E880-68CC-46FB-85FB-5B9585B17531}" type="slidenum">
              <a:t>7</a:t>
            </a:fld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463680"/>
            <a:ext cx="79344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0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gency Relationship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17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391520" cy="453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A29B3-4820-4A0B-9E44-39F991B56762}" type="slidenum">
              <a:t>8</a:t>
            </a:fld>
          </a:p>
        </p:txBody>
      </p:sp>
    </p:spTree>
  </p:cSld>
  <p:transition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gency Relationship Proble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incipal and agent have divergent interests and goa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hareholders lack direct control of large, publicly traded corpora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gent makes decisions that result in the pursuit of goals that conflict with those of the princip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t is difficult or expensive for the principal to verify that the agent has behaved appropriatel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gent falls prey to managerial opportunis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F455D-F8FE-412C-8F50-A1EC7821D0B7}" type="slidenum">
              <a:t>9</a:t>
            </a:fld>
          </a:p>
        </p:txBody>
      </p:sp>
    </p:spTree>
  </p:cSld>
  <p:transition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8:42Z</dcterms:modified>
  <cp:revision>46</cp:revision>
  <dc:subject>Chapter 10</dc:subject>
  <dc:title>Strategic Management 7e.</dc:title>
</cp:coreProperties>
</file>