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A83F9-25B8-4FC7-B80B-40FE9AB64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BDF0A-248E-4C03-B1DB-1416CDDD8B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B31BE-F866-456B-8913-90B58C1983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414B1-58C5-4CEE-AE61-DEDC6EEFD3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3D5FC-259E-4451-9451-BD8A57079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91F21-DED9-41D8-84B6-A3E8766077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82D30-B517-40DD-9E10-C43B08223B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B9287-AB19-4C8F-9336-34CD70CC9E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78186-C37C-41F1-A940-A8A4271C15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8D108-DBF7-482F-8AB4-B52D44266A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CC832-C7B4-4DE4-A1CB-7A656ED8CF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8D20D-CB19-4AD5-A359-023D84D4CF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68AF6-60D1-447E-8DDE-679A681A4C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2D6E5-F090-47F4-A6C5-7E447B8E1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5C207-1AD2-4C9E-BC95-B83EEF77DD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322C3-D4AB-4114-A63E-02F39EB16F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67BBF-34F0-46F1-AEC9-E119D8B8A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4D5C4-6AE4-46BD-BC19-1FB3E0D6F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D16CB-D2BD-4946-BD74-79803B13F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63852-35E2-45DC-90A5-13B7E3A53C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5C213-FCED-4762-80FB-C8776DD1AE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BB399-8EBB-4299-A55A-AA4CD0D1A7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E01BA-0338-4FC7-B98A-5B0CF99530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FD0BB-254A-43E0-B998-3E4C26B869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0A037-EFF4-4B34-9157-F187EA314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C8B62-89B6-49B7-9E13-2F5978A1F2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6AEDC-877F-4691-9528-AEB2FE0988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A6EEE-7E76-4DDD-B7A7-7B739697BC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A0FB5-2369-4C6A-8040-922208B4A8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84B85-4EA5-4EEB-90CC-655C0B1DCB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5746F-4923-4C9F-89B9-99B00BD9B9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594A3-CBF1-4B55-9A9F-FE184747C2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D735C-DDF0-4B35-A687-ABC82C1F75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85737-D432-4E3E-93FD-5D36356156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66708-A3EC-4D96-ABC8-4948AECA4F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A50EE-2219-4F50-B2C7-534C639554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212CB-4649-43DC-ADAD-7949EB95A0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4EB1A-1DAD-4383-BF50-2BA1DAAB65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7371B-EBE0-43A8-AD14-294BB4F689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EAD98-52CA-4B21-AF42-A4A4993C7A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–</a:t>
            </a:r>
            <a:fld id="{DA9426D4-244A-4214-AF25-CF65F3FC10E5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306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48120"/>
            <a:ext cx="213372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2590920"/>
            <a:ext cx="556272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ahoma"/>
              </a:rPr>
              <a:t>CHAPTER 9</a:t>
            </a:r>
            <a:br>
              <a:rPr sz="28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Cooperative Strategy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asons for Strategic Allianc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219320"/>
            <a:ext cx="156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24080" y="1219320"/>
            <a:ext cx="49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R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7360" y="1884240"/>
            <a:ext cx="28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low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24080" y="1884240"/>
            <a:ext cx="5440320" cy="30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in access to a restricted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a franchise in a new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market stability (e.g., establishing standar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D7B4A-8976-4268-B616-17B3EE001862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asons for Strategic Allianc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1219320"/>
            <a:ext cx="195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1219320"/>
            <a:ext cx="49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R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19080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Fast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95480" y="1908000"/>
            <a:ext cx="5410440" cy="40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up development of new goods or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up new market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market 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an industry technology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 risky R&amp;D expe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come uncertain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E15BB-9EED-48DF-9A9C-2B2E51FC99BE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asons for Strategic Allianc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121932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98760" y="1219320"/>
            <a:ext cx="49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R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1851120"/>
            <a:ext cx="28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Standard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98760" y="1851120"/>
            <a:ext cx="521172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in market power (reduce industry overcapac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in access to complementary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 economies of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come trade b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 competitive challenges from other 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l resources for very large capital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new business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B5FE6-0E35-4596-9C28-EB1C024469B6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93440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9.1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siness-Level Cooperative Strategi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45720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57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390680" y="1333440"/>
            <a:ext cx="6362640" cy="419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1725C-3C0C-45C2-937C-054D4CD223F5}" type="slidenum">
              <a:t>13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usiness-Level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05280" y="1371600"/>
            <a:ext cx="4781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mbine partner firms’ assets in complementary ways to create new valu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nclude distribution, supplier or outsourcing alliances where firms rely on upstream or downstream partners to build competitive advantag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352680" y="1371600"/>
            <a:ext cx="838440" cy="2819520"/>
          </a:xfrm>
          <a:custGeom>
            <a:avLst/>
            <a:gdLst>
              <a:gd name="textAreaLeft" fmla="*/ 535680 w 838440"/>
              <a:gd name="textAreaRight" fmla="*/ 838800 w 838440"/>
              <a:gd name="textAreaTop" fmla="*/ 0 h 2819520"/>
              <a:gd name="textAreaBottom" fmla="*/ 28198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3892"/>
                </a:lnTo>
                <a:cubicBezTo>
                  <a:pt x="10800" y="3892"/>
                  <a:pt x="5400" y="3892"/>
                  <a:pt x="0" y="3892"/>
                </a:cubicBezTo>
                <a:cubicBezTo>
                  <a:pt x="5400" y="3892"/>
                  <a:pt x="10800" y="3892"/>
                  <a:pt x="10800" y="3892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9360" y="1332000"/>
            <a:ext cx="2955960" cy="1030320"/>
            <a:chOff x="549360" y="1332000"/>
            <a:chExt cx="2955960" cy="1030320"/>
          </a:xfrm>
        </p:grpSpPr>
        <p:sp>
          <p:nvSpPr>
            <p:cNvPr id="164" name=""/>
            <p:cNvSpPr/>
            <p:nvPr/>
          </p:nvSpPr>
          <p:spPr>
            <a:xfrm>
              <a:off x="549360" y="1332000"/>
              <a:ext cx="2955960" cy="10303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05520" y="1390680"/>
              <a:ext cx="2842920" cy="9129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Complement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D92B7-EB17-48BD-8457-99DC09F14B1D}" type="slidenum">
              <a:t>14</a:t>
            </a:fld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870200" y="304920"/>
            <a:ext cx="5445000" cy="60195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rcRect l="686" t="0" r="3416" b="0"/>
          <a:stretch/>
        </p:blipFill>
        <p:spPr>
          <a:xfrm>
            <a:off x="6578640" y="4572000"/>
            <a:ext cx="2066760" cy="16765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934320" y="4686480"/>
            <a:ext cx="1752480" cy="1496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9.2</a:t>
            </a:r>
            <a:r>
              <a:rPr b="1" i="1" lang="en-US" sz="1200" spc="-1" strike="noStrike">
                <a:solidFill>
                  <a:srgbClr val="cc33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rtical and Horizontal Complementary Strategic Alliances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6856560" y="4718160"/>
            <a:ext cx="0" cy="47916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627960" y="501480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0AF95-A43D-4131-A054-AE79095777EF}" type="slidenum">
              <a:t>15</a:t>
            </a:fld>
          </a:p>
        </p:txBody>
      </p:sp>
    </p:spTree>
  </p:cSld>
  <p:transition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lementary Strategic Allianc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3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Vertical Complementary Strategic Allianc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Formed between firms that agree to use their skills and capabilities in different stages of the value chain to create value for both firm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sourcing is one example of this type of alli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3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rizontal Complementary Strategic Allianc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Formed when partners who agree to combine their resources and skills to create value in the same stage of the value chain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 is on long-term product development and distribution opportun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artners may become competitors which requires a great deal of trust between the partn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20B32-8D0D-4BB8-A37E-5135D924D79B}" type="slidenum">
              <a:t>16</a:t>
            </a:fld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ion Response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062240" y="1409400"/>
            <a:ext cx="4624560" cy="33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81520" indent="-281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Occur when firms join forces to respond to a strategic action of another competitor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1520" indent="-281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Because they can be difficult to reverse and expensive to operate, strategic alliances are primarily formed to respond to strategic rather than tactical act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05320" y="1447920"/>
            <a:ext cx="838080" cy="335268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3352680"/>
              <a:gd name="textAreaBottom" fmla="*/ 3353040 h 3352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299"/>
                </a:lnTo>
                <a:cubicBezTo>
                  <a:pt x="10800" y="10299"/>
                  <a:pt x="5400" y="10299"/>
                  <a:pt x="0" y="10299"/>
                </a:cubicBezTo>
                <a:cubicBezTo>
                  <a:pt x="5400" y="10299"/>
                  <a:pt x="10800" y="10299"/>
                  <a:pt x="10800" y="10299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20560" y="1407960"/>
            <a:ext cx="3124440" cy="1106280"/>
            <a:chOff x="520560" y="1407960"/>
            <a:chExt cx="3124440" cy="1106280"/>
          </a:xfrm>
        </p:grpSpPr>
        <p:sp>
          <p:nvSpPr>
            <p:cNvPr id="177" name=""/>
            <p:cNvSpPr/>
            <p:nvPr/>
          </p:nvSpPr>
          <p:spPr>
            <a:xfrm>
              <a:off x="520560" y="1407960"/>
              <a:ext cx="3124440" cy="1106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9960" y="1470960"/>
              <a:ext cx="3005280" cy="980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mplement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533520" y="2548080"/>
            <a:ext cx="3124080" cy="1053720"/>
            <a:chOff x="533520" y="2548080"/>
            <a:chExt cx="3124080" cy="1053720"/>
          </a:xfrm>
        </p:grpSpPr>
        <p:sp>
          <p:nvSpPr>
            <p:cNvPr id="180" name=""/>
            <p:cNvSpPr/>
            <p:nvPr/>
          </p:nvSpPr>
          <p:spPr>
            <a:xfrm>
              <a:off x="533520" y="2548080"/>
              <a:ext cx="3124080" cy="10537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92920" y="2607840"/>
              <a:ext cx="3004920" cy="9338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Competition 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Response 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EF4FD-0205-4E89-B065-91C419A0D8FE}" type="slidenum">
              <a:t>17</a:t>
            </a:fld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6699"/>
                </a:solidFill>
                <a:uFillTx/>
                <a:latin typeface="Tahoma"/>
              </a:rPr>
              <a:t>Uncertainty-Reducing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062240" y="1379520"/>
            <a:ext cx="454680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re used to hedge against risk and uncertainty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ese alliances are most noticed in fast-cycle market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n alliance may be formed to reduce the uncertainty associated with developing new product or technology standard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1447920"/>
            <a:ext cx="838080" cy="342900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6930"/>
                </a:lnTo>
                <a:cubicBezTo>
                  <a:pt x="10800" y="16930"/>
                  <a:pt x="5400" y="16930"/>
                  <a:pt x="0" y="16930"/>
                </a:cubicBezTo>
                <a:cubicBezTo>
                  <a:pt x="5400" y="16930"/>
                  <a:pt x="10800" y="16930"/>
                  <a:pt x="10800" y="1693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20560" y="1422360"/>
            <a:ext cx="3124440" cy="1106280"/>
            <a:chOff x="520560" y="1422360"/>
            <a:chExt cx="3124440" cy="1106280"/>
          </a:xfrm>
        </p:grpSpPr>
        <p:sp>
          <p:nvSpPr>
            <p:cNvPr id="186" name=""/>
            <p:cNvSpPr/>
            <p:nvPr/>
          </p:nvSpPr>
          <p:spPr>
            <a:xfrm>
              <a:off x="520560" y="1422360"/>
              <a:ext cx="3124440" cy="1106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79960" y="1485360"/>
              <a:ext cx="3005280" cy="980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mplement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533520" y="2560680"/>
            <a:ext cx="3124080" cy="1053720"/>
            <a:chOff x="533520" y="2560680"/>
            <a:chExt cx="3124080" cy="1053720"/>
          </a:xfrm>
        </p:grpSpPr>
        <p:sp>
          <p:nvSpPr>
            <p:cNvPr id="189" name=""/>
            <p:cNvSpPr/>
            <p:nvPr/>
          </p:nvSpPr>
          <p:spPr>
            <a:xfrm>
              <a:off x="533520" y="2560680"/>
              <a:ext cx="3124080" cy="10537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92920" y="2620440"/>
              <a:ext cx="3004920" cy="9338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mpetition 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esponse 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533520" y="3643200"/>
            <a:ext cx="3124080" cy="1066680"/>
            <a:chOff x="533520" y="3643200"/>
            <a:chExt cx="3124080" cy="1066680"/>
          </a:xfrm>
        </p:grpSpPr>
        <p:sp>
          <p:nvSpPr>
            <p:cNvPr id="192" name=""/>
            <p:cNvSpPr/>
            <p:nvPr/>
          </p:nvSpPr>
          <p:spPr>
            <a:xfrm>
              <a:off x="533520" y="3643200"/>
              <a:ext cx="3124080" cy="10666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92920" y="3703680"/>
              <a:ext cx="3004920" cy="945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Uncertainty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Reducing 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F3D5E-CD67-475B-A461-1992FCF2C208}" type="slidenum">
              <a:t>18</a:t>
            </a:fld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6699"/>
                </a:solidFill>
                <a:uFillTx/>
                <a:latin typeface="Tahoma"/>
              </a:rPr>
              <a:t>Competition-Reducing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038480" y="2161800"/>
            <a:ext cx="4648320" cy="35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Created to avoid destructive or excessive competition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287280" indent="-287280">
              <a:spcBef>
                <a:spcPts val="4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Explicit collusion: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when firms directly negotiate production output and pricing agreements in order to reduce competition (illegal)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287280" indent="-287280">
              <a:spcBef>
                <a:spcPts val="4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Tacit collusion: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when firms in an industry indirectly coordinate their production and pricing decisions by observing other firm’s actions and responses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2127240"/>
            <a:ext cx="838080" cy="365760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3657600"/>
              <a:gd name="textAreaBottom" fmla="*/ 3657960 h 36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8703"/>
                </a:lnTo>
                <a:cubicBezTo>
                  <a:pt x="10800" y="18703"/>
                  <a:pt x="5400" y="18703"/>
                  <a:pt x="0" y="18703"/>
                </a:cubicBezTo>
                <a:cubicBezTo>
                  <a:pt x="5400" y="18703"/>
                  <a:pt x="10800" y="18703"/>
                  <a:pt x="10800" y="18703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520560" y="1422360"/>
            <a:ext cx="3124440" cy="1106280"/>
            <a:chOff x="520560" y="1422360"/>
            <a:chExt cx="3124440" cy="1106280"/>
          </a:xfrm>
        </p:grpSpPr>
        <p:sp>
          <p:nvSpPr>
            <p:cNvPr id="198" name=""/>
            <p:cNvSpPr/>
            <p:nvPr/>
          </p:nvSpPr>
          <p:spPr>
            <a:xfrm>
              <a:off x="520560" y="1422360"/>
              <a:ext cx="3124440" cy="1106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79960" y="1485360"/>
              <a:ext cx="3005280" cy="980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mplement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533520" y="2560680"/>
            <a:ext cx="3124080" cy="1053720"/>
            <a:chOff x="533520" y="2560680"/>
            <a:chExt cx="3124080" cy="1053720"/>
          </a:xfrm>
        </p:grpSpPr>
        <p:sp>
          <p:nvSpPr>
            <p:cNvPr id="201" name=""/>
            <p:cNvSpPr/>
            <p:nvPr/>
          </p:nvSpPr>
          <p:spPr>
            <a:xfrm>
              <a:off x="533520" y="2560680"/>
              <a:ext cx="3124080" cy="10537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2920" y="2620440"/>
              <a:ext cx="3004920" cy="9338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mpetition 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esponse 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533520" y="3643200"/>
            <a:ext cx="3124080" cy="1066680"/>
            <a:chOff x="533520" y="3643200"/>
            <a:chExt cx="3124080" cy="1066680"/>
          </a:xfrm>
        </p:grpSpPr>
        <p:sp>
          <p:nvSpPr>
            <p:cNvPr id="204" name=""/>
            <p:cNvSpPr/>
            <p:nvPr/>
          </p:nvSpPr>
          <p:spPr>
            <a:xfrm>
              <a:off x="533520" y="3643200"/>
              <a:ext cx="3124080" cy="10666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2920" y="3703680"/>
              <a:ext cx="3004920" cy="945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ncertaint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educing 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33520" y="4724280"/>
            <a:ext cx="3124080" cy="1066680"/>
            <a:chOff x="533520" y="4724280"/>
            <a:chExt cx="3124080" cy="1066680"/>
          </a:xfrm>
        </p:grpSpPr>
        <p:sp>
          <p:nvSpPr>
            <p:cNvPr id="207" name=""/>
            <p:cNvSpPr/>
            <p:nvPr/>
          </p:nvSpPr>
          <p:spPr>
            <a:xfrm>
              <a:off x="533520" y="4724280"/>
              <a:ext cx="3124080" cy="10666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92920" y="4784760"/>
              <a:ext cx="3004920" cy="945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Competition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Reducing 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85D11-D1DA-4DEA-BE45-3C6AEA312FAA}" type="slidenum">
              <a:t>19</a:t>
            </a:fld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cooperative strategies and explain why firms use them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nd discuss three types of strategic allianc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the business-level cooperative strategies and describe their us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use of corporate-level cooperative strategies in diversified firm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importance of cross-border strategic alliances as an international cooperative strategy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29216-18FE-4EC6-847E-D39792B5EAED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ssessment of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mplementary business-level strategic alliances, especially the vertical ones, have the greatest probability of creating a sustainable competitive advantag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rizontal complementary alliances are sometimes difficult to maintain because they are often between rival competitor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mpetitive advantages gained from competition and uncertainty reducing strategies tend to be temporary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80F2C-4873-4FA9-A8CB-F300A9D8E950}" type="slidenum">
              <a:t>20</a:t>
            </a:fld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463680"/>
            <a:ext cx="793440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9.3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rporate-Level Cooperative Strategies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45720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14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523880" y="1576440"/>
            <a:ext cx="6043680" cy="310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7F69D-A958-4519-9EFE-03D8B659E549}" type="slidenum">
              <a:t>21</a:t>
            </a:fld>
          </a:p>
        </p:txBody>
      </p:sp>
    </p:spTree>
  </p:cSld>
  <p:transition>
    <p:random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-Level Cooperative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-level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elp the firm diversify in terms of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s offered to the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rkets it ser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quire fewer resource commitmen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ermit greater flexibility in terms of efforts to diversify partners’ opera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A661D-5293-4F1C-A6A5-A4E9922DAB41}" type="slidenum">
              <a:t>22</a:t>
            </a:fld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6699"/>
                </a:solidFill>
                <a:uFillTx/>
                <a:latin typeface="Tahoma"/>
              </a:rPr>
              <a:t>Diversifying Strategic Allianc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009680" y="1447920"/>
            <a:ext cx="45464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llows a firm to expand into new product or market areas without completing a merger or an acquisition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Provides some of the potential synergistic benefits of a merger or acquisition, but with less risk and greater levels of flexibilit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Permits a “test” of whether a future merger between the partners would benefit both parties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505320" y="1447920"/>
            <a:ext cx="838080" cy="358128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3581280"/>
              <a:gd name="textAreaBottom" fmla="*/ 3581640 h 358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3255"/>
                </a:lnTo>
                <a:cubicBezTo>
                  <a:pt x="10800" y="3255"/>
                  <a:pt x="5400" y="3255"/>
                  <a:pt x="0" y="3255"/>
                </a:cubicBezTo>
                <a:cubicBezTo>
                  <a:pt x="5400" y="3255"/>
                  <a:pt x="10800" y="3255"/>
                  <a:pt x="10800" y="3255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20560" y="1422360"/>
            <a:ext cx="3124440" cy="1066320"/>
            <a:chOff x="520560" y="1422360"/>
            <a:chExt cx="3124440" cy="1066320"/>
          </a:xfrm>
        </p:grpSpPr>
        <p:sp>
          <p:nvSpPr>
            <p:cNvPr id="223" name=""/>
            <p:cNvSpPr/>
            <p:nvPr/>
          </p:nvSpPr>
          <p:spPr>
            <a:xfrm>
              <a:off x="520560" y="1422360"/>
              <a:ext cx="3124440" cy="10663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79960" y="1482840"/>
              <a:ext cx="3005280" cy="945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Diversifying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Strategic Alli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2AF5D-F99C-43F8-89FC-264765631D70}" type="slidenum">
              <a:t>23</a:t>
            </a:fld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6699"/>
                </a:solidFill>
                <a:uFillTx/>
                <a:latin typeface="Tahoma"/>
              </a:rPr>
              <a:t>Synergistic Strategic Allianc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962160" y="1483920"/>
            <a:ext cx="4546440" cy="27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reates joint economies of scope between two or more firm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7280" indent="-2872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reates synergy across multiple functions or multiple businesses between partner firm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505320" y="1447920"/>
            <a:ext cx="838080" cy="274320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2743200"/>
              <a:gd name="textAreaBottom" fmla="*/ 274356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2850"/>
                </a:lnTo>
                <a:cubicBezTo>
                  <a:pt x="10800" y="12850"/>
                  <a:pt x="5400" y="12850"/>
                  <a:pt x="0" y="12850"/>
                </a:cubicBezTo>
                <a:cubicBezTo>
                  <a:pt x="5400" y="12850"/>
                  <a:pt x="10800" y="12850"/>
                  <a:pt x="10800" y="1285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520560" y="1422360"/>
            <a:ext cx="3124440" cy="1106280"/>
            <a:chOff x="520560" y="1422360"/>
            <a:chExt cx="3124440" cy="1106280"/>
          </a:xfrm>
        </p:grpSpPr>
        <p:sp>
          <p:nvSpPr>
            <p:cNvPr id="229" name=""/>
            <p:cNvSpPr/>
            <p:nvPr/>
          </p:nvSpPr>
          <p:spPr>
            <a:xfrm>
              <a:off x="520560" y="1422360"/>
              <a:ext cx="3124440" cy="1106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79960" y="1485360"/>
              <a:ext cx="3005280" cy="980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versifying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rategic Alli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520560" y="2552760"/>
            <a:ext cx="3124440" cy="1066320"/>
            <a:chOff x="520560" y="2552760"/>
            <a:chExt cx="3124440" cy="1066320"/>
          </a:xfrm>
        </p:grpSpPr>
        <p:sp>
          <p:nvSpPr>
            <p:cNvPr id="232" name=""/>
            <p:cNvSpPr/>
            <p:nvPr/>
          </p:nvSpPr>
          <p:spPr>
            <a:xfrm>
              <a:off x="520560" y="2552760"/>
              <a:ext cx="3124440" cy="10663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79960" y="2613240"/>
              <a:ext cx="3005280" cy="945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Synergistic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Strategic Alli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ABF9B-9CFD-454C-8CF9-C8122337C988}" type="slidenum">
              <a:t>24</a:t>
            </a:fld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6699"/>
                </a:solidFill>
                <a:uFillTx/>
                <a:latin typeface="Tahoma"/>
              </a:rPr>
              <a:t>Franchising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062240" y="1430280"/>
            <a:ext cx="45468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preads risks and uses resources, capabilities, and competencies without merging or acquiring another compan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 contractual relationship (the franchise) is developed between two parties, the franchisee and the franchisor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n alternative to pursuing growth through mergers and acquisitions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505320" y="1447920"/>
            <a:ext cx="838080" cy="327636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3276360"/>
              <a:gd name="textAreaBottom" fmla="*/ 3276720 h 32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7916"/>
                </a:lnTo>
                <a:cubicBezTo>
                  <a:pt x="10800" y="17916"/>
                  <a:pt x="5400" y="17916"/>
                  <a:pt x="0" y="17916"/>
                </a:cubicBezTo>
                <a:cubicBezTo>
                  <a:pt x="5400" y="17916"/>
                  <a:pt x="10800" y="17916"/>
                  <a:pt x="10800" y="17916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520560" y="1422360"/>
            <a:ext cx="3124440" cy="1106280"/>
            <a:chOff x="520560" y="1422360"/>
            <a:chExt cx="3124440" cy="1106280"/>
          </a:xfrm>
        </p:grpSpPr>
        <p:sp>
          <p:nvSpPr>
            <p:cNvPr id="238" name=""/>
            <p:cNvSpPr/>
            <p:nvPr/>
          </p:nvSpPr>
          <p:spPr>
            <a:xfrm>
              <a:off x="520560" y="1422360"/>
              <a:ext cx="3124440" cy="1106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79960" y="1485360"/>
              <a:ext cx="3005280" cy="980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versifying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rategic Alli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520560" y="2560680"/>
            <a:ext cx="3124440" cy="1053720"/>
            <a:chOff x="520560" y="2560680"/>
            <a:chExt cx="3124440" cy="1053720"/>
          </a:xfrm>
        </p:grpSpPr>
        <p:sp>
          <p:nvSpPr>
            <p:cNvPr id="241" name=""/>
            <p:cNvSpPr/>
            <p:nvPr/>
          </p:nvSpPr>
          <p:spPr>
            <a:xfrm>
              <a:off x="520560" y="2560680"/>
              <a:ext cx="3124440" cy="10537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79960" y="2620440"/>
              <a:ext cx="3005280" cy="9338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nergistic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rategic Alli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520560" y="3643200"/>
            <a:ext cx="3124440" cy="1066680"/>
            <a:chOff x="520560" y="3643200"/>
            <a:chExt cx="3124440" cy="1066680"/>
          </a:xfrm>
        </p:grpSpPr>
        <p:sp>
          <p:nvSpPr>
            <p:cNvPr id="244" name=""/>
            <p:cNvSpPr/>
            <p:nvPr/>
          </p:nvSpPr>
          <p:spPr>
            <a:xfrm>
              <a:off x="520560" y="3643200"/>
              <a:ext cx="3124440" cy="10666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79960" y="3703680"/>
              <a:ext cx="3005280" cy="945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Franchis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D3633-B936-4935-B02C-653673930557}" type="slidenum">
              <a:t>25</a:t>
            </a:fld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ssessment of Corporate-Level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782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ared to business-level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625320" indent="-2840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roader in scope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 More complex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625320" indent="-2840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re costl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22120" indent="-2221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an lead to competitive advantage and value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625320" indent="-2840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ccessful alliance experiences are internal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625320" indent="-2840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irm uses such strategies to develop useful knowledge about how to succeed in the futur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E6F5D-CDAC-45DF-B945-D72611B57DEA}" type="slidenum">
              <a:t>26</a:t>
            </a:fld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ross-border Strategic Allia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strategy in which firms with headquarters in different nations combine their resources and capabilities to create a competitive advanta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firm may form cross-border strategic alliances to leverage core competencies that are the foundation of its domestic success to expand into international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33E47-BE8D-4291-99EE-5F5D4F517984}" type="slidenum">
              <a:t>27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operative Strategi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ynergistic Strategic Allia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llows risk sharing by reducing financial invest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st partner knows local market and custom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national alliances can be difficult to manage due to differences in management styles, cultures or regulatory constrain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ust gauge partner’s strategic intent such that the partner does not gain access to important technology and become a competito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82B2C-2EFC-46E5-B7CD-F90FD1490D3B}" type="slidenum">
              <a:t>28</a:t>
            </a:fld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Network Cooperative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cooperative strategy wherein several firms agree to form multiple partnerships to achieve shared objectiv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able alliance network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ynamic alliance network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ive social relationships and interactions among partners are keys to a successful network cooperative strateg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8E060-1C2D-4978-A2E8-AFD22274FFE6}" type="slidenum">
              <a:t>29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cooperative strategies’ risks.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wo approaches used to manage cooperative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FA2C0-80C5-487B-BE43-004B036301F6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Network Cooperative Strategi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3962520" y="1528920"/>
            <a:ext cx="4495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Long term relationships that often appear in mature industries where demand is relatively constant and predic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table networks are built for 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exploitation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of the economies (scale and/or scope) available between the fi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505320" y="1523880"/>
            <a:ext cx="838080" cy="342900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2890"/>
                </a:lnTo>
                <a:cubicBezTo>
                  <a:pt x="10800" y="2890"/>
                  <a:pt x="5400" y="2890"/>
                  <a:pt x="0" y="2890"/>
                </a:cubicBezTo>
                <a:cubicBezTo>
                  <a:pt x="5400" y="2890"/>
                  <a:pt x="10800" y="2890"/>
                  <a:pt x="10800" y="289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520560" y="1419120"/>
            <a:ext cx="3124440" cy="1066680"/>
            <a:chOff x="520560" y="1419120"/>
            <a:chExt cx="3124440" cy="1066680"/>
          </a:xfrm>
        </p:grpSpPr>
        <p:sp>
          <p:nvSpPr>
            <p:cNvPr id="259" name=""/>
            <p:cNvSpPr/>
            <p:nvPr/>
          </p:nvSpPr>
          <p:spPr>
            <a:xfrm>
              <a:off x="520560" y="1419120"/>
              <a:ext cx="3124440" cy="10666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79960" y="1479600"/>
              <a:ext cx="3005280" cy="945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Stable Alliance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Networ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EEC5F-D66F-4B88-8D74-A5C199224C48}" type="slidenum">
              <a:t>30</a:t>
            </a:fld>
          </a:p>
        </p:txBody>
      </p:sp>
    </p:spTree>
  </p:cSld>
  <p:transition>
    <p:random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Network Cooperative Strategi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4038480" y="1479600"/>
            <a:ext cx="441972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rrangements that evolve in industries with rapid technological change leading to short product life cy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rimarily used to stimulate rapid, value-creating product innovation and subsequent successful market ent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urpose is often 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exploration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of new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505320" y="1447920"/>
            <a:ext cx="838080" cy="411480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4114800"/>
              <a:gd name="textAreaBottom" fmla="*/ 411516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8542"/>
                </a:lnTo>
                <a:cubicBezTo>
                  <a:pt x="10800" y="8542"/>
                  <a:pt x="5400" y="8542"/>
                  <a:pt x="0" y="8542"/>
                </a:cubicBezTo>
                <a:cubicBezTo>
                  <a:pt x="5400" y="8542"/>
                  <a:pt x="10800" y="8542"/>
                  <a:pt x="10800" y="8542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520560" y="1407960"/>
            <a:ext cx="3124440" cy="1106280"/>
            <a:chOff x="520560" y="1407960"/>
            <a:chExt cx="3124440" cy="1106280"/>
          </a:xfrm>
        </p:grpSpPr>
        <p:sp>
          <p:nvSpPr>
            <p:cNvPr id="265" name=""/>
            <p:cNvSpPr/>
            <p:nvPr/>
          </p:nvSpPr>
          <p:spPr>
            <a:xfrm>
              <a:off x="520560" y="1407960"/>
              <a:ext cx="3124440" cy="1106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79960" y="1470960"/>
              <a:ext cx="3005280" cy="980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able Allianc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520560" y="2552760"/>
            <a:ext cx="3124440" cy="1066320"/>
            <a:chOff x="520560" y="2552760"/>
            <a:chExt cx="3124440" cy="1066320"/>
          </a:xfrm>
        </p:grpSpPr>
        <p:sp>
          <p:nvSpPr>
            <p:cNvPr id="268" name=""/>
            <p:cNvSpPr/>
            <p:nvPr/>
          </p:nvSpPr>
          <p:spPr>
            <a:xfrm>
              <a:off x="520560" y="2552760"/>
              <a:ext cx="3124440" cy="10663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79960" y="2613240"/>
              <a:ext cx="3005280" cy="945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Dynamic Alliance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Networ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E4BA5-C36F-4273-BEDB-0E8A6C54E293}" type="slidenum">
              <a:t>31</a:t>
            </a:fld>
          </a:p>
        </p:txBody>
      </p:sp>
    </p:spTree>
  </p:cSld>
  <p:transition>
    <p:random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5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ive Risks of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artners may act opportunisticall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artners may misrepresent competencies brought to the partnership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artners fail to make committed resources and capabilities available to other partner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ne partner may make investments that are specific to the alliance while its partner does no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BC372-4397-4D72-A3DA-E37DE12B3471}" type="slidenum">
              <a:t>32</a:t>
            </a:fld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93440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9.4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naging Competitive Risks in Cooperative Strategi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457200" y="45720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75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8076960" cy="270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35017-9821-4A12-A890-66AA43E5B4D9}" type="slidenum">
              <a:t>33</a:t>
            </a:fld>
          </a:p>
        </p:txBody>
      </p:sp>
    </p:spTree>
  </p:cSld>
  <p:transition>
    <p:random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ing Risks in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670200" y="5724360"/>
            <a:ext cx="243072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Creating value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777960" y="4038480"/>
            <a:ext cx="2727360" cy="1295280"/>
            <a:chOff x="777960" y="4038480"/>
            <a:chExt cx="2727360" cy="1295280"/>
          </a:xfrm>
        </p:grpSpPr>
        <p:sp>
          <p:nvSpPr>
            <p:cNvPr id="281" name=""/>
            <p:cNvSpPr/>
            <p:nvPr/>
          </p:nvSpPr>
          <p:spPr>
            <a:xfrm>
              <a:off x="777960" y="4038480"/>
              <a:ext cx="2727360" cy="129528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29800" y="4112640"/>
              <a:ext cx="2623320" cy="114732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isk and Asset 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anagement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pproach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777960" y="5562720"/>
            <a:ext cx="2727360" cy="609480"/>
            <a:chOff x="777960" y="5562720"/>
            <a:chExt cx="2727360" cy="609480"/>
          </a:xfrm>
        </p:grpSpPr>
        <p:sp>
          <p:nvSpPr>
            <p:cNvPr id="284" name=""/>
            <p:cNvSpPr/>
            <p:nvPr/>
          </p:nvSpPr>
          <p:spPr>
            <a:xfrm>
              <a:off x="777960" y="5562720"/>
              <a:ext cx="2727360" cy="60948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29800" y="5597280"/>
              <a:ext cx="2623320" cy="54000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esired Outco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777960" y="1425600"/>
            <a:ext cx="2727360" cy="2231280"/>
            <a:chOff x="777960" y="1425600"/>
            <a:chExt cx="2727360" cy="2231280"/>
          </a:xfrm>
        </p:grpSpPr>
        <p:sp>
          <p:nvSpPr>
            <p:cNvPr id="287" name=""/>
            <p:cNvSpPr/>
            <p:nvPr/>
          </p:nvSpPr>
          <p:spPr>
            <a:xfrm>
              <a:off x="777960" y="1425600"/>
              <a:ext cx="2727360" cy="2231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29800" y="1552680"/>
              <a:ext cx="2623320" cy="1977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mpetitiv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is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9" name=""/>
          <p:cNvCxnSpPr>
            <a:stCxn id="287" idx="2"/>
            <a:endCxn id="281" idx="0"/>
          </p:cNvCxnSpPr>
          <p:nvPr/>
        </p:nvCxnSpPr>
        <p:spPr>
          <a:xfrm>
            <a:off x="2141280" y="3657600"/>
            <a:ext cx="1080" cy="381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290" name=""/>
          <p:cNvCxnSpPr>
            <a:stCxn id="281" idx="2"/>
            <a:endCxn id="284" idx="0"/>
          </p:cNvCxnSpPr>
          <p:nvPr/>
        </p:nvCxnSpPr>
        <p:spPr>
          <a:xfrm>
            <a:off x="2141280" y="5333760"/>
            <a:ext cx="1080" cy="229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291" name=""/>
          <p:cNvSpPr/>
          <p:nvPr/>
        </p:nvSpPr>
        <p:spPr>
          <a:xfrm>
            <a:off x="3598920" y="4114800"/>
            <a:ext cx="485928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Detailed contracts and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Developing trusting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598920" y="1495440"/>
            <a:ext cx="48592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nadequate contr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Misrepresentation of compet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Partners fail to use their complementary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Holding alliance partner’s specific investments ho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45F95-6CBC-4C65-83BB-4CC1BAD532F6}" type="slidenum">
              <a:t>34</a:t>
            </a:fld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ing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st Minimization Management Approach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ve formal contracts with partn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fy how strategy is to be monitor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fy how partner behavior is to be controll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t goals that minimize costs and to prevent opportunistic behavior by partn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3EF64-8D69-43B9-ABF9-779684959F24}" type="slidenum">
              <a:t>35</a:t>
            </a:fld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ing Cooperative Strategi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pportunity Maximization Approach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ximize partnership’s value-creation opportun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earn from each othe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lore additional marketplace possi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intain less formal contracts, fewer constrai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0A853-BECB-4847-BC11-95CFA15CEFE8}" type="slidenum">
              <a:t>36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operative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operative Strateg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strategy in which firms work together to achieve a shared objecti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operating with other firms is a strategy that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es value for a custom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ceeds the cost of constructing customer value in other way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ablishes a favorable position relative to  competit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2CD49-B7A0-4B8A-B858-B3EA4E1959A2}" type="slidenum">
              <a:t>4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Allianc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primary type of cooperative strategy in which firms combine some of their resources and capabilities to create a mutual competitive advantag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volves the exchange and sharing of resources and capabilities to co-develop or distribute goods and servic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quires cooperative behavior from all partn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F0D80-636F-455E-9BAB-67DC14BBA9B9}" type="slidenum">
              <a:t>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Alliance Behavio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xamples of cooperative behavior known to contribute to alliance succes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tively solving problem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eing trustworth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sistently pursuing ways to combine partners’ resources and capabilities to create valu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llaborative (Relational) Advantag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competitive advantage developed through a cooperative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DB036-7ABE-4E67-AD27-7CAA8C18C996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Allianc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021120" y="3057480"/>
            <a:ext cx="3105000" cy="1736640"/>
            <a:chOff x="3021120" y="3057480"/>
            <a:chExt cx="3105000" cy="1736640"/>
          </a:xfrm>
        </p:grpSpPr>
        <p:sp>
          <p:nvSpPr>
            <p:cNvPr id="111" name=""/>
            <p:cNvSpPr/>
            <p:nvPr/>
          </p:nvSpPr>
          <p:spPr>
            <a:xfrm>
              <a:off x="3021120" y="3057480"/>
              <a:ext cx="3105000" cy="173664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079800" y="3122280"/>
              <a:ext cx="2987640" cy="16052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Comb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re Competenc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907920" y="2157480"/>
            <a:ext cx="2725920" cy="1330200"/>
            <a:chOff x="907920" y="2157480"/>
            <a:chExt cx="2725920" cy="1330200"/>
          </a:xfrm>
        </p:grpSpPr>
        <p:sp>
          <p:nvSpPr>
            <p:cNvPr id="114" name=""/>
            <p:cNvSpPr/>
            <p:nvPr/>
          </p:nvSpPr>
          <p:spPr>
            <a:xfrm>
              <a:off x="907920" y="2157480"/>
              <a:ext cx="2725920" cy="13302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66960" y="2215800"/>
              <a:ext cx="2608200" cy="12124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re Competenc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662440" y="2155680"/>
            <a:ext cx="2725920" cy="1330200"/>
            <a:chOff x="5662440" y="2155680"/>
            <a:chExt cx="2725920" cy="1330200"/>
          </a:xfrm>
        </p:grpSpPr>
        <p:sp>
          <p:nvSpPr>
            <p:cNvPr id="117" name=""/>
            <p:cNvSpPr/>
            <p:nvPr/>
          </p:nvSpPr>
          <p:spPr>
            <a:xfrm>
              <a:off x="5662440" y="2155680"/>
              <a:ext cx="2725920" cy="1330200"/>
            </a:xfrm>
            <a:prstGeom prst="rect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721480" y="2214360"/>
              <a:ext cx="2608200" cy="12128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re Competenc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3139920" y="1449360"/>
            <a:ext cx="1409760" cy="1409760"/>
            <a:chOff x="3139920" y="1449360"/>
            <a:chExt cx="1409760" cy="1409760"/>
          </a:xfrm>
        </p:grpSpPr>
        <p:sp>
          <p:nvSpPr>
            <p:cNvPr id="120" name=""/>
            <p:cNvSpPr/>
            <p:nvPr/>
          </p:nvSpPr>
          <p:spPr>
            <a:xfrm>
              <a:off x="3139920" y="1449360"/>
              <a:ext cx="1409760" cy="140976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98960" y="1508040"/>
              <a:ext cx="1292040" cy="12924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Firm 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595760" y="1447920"/>
            <a:ext cx="1409760" cy="1409760"/>
            <a:chOff x="4595760" y="1447920"/>
            <a:chExt cx="1409760" cy="1409760"/>
          </a:xfrm>
        </p:grpSpPr>
        <p:sp>
          <p:nvSpPr>
            <p:cNvPr id="123" name=""/>
            <p:cNvSpPr/>
            <p:nvPr/>
          </p:nvSpPr>
          <p:spPr>
            <a:xfrm>
              <a:off x="4595760" y="1447920"/>
              <a:ext cx="1409760" cy="1409760"/>
            </a:xfrm>
            <a:prstGeom prst="ellipse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54440" y="1506600"/>
              <a:ext cx="1292400" cy="129204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Firm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312920" y="5191200"/>
            <a:ext cx="6521400" cy="965160"/>
            <a:chOff x="1312920" y="5191200"/>
            <a:chExt cx="6521400" cy="965160"/>
          </a:xfrm>
        </p:grpSpPr>
        <p:sp>
          <p:nvSpPr>
            <p:cNvPr id="126" name=""/>
            <p:cNvSpPr/>
            <p:nvPr/>
          </p:nvSpPr>
          <p:spPr>
            <a:xfrm>
              <a:off x="1312920" y="5191200"/>
              <a:ext cx="6521400" cy="965160"/>
            </a:xfrm>
            <a:prstGeom prst="rect">
              <a:avLst/>
            </a:prstGeom>
            <a:gradFill rotWithShape="0">
              <a:gsLst>
                <a:gs pos="0">
                  <a:srgbClr val="8643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363680" y="5249880"/>
              <a:ext cx="6418080" cy="8478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864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utual interests in designing, manufacturing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r distributing goods or serv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8" name=""/>
          <p:cNvCxnSpPr>
            <a:stCxn id="111" idx="2"/>
            <a:endCxn id="126" idx="0"/>
          </p:cNvCxnSpPr>
          <p:nvPr/>
        </p:nvCxnSpPr>
        <p:spPr>
          <a:xfrm>
            <a:off x="4573080" y="4793760"/>
            <a:ext cx="1080" cy="39780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lg" type="stealth" w="lg"/>
          </a:ln>
        </p:spPr>
      </p:cxnSp>
      <p:grpSp>
        <p:nvGrpSpPr>
          <p:cNvPr id="129" name=""/>
          <p:cNvGrpSpPr/>
          <p:nvPr/>
        </p:nvGrpSpPr>
        <p:grpSpPr>
          <a:xfrm>
            <a:off x="2260440" y="3483000"/>
            <a:ext cx="4613400" cy="453600"/>
            <a:chOff x="2260440" y="3483000"/>
            <a:chExt cx="4613400" cy="453600"/>
          </a:xfrm>
        </p:grpSpPr>
        <p:sp>
          <p:nvSpPr>
            <p:cNvPr id="130" name=""/>
            <p:cNvSpPr/>
            <p:nvPr/>
          </p:nvSpPr>
          <p:spPr>
            <a:xfrm>
              <a:off x="2260440" y="3487680"/>
              <a:ext cx="0" cy="44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73840" y="3483000"/>
              <a:ext cx="0" cy="44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2260440" y="3921120"/>
            <a:ext cx="4613400" cy="4680"/>
            <a:chOff x="2260440" y="3921120"/>
            <a:chExt cx="4613400" cy="4680"/>
          </a:xfrm>
        </p:grpSpPr>
        <p:sp>
          <p:nvSpPr>
            <p:cNvPr id="133" name=""/>
            <p:cNvSpPr/>
            <p:nvPr/>
          </p:nvSpPr>
          <p:spPr>
            <a:xfrm>
              <a:off x="2260440" y="3925800"/>
              <a:ext cx="758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6114960" y="3921120"/>
              <a:ext cx="758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CC596-E3B9-4FB0-A6A5-DE0473D41519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ree Types of Strategic Allianc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Joint Ventur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wo or more firms create a legally independent company by sharing some of their resources and capabil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quity Strategic Allia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artners who own different percentages of equity in a separate company they have form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Nonequity Strategic Allia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wo or more firms develop a contractual relationship to share some of their unique resources and capabil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53482-B24C-4C70-8B1B-BFDF7213A377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740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9.1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s for Strategic Alliances by Market Type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60360" y="1219320"/>
            <a:ext cx="8402760" cy="51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90680" indent="-2290680">
              <a:spcBef>
                <a:spcPts val="10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90680" indent="-2290680"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ow-Cyc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Gain access to a restricted marke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Establish a franchise in a new marke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Maintain market stability (e.g., establishing standar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90680" indent="-2290680"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-Cyc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Speed up development of new goods or servic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Speed up new market entr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Maintain market leadershi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Form an industry technology standar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Share risky R&amp;D expens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Overcome uncertain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90680" indent="-2290680"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-Cyc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Gain market power (reduce industry overcapacity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Gain access to complementary resourc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Establish better economies of sca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Overcome trade barrier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Meet competitive challenges from other competitor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Pool resources for very large capital proj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Learn new business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94157-7189-44D0-BEC7-410E510B42C5}" type="slidenum">
              <a:t>9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The University of West Alabama</dc:creator>
  <dc:description/>
  <dc:language>en-US</dc:language>
  <cp:lastModifiedBy>dii</cp:lastModifiedBy>
  <dcterms:modified xsi:type="dcterms:W3CDTF">2007-06-12T13:38:31Z</dcterms:modified>
  <cp:revision>41</cp:revision>
  <dc:subject>Chapter 9</dc:subject>
  <dc:title>Strategic Management 7e.</dc:title>
</cp:coreProperties>
</file>