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B4F7-5DD3-46C6-A7EA-5237AA6E1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636A-5843-423F-9B4A-6BBD816F0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65FC-1280-4236-9F40-7EBE11EF3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69CC-CC5C-41DC-95CB-1C370D526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E24C-B856-41B0-BC94-BCF4A1AD4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7D47-A676-46BA-93A8-E144FDEBE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D1F4-6174-4A07-B013-8FC1D4166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AD8F-CCC8-4229-A9D3-1B39497D5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7E8F-03CB-4642-BAC5-78C301566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13B5-EBE2-4010-9A0F-B7DAF8CDD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B8FA-5E54-4B0A-B91E-057FFF5A4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5CD8-7299-4C62-A697-A1F9EB5AE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92DE-9A21-4E8E-AAF2-0D059D417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4BA4-F83E-422F-977B-555AE4A99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9730-E057-4ECE-838B-EAB09EEE1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055A-D939-4CAE-8FB4-C6056959F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F858-C185-4431-AD6C-EA33BF2AF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C4E1-5A72-44C9-A352-41E4EF388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9354-18F2-44DB-92B1-4780D1EE0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DD24-8266-44DF-86DD-217B3DE3E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A9FB-6090-402A-9F54-A0D667BC5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6F9C-56F9-46D3-B486-804C3AFCB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BC0D-2D0D-4223-8E23-51B39575E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1035-1773-46C8-9ED0-0A95F0731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D7CE-D951-45AB-8A23-57B419582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245B-5827-4467-98B4-766491B0D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3D84-C65B-4BC0-9E33-7DB025983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43D8-6BA7-4EEB-BA82-B9488E432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355B-61E9-4591-86B3-B0CCAE1BF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9DD8-5055-4E9E-9804-9025DEB35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246D-DD2C-48B7-81D3-FAFB87B41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6EDF3-3801-4634-B904-69C12EBC0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9B61-CFFB-4FFC-AA8F-A40C762DA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DAD6-5C35-45D5-9544-D286C7608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8530A-1D4A-4485-BF4F-2B39ECF3A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A711E-51EE-466D-9565-F21A9B8D3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F04D-9C7F-4D8D-B3C7-0ADBA0E35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BF42F-B8F7-489E-A168-7A66B055A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C40A-8E8A-4363-85EF-16B225EB2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EA19E-FD3E-4DE7-96B4-92CD46321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–</a:t>
            </a:r>
            <a:fld id="{EFADB792-DE54-4052-B968-A84ACB2481F2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590920"/>
            <a:ext cx="5562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CHAPTER 9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operative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1884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low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884240"/>
            <a:ext cx="54403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ccess to a restricte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franchise in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stability (e.g., establishing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8B6B3-33DB-45A5-BCA0-62CF0FD6393F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08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908000"/>
            <a:ext cx="5410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development of new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new marke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industry technolog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isky R&amp;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D29F-E4A7-401B-B637-748530566F00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76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511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tandar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8760" y="1851120"/>
            <a:ext cx="5211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market power (reduce industry over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ccess to complemen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trad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competitive challenges from other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resources for very large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new busines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91DD4-F1CD-4467-9530-04C48E3FC28F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-Level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0680" y="1333440"/>
            <a:ext cx="63626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2D1CF-CB64-438D-B424-248875D762FD}" type="slidenum">
              <a:t>13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5280" y="1371600"/>
            <a:ext cx="478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e partner firms’ assets in complementary ways to create new valu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clude distribution, supplier or outsourcing alliances where firms rely on upstream or downstream partners to build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371600"/>
            <a:ext cx="838440" cy="2819520"/>
          </a:xfrm>
          <a:custGeom>
            <a:avLst/>
            <a:gdLst>
              <a:gd name="textAreaLeft" fmla="*/ 535680 w 838440"/>
              <a:gd name="textAreaRight" fmla="*/ 838800 w 8384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892"/>
                </a:lnTo>
                <a:cubicBezTo>
                  <a:pt x="10800" y="3892"/>
                  <a:pt x="5400" y="3892"/>
                  <a:pt x="0" y="3892"/>
                </a:cubicBezTo>
                <a:cubicBezTo>
                  <a:pt x="5400" y="3892"/>
                  <a:pt x="10800" y="3892"/>
                  <a:pt x="10800" y="389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9360" y="1332000"/>
            <a:ext cx="2955960" cy="1030320"/>
            <a:chOff x="549360" y="1332000"/>
            <a:chExt cx="2955960" cy="1030320"/>
          </a:xfrm>
        </p:grpSpPr>
        <p:sp>
          <p:nvSpPr>
            <p:cNvPr id="164" name=""/>
            <p:cNvSpPr/>
            <p:nvPr/>
          </p:nvSpPr>
          <p:spPr>
            <a:xfrm>
              <a:off x="549360" y="1332000"/>
              <a:ext cx="2955960" cy="1030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5520" y="1390680"/>
              <a:ext cx="2842920" cy="912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51E64-FA4D-4DAE-B87E-F4C6F83CC0E9}" type="slidenum">
              <a:t>1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70200" y="304920"/>
            <a:ext cx="5445000" cy="601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686" t="0" r="3416" b="0"/>
          <a:stretch/>
        </p:blipFill>
        <p:spPr>
          <a:xfrm>
            <a:off x="6578640" y="4572000"/>
            <a:ext cx="2066760" cy="1676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4320" y="4686480"/>
            <a:ext cx="175248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9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tical and Horizontal Complementary Strategic Allianc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6560" y="47181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7960" y="5014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C9C3-02D9-4010-BAF9-4BD06B905300}" type="slidenum">
              <a:t>15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ary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ertic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between firms that agree to use their skills and capabilities in different stages of the value chain to create value for both firm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ourcing is one example of this type of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when partners who agree to combine their resources and skills to create value in the same stage of the value chai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long-term product development and distribution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ners may become competitors which requires a great deal of trust between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C4231-DD58-4C27-BA1F-1F52222784AD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on Respons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2240" y="1409400"/>
            <a:ext cx="46245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ccur when firms join forces to respond to a strategic action of another competit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ecause they can be difficult to reverse and expensive to operate, strategic alliances are primarily formed to respond to strategic rather than tactical ac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838080" cy="33526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299"/>
                </a:lnTo>
                <a:cubicBezTo>
                  <a:pt x="10800" y="10299"/>
                  <a:pt x="5400" y="10299"/>
                  <a:pt x="0" y="10299"/>
                </a:cubicBezTo>
                <a:cubicBezTo>
                  <a:pt x="5400" y="10299"/>
                  <a:pt x="10800" y="10299"/>
                  <a:pt x="10800" y="1029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177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520" y="2548080"/>
            <a:ext cx="3124080" cy="1053720"/>
            <a:chOff x="533520" y="2548080"/>
            <a:chExt cx="3124080" cy="1053720"/>
          </a:xfrm>
        </p:grpSpPr>
        <p:sp>
          <p:nvSpPr>
            <p:cNvPr id="180" name=""/>
            <p:cNvSpPr/>
            <p:nvPr/>
          </p:nvSpPr>
          <p:spPr>
            <a:xfrm>
              <a:off x="533520" y="25480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920" y="26078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7052-60AA-4A29-949B-5BD2459D6C99}" type="slidenum">
              <a:t>1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Uncertainty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2240" y="1379520"/>
            <a:ext cx="454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used to hedge against risk and uncertaint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alliances are most noticed in fast-cycle marke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alliance may be formed to reduce the uncertainty associated with developing new product or technology standard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44792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930"/>
                </a:lnTo>
                <a:cubicBezTo>
                  <a:pt x="10800" y="16930"/>
                  <a:pt x="5400" y="16930"/>
                  <a:pt x="0" y="16930"/>
                </a:cubicBezTo>
                <a:cubicBezTo>
                  <a:pt x="5400" y="16930"/>
                  <a:pt x="10800" y="16930"/>
                  <a:pt x="10800" y="1693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86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189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192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46304-519F-45CB-953A-728EAD6712E5}" type="slidenum">
              <a:t>1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Competition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8480" y="2161800"/>
            <a:ext cx="4648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ed to avoid destructive or excessive competi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xpli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directly negotiate production output and pricing agreements in order to reduce competition (illegal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a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in an industry indirectly coordinate their production and pricing decisions by observing other firm’s actions and respon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127240"/>
            <a:ext cx="838080" cy="36576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8703"/>
                </a:lnTo>
                <a:cubicBezTo>
                  <a:pt x="10800" y="18703"/>
                  <a:pt x="5400" y="18703"/>
                  <a:pt x="0" y="18703"/>
                </a:cubicBezTo>
                <a:cubicBezTo>
                  <a:pt x="5400" y="18703"/>
                  <a:pt x="10800" y="18703"/>
                  <a:pt x="10800" y="1870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9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201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204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724280"/>
            <a:ext cx="3124080" cy="1066680"/>
            <a:chOff x="533520" y="4724280"/>
            <a:chExt cx="3124080" cy="1066680"/>
          </a:xfrm>
        </p:grpSpPr>
        <p:sp>
          <p:nvSpPr>
            <p:cNvPr id="207" name=""/>
            <p:cNvSpPr/>
            <p:nvPr/>
          </p:nvSpPr>
          <p:spPr>
            <a:xfrm>
              <a:off x="533520" y="472428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" y="478476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6C26C-C384-47C9-A64A-378595FD09EF}" type="slidenum">
              <a:t>1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operative strategies and explain why firms use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iscuss three types of strategic allian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business-level cooperative strategies and describe their us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-level cooperative strategies in diversified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ortance of cross-border strategic alliances as an international cooperative strateg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E4CA7-7649-4128-87D6-4DF9AC0F874A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lementary business-level strategic alliances, especially the vertical ones, have the greatest probability of creating a sustainable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alliances are sometimes difficult to maintain because they are often between rival competito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etitive advantages gained from competition and uncertainty reducing strategies tend to be tempor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01930-3004-4E0A-B3F8-F85091479F8D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-Level Cooperative Strategie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4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436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54A56-7BE1-4F94-A70C-2705A26D2239}" type="slidenum">
              <a:t>21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 the firm diversify in terms of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fered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s it 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fewer resource commitme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mit greater flexibility in terms of efforts to diversify partners’ oper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B72C-52A1-4141-9FDD-82E5E0EB654A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Diversifying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09680" y="1447920"/>
            <a:ext cx="454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a firm to expand into new product or market areas without completing a merger or an acquisi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s some of the potential synergistic benefits of a merger or acquisition, but with less risk and greater levels of flexibilit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ermits a “test” of whether a future merger between the partners would benefit both part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447920"/>
            <a:ext cx="838080" cy="35812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55"/>
                </a:lnTo>
                <a:cubicBezTo>
                  <a:pt x="10800" y="3255"/>
                  <a:pt x="5400" y="3255"/>
                  <a:pt x="0" y="3255"/>
                </a:cubicBezTo>
                <a:cubicBezTo>
                  <a:pt x="5400" y="3255"/>
                  <a:pt x="10800" y="3255"/>
                  <a:pt x="10800" y="325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0560" y="1422360"/>
            <a:ext cx="3124440" cy="1066320"/>
            <a:chOff x="520560" y="1422360"/>
            <a:chExt cx="3124440" cy="1066320"/>
          </a:xfrm>
        </p:grpSpPr>
        <p:sp>
          <p:nvSpPr>
            <p:cNvPr id="223" name=""/>
            <p:cNvSpPr/>
            <p:nvPr/>
          </p:nvSpPr>
          <p:spPr>
            <a:xfrm>
              <a:off x="520560" y="14223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960" y="14828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B6544-D734-4134-9592-C426ED52C3EB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Synergistic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62160" y="1483920"/>
            <a:ext cx="454644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joint economies of scope between two or more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synergy across multiple functions or multiple businesses between partner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447920"/>
            <a:ext cx="838080" cy="27432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0"/>
                </a:lnTo>
                <a:cubicBezTo>
                  <a:pt x="10800" y="12850"/>
                  <a:pt x="5400" y="12850"/>
                  <a:pt x="0" y="12850"/>
                </a:cubicBezTo>
                <a:cubicBezTo>
                  <a:pt x="5400" y="12850"/>
                  <a:pt x="10800" y="12850"/>
                  <a:pt x="10800" y="128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29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32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7D0D0-9D13-46F6-A64E-A7266CADB561}" type="slidenum">
              <a:t>24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62240" y="1430280"/>
            <a:ext cx="454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preads risks and uses resources, capabilities, and competencies without merging or acquiring another compan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contractual relationship (the franchise) is developed between two parties, the franchisee and the franchiso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 alternative to pursuing growth through mergers and acquisition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447920"/>
            <a:ext cx="838080" cy="327636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7916"/>
                </a:lnTo>
                <a:cubicBezTo>
                  <a:pt x="10800" y="17916"/>
                  <a:pt x="5400" y="17916"/>
                  <a:pt x="0" y="17916"/>
                </a:cubicBezTo>
                <a:cubicBezTo>
                  <a:pt x="5400" y="17916"/>
                  <a:pt x="10800" y="17916"/>
                  <a:pt x="10800" y="1791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3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0560" y="2560680"/>
            <a:ext cx="3124440" cy="1053720"/>
            <a:chOff x="520560" y="2560680"/>
            <a:chExt cx="3124440" cy="1053720"/>
          </a:xfrm>
        </p:grpSpPr>
        <p:sp>
          <p:nvSpPr>
            <p:cNvPr id="241" name=""/>
            <p:cNvSpPr/>
            <p:nvPr/>
          </p:nvSpPr>
          <p:spPr>
            <a:xfrm>
              <a:off x="520560" y="2560680"/>
              <a:ext cx="312444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960" y="2620440"/>
              <a:ext cx="300528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0560" y="3643200"/>
            <a:ext cx="3124440" cy="1066680"/>
            <a:chOff x="520560" y="3643200"/>
            <a:chExt cx="3124440" cy="1066680"/>
          </a:xfrm>
        </p:grpSpPr>
        <p:sp>
          <p:nvSpPr>
            <p:cNvPr id="244" name=""/>
            <p:cNvSpPr/>
            <p:nvPr/>
          </p:nvSpPr>
          <p:spPr>
            <a:xfrm>
              <a:off x="520560" y="364320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960" y="370368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ranchi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67145-4C7F-4BAC-B4CF-0DD154F96E0F}" type="slidenum">
              <a:t>25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rporate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red to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roader in scop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More comple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cost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lead to competitive advantage and value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ful alliance experiences are intern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uses such strategies to develop useful knowledge about how to succeed in the futur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EE20-219C-411C-B41B-2899A6F3BB3B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oss-border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ith headquarters in different nations combine their resources and capabilities to create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may form cross-border strategic alliances to leverage core competencies that are the foundation of its domestic success to expand into international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881E-F8A1-4267-9FBC-144EC41606AD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ynergistic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risk sharing by reducing financial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st partner knows local market and custo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alliances can be difficult to manage due to differences in management styles, cultures or regulatory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st gauge partner’s strategic intent such that the partner does not gain access to important technology and become a competit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31277-1953-4C80-8D56-073FECB615FB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operative strategy wherein several firms agree to form multiple partnerships to achieve shared objectiv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le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ynamic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ocial relationships and interactions among partners are keys to a successful network cooperative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D70A-F9DC-4BBC-AC16-060206C694C8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operative strategies’ risk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wo approaches used to manage cooperative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5831-98E7-4CED-A4E1-54F1A4F1834C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528920"/>
            <a:ext cx="4495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 term relationships that often appear in mature industries where demand is relatively constant and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table networks are built fo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it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the economies (scale and/or scope) available between th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152388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90"/>
                </a:lnTo>
                <a:cubicBezTo>
                  <a:pt x="10800" y="2890"/>
                  <a:pt x="5400" y="2890"/>
                  <a:pt x="0" y="2890"/>
                </a:cubicBezTo>
                <a:cubicBezTo>
                  <a:pt x="5400" y="2890"/>
                  <a:pt x="10800" y="2890"/>
                  <a:pt x="10800" y="289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0560" y="1419120"/>
            <a:ext cx="3124440" cy="1066680"/>
            <a:chOff x="520560" y="1419120"/>
            <a:chExt cx="3124440" cy="1066680"/>
          </a:xfrm>
        </p:grpSpPr>
        <p:sp>
          <p:nvSpPr>
            <p:cNvPr id="259" name=""/>
            <p:cNvSpPr/>
            <p:nvPr/>
          </p:nvSpPr>
          <p:spPr>
            <a:xfrm>
              <a:off x="520560" y="141912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60" y="147960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AA8B-89C7-4ACC-B441-E14E255E402C}" type="slidenum">
              <a:t>30</a:t>
            </a:fld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1479600"/>
            <a:ext cx="4419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rangements that evolve in industries with rapid technological change leading to short product lif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marily used to stimulate rapid, value-creating product innovation and subsequent successful market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rpose is ofte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r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447920"/>
            <a:ext cx="838080" cy="4114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8542"/>
                </a:lnTo>
                <a:cubicBezTo>
                  <a:pt x="10800" y="8542"/>
                  <a:pt x="5400" y="8542"/>
                  <a:pt x="0" y="8542"/>
                </a:cubicBezTo>
                <a:cubicBezTo>
                  <a:pt x="5400" y="8542"/>
                  <a:pt x="10800" y="8542"/>
                  <a:pt x="10800" y="854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265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68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ynamic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17C1-9368-4BC8-BFAA-7374914E1CBF}" type="slidenum">
              <a:t>31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Risks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misrepresent competencies brought to the partnershi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fail to make committed resources and capabilities available to other partn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partner may make investments that are specific to the alliance while its partner does no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BF690-9BBA-4409-B391-F0707D2CCF60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Competitive Risks in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9C152-D91E-470E-892F-AD13B37F1BB4}" type="slidenum">
              <a:t>33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Risks in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70200" y="5724360"/>
            <a:ext cx="24307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ing val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7960" y="4038480"/>
            <a:ext cx="2727360" cy="1295280"/>
            <a:chOff x="777960" y="4038480"/>
            <a:chExt cx="2727360" cy="1295280"/>
          </a:xfrm>
        </p:grpSpPr>
        <p:sp>
          <p:nvSpPr>
            <p:cNvPr id="281" name=""/>
            <p:cNvSpPr/>
            <p:nvPr/>
          </p:nvSpPr>
          <p:spPr>
            <a:xfrm>
              <a:off x="777960" y="4038480"/>
              <a:ext cx="2727360" cy="1295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800" y="4112640"/>
              <a:ext cx="2623320" cy="1147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k and Asse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ro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77960" y="5562720"/>
            <a:ext cx="2727360" cy="609480"/>
            <a:chOff x="777960" y="5562720"/>
            <a:chExt cx="2727360" cy="609480"/>
          </a:xfrm>
        </p:grpSpPr>
        <p:sp>
          <p:nvSpPr>
            <p:cNvPr id="284" name=""/>
            <p:cNvSpPr/>
            <p:nvPr/>
          </p:nvSpPr>
          <p:spPr>
            <a:xfrm>
              <a:off x="777960" y="5562720"/>
              <a:ext cx="2727360" cy="6094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9800" y="5597280"/>
              <a:ext cx="2623320" cy="540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ired Outc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960" y="1425600"/>
            <a:ext cx="2727360" cy="2231280"/>
            <a:chOff x="777960" y="1425600"/>
            <a:chExt cx="2727360" cy="2231280"/>
          </a:xfrm>
        </p:grpSpPr>
        <p:sp>
          <p:nvSpPr>
            <p:cNvPr id="287" name=""/>
            <p:cNvSpPr/>
            <p:nvPr/>
          </p:nvSpPr>
          <p:spPr>
            <a:xfrm>
              <a:off x="777960" y="1425600"/>
              <a:ext cx="2727360" cy="223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9800" y="1552680"/>
              <a:ext cx="2623320" cy="197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v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87" idx="2"/>
            <a:endCxn id="281" idx="0"/>
          </p:cNvCxnSpPr>
          <p:nvPr/>
        </p:nvCxnSpPr>
        <p:spPr>
          <a:xfrm>
            <a:off x="2141280" y="36576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90" name=""/>
          <p:cNvCxnSpPr>
            <a:stCxn id="281" idx="2"/>
            <a:endCxn id="284" idx="0"/>
          </p:cNvCxnSpPr>
          <p:nvPr/>
        </p:nvCxnSpPr>
        <p:spPr>
          <a:xfrm>
            <a:off x="2141280" y="53337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3598920" y="4114800"/>
            <a:ext cx="4859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tailed contract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veloping trus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8920" y="1495440"/>
            <a:ext cx="48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adequat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isrepresentation of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ners fail to use their complement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lding alliance partner’s specific investments h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3B05-C46E-422B-BBFE-6239879474FC}" type="slidenum">
              <a:t>34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Minimization Management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formal contracts with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strategy is to be monito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partner behavior is to be controll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t goals that minimize costs and to prevent opportunistic behavior by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306D3-CEC9-47F8-BB13-8159FF8C6327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 Maximization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ximize partnership’s value-creation opportun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 from each oth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lore additional marketplac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less formal contracts, fewer constrai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0E383-BA25-4C7C-959C-3EAFE86DAB3C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ve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ork together to achieve a shared objec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ng with other firms is a strategy tha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s value for a custom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ceeds the cost of constructing customer value in other way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es a favorable position relative to 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60BE5-808C-4399-916F-591FBE30355E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rimary type of cooperative strategy in which firms combine some of their resources and capabilities to create a mutual competitive advant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the exchange and sharing of resources and capabilities to co-develop or distribute goods and serv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cooperative behavior from all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1C78D-EF2A-4C24-8342-310FCB31DB34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 Behavi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amples of cooperative behavior known to contribute to alliance succes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ely solving proble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ing trustworth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ly pursuing ways to combine partners’ resources and capabilities to create valu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llaborative (Relational) Advant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petitive advantage developed through a cooperative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8420-4497-488D-80B1-C6059C6D505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1120" y="3057480"/>
            <a:ext cx="3105000" cy="1736640"/>
            <a:chOff x="3021120" y="3057480"/>
            <a:chExt cx="3105000" cy="1736640"/>
          </a:xfrm>
        </p:grpSpPr>
        <p:sp>
          <p:nvSpPr>
            <p:cNvPr id="111" name=""/>
            <p:cNvSpPr/>
            <p:nvPr/>
          </p:nvSpPr>
          <p:spPr>
            <a:xfrm>
              <a:off x="3021120" y="3057480"/>
              <a:ext cx="3105000" cy="17366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3122280"/>
              <a:ext cx="2987640" cy="1605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omb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157480"/>
            <a:ext cx="2725920" cy="1330200"/>
            <a:chOff x="907920" y="2157480"/>
            <a:chExt cx="2725920" cy="1330200"/>
          </a:xfrm>
        </p:grpSpPr>
        <p:sp>
          <p:nvSpPr>
            <p:cNvPr id="114" name=""/>
            <p:cNvSpPr/>
            <p:nvPr/>
          </p:nvSpPr>
          <p:spPr>
            <a:xfrm>
              <a:off x="907920" y="21574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960" y="2215800"/>
              <a:ext cx="2608200" cy="121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62440" y="2155680"/>
            <a:ext cx="2725920" cy="1330200"/>
            <a:chOff x="5662440" y="2155680"/>
            <a:chExt cx="2725920" cy="1330200"/>
          </a:xfrm>
        </p:grpSpPr>
        <p:sp>
          <p:nvSpPr>
            <p:cNvPr id="117" name=""/>
            <p:cNvSpPr/>
            <p:nvPr/>
          </p:nvSpPr>
          <p:spPr>
            <a:xfrm>
              <a:off x="5662440" y="21556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1480" y="2214360"/>
              <a:ext cx="2608200" cy="12128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139920" y="1449360"/>
            <a:ext cx="1409760" cy="1409760"/>
            <a:chOff x="3139920" y="1449360"/>
            <a:chExt cx="1409760" cy="1409760"/>
          </a:xfrm>
        </p:grpSpPr>
        <p:sp>
          <p:nvSpPr>
            <p:cNvPr id="120" name=""/>
            <p:cNvSpPr/>
            <p:nvPr/>
          </p:nvSpPr>
          <p:spPr>
            <a:xfrm>
              <a:off x="3139920" y="144936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960" y="1508040"/>
              <a:ext cx="1292040" cy="1292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95760" y="1447920"/>
            <a:ext cx="1409760" cy="1409760"/>
            <a:chOff x="4595760" y="1447920"/>
            <a:chExt cx="1409760" cy="1409760"/>
          </a:xfrm>
        </p:grpSpPr>
        <p:sp>
          <p:nvSpPr>
            <p:cNvPr id="123" name=""/>
            <p:cNvSpPr/>
            <p:nvPr/>
          </p:nvSpPr>
          <p:spPr>
            <a:xfrm>
              <a:off x="4595760" y="144792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4440" y="1506600"/>
              <a:ext cx="1292400" cy="1292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12920" y="5191200"/>
            <a:ext cx="6521400" cy="965160"/>
            <a:chOff x="1312920" y="5191200"/>
            <a:chExt cx="6521400" cy="965160"/>
          </a:xfrm>
        </p:grpSpPr>
        <p:sp>
          <p:nvSpPr>
            <p:cNvPr id="126" name=""/>
            <p:cNvSpPr/>
            <p:nvPr/>
          </p:nvSpPr>
          <p:spPr>
            <a:xfrm>
              <a:off x="1312920" y="5191200"/>
              <a:ext cx="6521400" cy="965160"/>
            </a:xfrm>
            <a:prstGeom prst="rect">
              <a:avLst/>
            </a:prstGeom>
            <a:gradFill rotWithShape="0">
              <a:gsLst>
                <a:gs pos="0">
                  <a:srgbClr val="8643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5249880"/>
              <a:ext cx="6418080" cy="8478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864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utual interests in designing, manufactur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 distributing goods or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"/>
          <p:cNvCxnSpPr>
            <a:stCxn id="111" idx="2"/>
            <a:endCxn id="126" idx="0"/>
          </p:cNvCxnSpPr>
          <p:nvPr/>
        </p:nvCxnSpPr>
        <p:spPr>
          <a:xfrm>
            <a:off x="4573080" y="4793760"/>
            <a:ext cx="1080" cy="397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129" name=""/>
          <p:cNvGrpSpPr/>
          <p:nvPr/>
        </p:nvGrpSpPr>
        <p:grpSpPr>
          <a:xfrm>
            <a:off x="2260440" y="3483000"/>
            <a:ext cx="4613400" cy="453600"/>
            <a:chOff x="2260440" y="3483000"/>
            <a:chExt cx="4613400" cy="453600"/>
          </a:xfrm>
        </p:grpSpPr>
        <p:sp>
          <p:nvSpPr>
            <p:cNvPr id="130" name=""/>
            <p:cNvSpPr/>
            <p:nvPr/>
          </p:nvSpPr>
          <p:spPr>
            <a:xfrm>
              <a:off x="2260440" y="348768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3840" y="348300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60440" y="3921120"/>
            <a:ext cx="4613400" cy="4680"/>
            <a:chOff x="2260440" y="3921120"/>
            <a:chExt cx="4613400" cy="4680"/>
          </a:xfrm>
        </p:grpSpPr>
        <p:sp>
          <p:nvSpPr>
            <p:cNvPr id="133" name=""/>
            <p:cNvSpPr/>
            <p:nvPr/>
          </p:nvSpPr>
          <p:spPr>
            <a:xfrm>
              <a:off x="2260440" y="392580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14960" y="3921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93CC1-5D96-42BD-A029-43EFBFC44FEF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e Types of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create a legally independent company by sharing some of their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who own different percentages of equity in a separate company they have form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n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develop a contractual relationship to share some of their unique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002F-86A8-4476-A86A-FD8D9D5E1C4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9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Strategic Alliances by Market Type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219320"/>
            <a:ext cx="84027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0680" indent="-22906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a restricted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a franchise in a new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stability (e.g., establishing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development of new goods or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new market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leader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Form an industry technology stand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hare risky R&amp;D expen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market power (reduce industry overcapacit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complementary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better 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trade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eet competitive challenges from other competi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Pool resources for very large capital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Learn new busines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2ED0-6321-4C0C-8466-9E674FDC3950}" type="slidenum">
              <a:t>9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8:31Z</dcterms:modified>
  <cp:revision>41</cp:revision>
  <dc:subject>Chapter 9</dc:subject>
  <dc:title>Strategic Management 7e.</dc:title>
</cp:coreProperties>
</file>