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B4CC0-4E1C-4D18-81AB-EF7A920ECE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64BF-8AA4-47F0-B4F3-EF84B239E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7C54-2EF7-43A7-B5E4-A6121AAEE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4B8D-F92E-4BF5-B08F-820F2F164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499A9-FD01-4070-B6BB-428FA8958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B26C-713F-4876-9CCE-8A3FE8EA2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455C-6A6F-46C3-85F9-CD8995EC3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DA9BD-06E3-4C25-8E38-01A20A84C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181B0-3CE3-47D3-BC71-77611D42C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A28C-ED2C-453C-AC5A-3BAAAE8CC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AD20-6948-4900-8045-F77E5E896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F5A3-C684-4491-8103-82EA58C75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0D97-3B0C-40D2-B21D-FCDC56A7A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8304-6353-440D-A094-877EB6C6D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F8C3A-CBFE-4B59-972B-B5F28E458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872C-87D3-42FF-A5BC-675F76A71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080E-71F0-40B1-94AF-394FD06B6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A8686-8834-4007-BCB0-88EB73F92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088D-4D42-40B7-BD2F-5D76D34701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B59E5-146A-49F4-ACF8-8C3DA8C11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F3D59-D109-4DCB-BC24-8AD9C2DB54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51A6-8160-471C-8E3A-699789557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3A84-3312-4352-BB6A-994524956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ABEF-AE09-432B-AFD0-7592E9A8D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0151-B147-49E9-93F7-38195BBA5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BB12-9436-4B5B-AB8F-970460B8E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741BE6-68A1-49EF-BAF1-12A1F452B4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533614-EDFB-427D-ABEE-633DD2357A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2A1C95-E867-4042-B342-6CE65045EB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F6D21A-C095-45B5-A4DC-774797E247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E45F43-1765-4866-AD33-A9A792086B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F5005B-E317-41DB-8C87-AEC6852971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6204A1-7C2A-4A01-A1BF-7673E6ED41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C66BD2-B0CD-47A5-A22E-8FCF29BB21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6F0153-E1AA-429A-A290-A6E201E163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AD2137-8084-4712-A6A0-2F04BD24A0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DC2D1D-4BCE-4632-8EA2-4086ECCD85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6659D3-6D14-4F3C-A575-F5191661F0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B5BA3005-05B6-4B0A-89C8-56ABC9A4A7B9}"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4610AB9B-4DD2-4AFF-A9CF-1DD303613744}"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3C11EC3-2C85-4FCF-A639-37DDC89D2B5F}"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990FE7-A693-4188-9BAC-DDD59D0DF795}"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94470F1-9C4B-43E4-A65D-A6B89873C548}"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E7EB585-E79B-4832-A126-5E660FB7D02C}"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AFFD02B-8341-4054-BA56-F4DEDC55B361}"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8A01CCE6-0D6C-4B57-A7F4-3BBF6269B9AC}"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3C49BB2E-F023-463A-A113-09884BA43AD0}"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188AEFA2-DA18-4EC3-B475-750A6F26B10C}"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AC1166B7-F718-4780-AA28-3D720C5A6C14}"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431BCB-A1F7-42B6-9E49-286247C07196}"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E623A90-3D87-4ABD-A812-BED70FB46FE2}"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9640077-ADB9-45CC-A7E5-701AB62E606F}"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ACF3448-C9C7-48CF-A261-24391A8447AB}"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EF9FE71-4823-4172-8AD2-FAE7A2B6B0F0}"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651C9A0-89EE-4740-A6C3-2CF5074103BF}"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7EF51E2-6A9A-45CB-9DC1-9E8C191D1EBF}"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620DCE7-E7B3-4914-B740-1584035D95E9}"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3F90D9A-9FA8-47B8-9DDC-199AE3B6372F}"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A76DD6E-6546-4777-A245-51BD1D7C96AC}"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A8CB26-E6B7-4613-AD71-C9879EEECD23}"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D46B5E-D3BC-4D9D-BC93-35890F4311D4}"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8F94F8-1046-4152-9582-4EC49EDAFF10}"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83074CA1-689A-41DF-83A6-3E2C912C1780}"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763C8BCA-40DA-4322-939C-CB40E3968D6F}"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659AFE4-4868-4BA7-B062-19ADC1AE1AE4}"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5FD026DA-7612-4118-9170-06175B768AA6}"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263431F-34B7-48E9-B80B-79EF6C271E00}"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D17CD114-E931-447D-9C08-7E2569F84C72}"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0D43775-63D5-40F2-9BF2-A3EAEEF16860}"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41954E0-FE50-4D65-B683-2A2859BA1B77}"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05CA50-D172-4500-8975-404F7F8D56D0}"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8:08Z</dcterms:modified>
  <cp:revision>40</cp:revision>
  <dc:subject>Chapte 8</dc:subject>
  <dc:title>Strategic Management 7e.</dc:title>
</cp:coreProperties>
</file>