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DD02F-8053-4B5F-BDB8-16D269FFBD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B3B99-4183-4579-8FE0-A052618E30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760D3-F93E-4D76-937C-6F18B802E7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22F7C-8F4C-4A62-81DE-842EADE00C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204C7-D394-4F84-8971-AA8969BB65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EC82B-3165-4E28-A97E-BA88120162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CFE4D-F66B-4E2B-87F0-8224D813CE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F436E-9060-452B-918F-90D7516CC3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1DF4D-B1AA-425F-852D-44EB5B0BB6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769F6-47AE-4941-8035-36A3BC2E97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5D0E7-5B5E-4BDA-AED2-B4F77BC70D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2F35C-BB17-423D-8288-A4EA27B1EF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D1B63-08A0-4F36-8E4A-67AE78B70F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90DB1-FAC3-40FD-96FA-3C25481662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72F7F-2FA4-4A26-BA02-218E5502D5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1F030-58B6-4F8E-A054-92C8D52A66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13248-62FB-474A-B59F-D06D8FDFAC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41F22-197C-44F5-A84E-FBFD5F3DF6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A9299-393D-4C37-8C48-C88B1E9BD4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40706-E874-41BB-9042-E99C8250CE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0B535-22A4-441B-BB42-59366C1C44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A921C-681B-4499-A00B-CA80BA41A2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09082-B84B-44C1-A123-C397FCE979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EF27C-6609-4C32-9EFB-7BF42DAE14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863F4-590D-40EC-9B57-23410EA9E9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A9687D-B71D-40C6-A7A7-C3F97A78D4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42390D-2DCD-48DF-B487-43B9236E66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887EA1-D0D9-46CE-89B0-673AE5DDF6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5F3C59-AD9D-49A8-A7D8-A0563BCF6BB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269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39632D-842C-491D-A88B-DBFEEA31063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647348-EB06-4DB8-BC40-AADCC96C3D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684CFB-86BE-4B4B-AF2C-924B958066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4AA998-7C63-4295-A737-F2CCE8A6A9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269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5A61F8-CD56-4CB7-B374-5DB1E20C42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C78177-63EE-430B-8C36-E7C51AB6B0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35B90A-2494-4979-BE41-CFCC2F1D8A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55A165-D003-4597-A8E4-A9E2F855F9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lick to edit the title text format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533160" y="6400440"/>
            <a:ext cx="57150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76760"/>
            <a:ext cx="12952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–</a:t>
            </a:r>
            <a:fld id="{C1949826-8D47-4023-807C-1C3A265B814D}" type="slidenum"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830680" cy="6858000"/>
          </a:xfrm>
          <a:prstGeom prst="rect">
            <a:avLst/>
          </a:prstGeom>
          <a:ln w="0">
            <a:noFill/>
          </a:ln>
        </p:spPr>
      </p:pic>
      <p:pic>
        <p:nvPicPr>
          <p:cNvPr id="41" name="" descr=""/>
          <p:cNvPicPr/>
          <p:nvPr/>
        </p:nvPicPr>
        <p:blipFill>
          <a:blip r:embed="rId3"/>
          <a:stretch/>
        </p:blipFill>
        <p:spPr>
          <a:xfrm>
            <a:off x="2819520" y="0"/>
            <a:ext cx="6324480" cy="441972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4"/>
          <a:stretch/>
        </p:blipFill>
        <p:spPr>
          <a:xfrm>
            <a:off x="2819520" y="4419720"/>
            <a:ext cx="6324480" cy="24382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819520" y="0"/>
            <a:ext cx="0" cy="6858000"/>
          </a:xfrm>
          <a:prstGeom prst="line">
            <a:avLst/>
          </a:prstGeom>
          <a:ln w="572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4419720"/>
            <a:ext cx="6324480" cy="0"/>
          </a:xfrm>
          <a:prstGeom prst="line">
            <a:avLst/>
          </a:prstGeom>
          <a:ln w="572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352320" y="1938240"/>
            <a:ext cx="480060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3"/>
          </p:nvPr>
        </p:nvSpPr>
        <p:spPr>
          <a:xfrm>
            <a:off x="304560" y="6035760"/>
            <a:ext cx="23619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0066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6666"/>
                </a:solidFill>
                <a:latin typeface="Times New Roman"/>
              </a:rPr>
              <a:t>© 2007 Thomson/South-Western.</a:t>
            </a:r>
            <a:br>
              <a:rPr sz="800"/>
            </a:br>
            <a:r>
              <a:rPr b="1" lang="en-US" sz="800" spc="-1" strike="noStrike">
                <a:solidFill>
                  <a:srgbClr val="006666"/>
                </a:solidFill>
                <a:latin typeface="Times New Roman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04920" y="5791320"/>
            <a:ext cx="236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6666"/>
                </a:solidFill>
                <a:latin typeface="Arial"/>
              </a:rPr>
              <a:t>PowerPoint Presentation by Charlie Cook</a:t>
            </a:r>
            <a:br>
              <a:rPr sz="800"/>
            </a:br>
            <a:r>
              <a:rPr b="1" lang="en-US" sz="800" spc="-1" strike="noStrike">
                <a:solidFill>
                  <a:srgbClr val="006666"/>
                </a:solidFill>
                <a:latin typeface="Arial"/>
              </a:rPr>
              <a:t>The University of West Alabam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80000"/>
            <a:ext cx="51055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Strategic Management</a:t>
            </a:r>
            <a:br>
              <a:rPr sz="3200"/>
            </a:b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ompetitiveness and Globalization: Concepts and Cases</a:t>
            </a:r>
            <a:r>
              <a:rPr b="1" i="1" lang="en-US" sz="2400" spc="-1" strike="noStrike">
                <a:solidFill>
                  <a:srgbClr val="006666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48080" y="6095880"/>
            <a:ext cx="510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ichael A. Hitt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. Duane Ireland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obert E. Hoskis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629400" y="560700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66"/>
                </a:solidFill>
                <a:latin typeface="Arial"/>
              </a:rPr>
              <a:t>Seventh e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3038400"/>
            <a:ext cx="2133720" cy="180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TEGIC</a:t>
            </a:r>
            <a:br>
              <a:rPr sz="1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TIONS:</a:t>
            </a:r>
            <a:br>
              <a:rPr sz="1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TEGY</a:t>
            </a:r>
            <a:br>
              <a:rPr sz="1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RM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200400" y="2620440"/>
            <a:ext cx="55627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ahoma"/>
              </a:rPr>
              <a:t>CHAPTER 6</a:t>
            </a:r>
            <a:br>
              <a:rPr sz="2400"/>
            </a:br>
            <a:r>
              <a:rPr b="0" i="1" lang="en-US" sz="3600" spc="-1" strike="noStrike">
                <a:solidFill>
                  <a:srgbClr val="000000"/>
                </a:solidFill>
                <a:latin typeface="Tahoma"/>
              </a:rPr>
              <a:t>Corporate-Level Strategy</a:t>
            </a:r>
            <a:endParaRPr b="0" i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04560" y="426600"/>
            <a:ext cx="8381880" cy="39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1941480" indent="0">
              <a:buNone/>
              <a:tabLst>
                <a:tab algn="l" pos="0"/>
                <a:tab algn="l" pos="1941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Table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i="1" lang="en-US" sz="2000" spc="-1" strike="noStrike">
                <a:solidFill>
                  <a:srgbClr val="333399"/>
                </a:solidFill>
                <a:latin typeface="Tahoma"/>
              </a:rPr>
              <a:t>6.1</a:t>
            </a:r>
            <a:r>
              <a:rPr b="1" i="1" lang="en-US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s for Diversification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03" name=""/>
          <p:cNvSpPr/>
          <p:nvPr/>
        </p:nvSpPr>
        <p:spPr>
          <a:xfrm>
            <a:off x="436680" y="1074600"/>
            <a:ext cx="4135320" cy="52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alue-Creating Divers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conomies of scope (related diversific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aring activ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ferring core competenc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ket power (related diversific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locking competitors through multipoint compet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tical integ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ancial economies (unrelated diversific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icient internal capital allo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siness restructu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00600" y="1066680"/>
            <a:ext cx="3886200" cy="49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alue-Neutral Divers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titrust reg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x la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w perform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certain future cash fl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sk reduction for fi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ngible re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angible re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alue-Reducing Divers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versifying managerial employment ri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reasing managerial compens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1DFE6B-B550-4876-AF6F-1B313C2A08E6}" type="slidenum">
              <a:t>10</a:t>
            </a:fld>
          </a:p>
        </p:txBody>
      </p:sp>
    </p:spTree>
  </p:cSld>
  <p:transition>
    <p:random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1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"/>
                            </p:stCondLst>
                            <p:childTnLst>
                              <p:par>
                                <p:cTn id="2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5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3458520" y="5108400"/>
            <a:ext cx="68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Hig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65320" y="510840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Value-Creating Strategies of Diversification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08" name=""/>
          <p:cNvSpPr/>
          <p:nvPr/>
        </p:nvSpPr>
        <p:spPr>
          <a:xfrm>
            <a:off x="2986200" y="1508040"/>
            <a:ext cx="497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erational and Corporate Related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754360" y="5530680"/>
            <a:ext cx="5378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rporate Relatedness: Transferring Skills into Businesses through Corporate Headquar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5960" y="2852640"/>
            <a:ext cx="1940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perational Relatedness: Sharing Activities between Busin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739520" y="2114640"/>
            <a:ext cx="68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Hig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809000" y="464832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2589120" y="2041560"/>
            <a:ext cx="2894040" cy="1511280"/>
            <a:chOff x="2589120" y="2041560"/>
            <a:chExt cx="2894040" cy="1511280"/>
          </a:xfrm>
        </p:grpSpPr>
        <p:sp>
          <p:nvSpPr>
            <p:cNvPr id="214" name=""/>
            <p:cNvSpPr/>
            <p:nvPr/>
          </p:nvSpPr>
          <p:spPr>
            <a:xfrm>
              <a:off x="2589120" y="2041560"/>
              <a:ext cx="2894040" cy="151128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664000" y="2128680"/>
              <a:ext cx="2746080" cy="13352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Related Constrained </a:t>
              </a:r>
              <a:br>
                <a:rPr sz="1600"/>
              </a:b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Diversific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Vertical Integration </a:t>
              </a:r>
              <a:br>
                <a:rPr sz="1600"/>
              </a:b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(Market Power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2592360" y="3595680"/>
            <a:ext cx="2893680" cy="1511280"/>
            <a:chOff x="2592360" y="3595680"/>
            <a:chExt cx="2893680" cy="1511280"/>
          </a:xfrm>
        </p:grpSpPr>
        <p:grpSp>
          <p:nvGrpSpPr>
            <p:cNvPr id="217" name=""/>
            <p:cNvGrpSpPr/>
            <p:nvPr/>
          </p:nvGrpSpPr>
          <p:grpSpPr>
            <a:xfrm>
              <a:off x="2592360" y="3595680"/>
              <a:ext cx="2893680" cy="1511280"/>
              <a:chOff x="2592360" y="3595680"/>
              <a:chExt cx="2893680" cy="1511280"/>
            </a:xfrm>
          </p:grpSpPr>
          <p:sp>
            <p:nvSpPr>
              <p:cNvPr id="218" name=""/>
              <p:cNvSpPr/>
              <p:nvPr/>
            </p:nvSpPr>
            <p:spPr>
              <a:xfrm>
                <a:off x="2592360" y="3595680"/>
                <a:ext cx="2893680" cy="1511280"/>
              </a:xfrm>
              <a:prstGeom prst="rect">
                <a:avLst/>
              </a:prstGeom>
              <a:gradFill rotWithShape="0">
                <a:gsLst>
                  <a:gs pos="0">
                    <a:srgbClr val="5e2f00"/>
                  </a:gs>
                  <a:gs pos="100000">
                    <a:srgbClr val="cc66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2678400" y="3640320"/>
                <a:ext cx="2720160" cy="1420560"/>
              </a:xfrm>
              <a:prstGeom prst="rect">
                <a:avLst/>
              </a:prstGeom>
              <a:gradFill rotWithShape="0">
                <a:gsLst>
                  <a:gs pos="0">
                    <a:srgbClr val="5e2f00"/>
                  </a:gs>
                  <a:gs pos="100000">
                    <a:srgbClr val="cc66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0" name=""/>
            <p:cNvSpPr/>
            <p:nvPr/>
          </p:nvSpPr>
          <p:spPr>
            <a:xfrm>
              <a:off x="2705040" y="3665520"/>
              <a:ext cx="2667240" cy="1371600"/>
            </a:xfrm>
            <a:prstGeom prst="rect">
              <a:avLst/>
            </a:prstGeom>
            <a:gradFill rotWithShape="0">
              <a:gsLst>
                <a:gs pos="0">
                  <a:srgbClr val="cc6600"/>
                </a:gs>
                <a:gs pos="100000">
                  <a:srgbClr val="5e2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Unrelated</a:t>
              </a:r>
              <a:br>
                <a:rPr sz="1600"/>
              </a:b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Diversification </a:t>
              </a:r>
              <a:br>
                <a:rPr sz="1600"/>
              </a:b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(Financial Economies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5514840" y="3595680"/>
            <a:ext cx="2894040" cy="1511280"/>
            <a:chOff x="5514840" y="3595680"/>
            <a:chExt cx="2894040" cy="1511280"/>
          </a:xfrm>
        </p:grpSpPr>
        <p:sp>
          <p:nvSpPr>
            <p:cNvPr id="222" name=""/>
            <p:cNvSpPr/>
            <p:nvPr/>
          </p:nvSpPr>
          <p:spPr>
            <a:xfrm>
              <a:off x="5514840" y="3595680"/>
              <a:ext cx="2894040" cy="151128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589720" y="3682800"/>
              <a:ext cx="2746080" cy="13352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Related Linked </a:t>
              </a:r>
              <a:br>
                <a:rPr sz="1600"/>
              </a:b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Diversific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(Economies of Scope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514840" y="2041560"/>
            <a:ext cx="2893680" cy="1511280"/>
            <a:chOff x="5514840" y="2041560"/>
            <a:chExt cx="2893680" cy="1511280"/>
          </a:xfrm>
        </p:grpSpPr>
        <p:grpSp>
          <p:nvGrpSpPr>
            <p:cNvPr id="225" name=""/>
            <p:cNvGrpSpPr/>
            <p:nvPr/>
          </p:nvGrpSpPr>
          <p:grpSpPr>
            <a:xfrm>
              <a:off x="5514840" y="2041560"/>
              <a:ext cx="2893680" cy="1511280"/>
              <a:chOff x="5514840" y="2041560"/>
              <a:chExt cx="2893680" cy="1511280"/>
            </a:xfrm>
          </p:grpSpPr>
          <p:sp>
            <p:nvSpPr>
              <p:cNvPr id="226" name=""/>
              <p:cNvSpPr/>
              <p:nvPr/>
            </p:nvSpPr>
            <p:spPr>
              <a:xfrm>
                <a:off x="5514840" y="2041560"/>
                <a:ext cx="2893680" cy="1511280"/>
              </a:xfrm>
              <a:prstGeom prst="rect">
                <a:avLst/>
              </a:prstGeom>
              <a:gradFill rotWithShape="0">
                <a:gsLst>
                  <a:gs pos="0">
                    <a:srgbClr val="5e2f00"/>
                  </a:gs>
                  <a:gs pos="100000">
                    <a:srgbClr val="cc66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5600880" y="2086200"/>
                <a:ext cx="2720160" cy="1420560"/>
              </a:xfrm>
              <a:prstGeom prst="rect">
                <a:avLst/>
              </a:prstGeom>
              <a:gradFill rotWithShape="0">
                <a:gsLst>
                  <a:gs pos="0">
                    <a:srgbClr val="5e2f00"/>
                  </a:gs>
                  <a:gs pos="100000">
                    <a:srgbClr val="cc66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5627520" y="2111400"/>
              <a:ext cx="2667240" cy="1371600"/>
            </a:xfrm>
            <a:prstGeom prst="rect">
              <a:avLst/>
            </a:prstGeom>
            <a:gradFill rotWithShape="0">
              <a:gsLst>
                <a:gs pos="0">
                  <a:srgbClr val="cc6600"/>
                </a:gs>
                <a:gs pos="100000">
                  <a:srgbClr val="5e2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Both Operational and Corporate Relatedness</a:t>
              </a:r>
              <a:br>
                <a:rPr sz="1600"/>
              </a:b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(Rare capability that creates diseconomies of scope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6D5C51-1A60-457B-A4DC-522E104A12D6}" type="slidenum">
              <a:t>11</a:t>
            </a:fld>
          </a:p>
        </p:txBody>
      </p:sp>
    </p:spTree>
  </p:cSld>
  <p:transition>
    <p:random/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0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500"/>
                            </p:stCondLst>
                            <p:childTnLst>
                              <p:par>
                                <p:cTn id="26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1000"/>
                            </p:stCondLst>
                            <p:childTnLst>
                              <p:par>
                                <p:cTn id="26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1500"/>
                            </p:stCondLst>
                            <p:childTnLst>
                              <p:par>
                                <p:cTn id="27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2000"/>
                            </p:stCondLst>
                            <p:childTnLst>
                              <p:par>
                                <p:cTn id="2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000"/>
                            </p:stCondLst>
                            <p:childTnLst>
                              <p:par>
                                <p:cTn id="2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3500"/>
                            </p:stCondLst>
                            <p:childTnLst>
                              <p:par>
                                <p:cTn id="2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4000"/>
                            </p:stCondLst>
                            <p:childTnLst>
                              <p:par>
                                <p:cTn id="29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934400" cy="642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6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800" spc="-1" strike="noStrike">
                <a:solidFill>
                  <a:srgbClr val="cc3300"/>
                </a:solidFill>
                <a:latin typeface="Arial"/>
              </a:rPr>
              <a:t>6.2</a:t>
            </a:r>
            <a:r>
              <a:rPr b="1" i="1" lang="en-US" sz="16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alue-Creating Diversification Strategies: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ional and Corporate Relatedness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30" name=""/>
          <p:cNvSpPr/>
          <p:nvPr/>
        </p:nvSpPr>
        <p:spPr>
          <a:xfrm>
            <a:off x="457200" y="457200"/>
            <a:ext cx="8229600" cy="76212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457200" y="577800"/>
            <a:ext cx="1828800" cy="479160"/>
            <a:chOff x="457200" y="577800"/>
            <a:chExt cx="1828800" cy="479160"/>
          </a:xfrm>
        </p:grpSpPr>
        <p:sp>
          <p:nvSpPr>
            <p:cNvPr id="232" name=""/>
            <p:cNvSpPr/>
            <p:nvPr/>
          </p:nvSpPr>
          <p:spPr>
            <a:xfrm>
              <a:off x="685800" y="57780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57200" y="88416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1219320" y="1523880"/>
            <a:ext cx="6629400" cy="4749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826564-3FEC-43D5-9679-D1D1EE8987B7}" type="slidenum">
              <a:t>12</a:t>
            </a:fld>
          </a:p>
        </p:txBody>
      </p:sp>
    </p:spTree>
  </p:cSld>
  <p:transition>
    <p:random/>
  </p:transition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0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1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500"/>
                            </p:stCondLst>
                            <p:childTnLst>
                              <p:par>
                                <p:cTn id="3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5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1000"/>
                            </p:stCondLst>
                            <p:childTnLst>
                              <p:par>
                                <p:cTn id="327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29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lated Diversification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irm creates value by building upon or extending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Resourc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apabilit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re competenc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Economies of Scope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st savings that occur when a firm transfers capabilities and competencies developed in one of its businesses to another of its business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37D2FB-02B3-4003-BA48-1E0EB5D966B0}" type="slidenum">
              <a:t>13</a:t>
            </a:fld>
          </a:p>
        </p:txBody>
      </p:sp>
    </p:spTree>
  </p:cSld>
  <p:transition>
    <p:random/>
  </p:transition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0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1" dur="5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6" dur="50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500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500"/>
                            </p:stCondLst>
                            <p:childTnLst>
                              <p:par>
                                <p:cTn id="3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5" dur="500"/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lated Diversification: Economies of Scop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Value is created from economies of scope through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Operational relatedness in sharing activit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rporate relatedness in transferring skills or corporate core competencies among uni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e difference between sharing activities and transferring competencies is based on how the resources are jointly used to create economies of scope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8EE1B3-A274-4687-AD42-4604D805D813}" type="slidenum">
              <a:t>14</a:t>
            </a:fld>
          </a:p>
        </p:txBody>
      </p:sp>
    </p:spTree>
  </p:cSld>
  <p:transition>
    <p:random/>
  </p:transition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0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2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7" dur="5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2" dur="500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7" dur="500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2" dur="500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haring Activiti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Operational Relatednes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reated by sharing either a primary activity such as inventory delivery systems, or a support activity such as purchasing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ctivity sharing requires sharing strategic control over business uni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ctivity sharing may create risk because business-unit ties create links between outcomes. 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16A694-3A5A-4049-B86A-35DB9D55684F}" type="slidenum">
              <a:t>15</a:t>
            </a:fld>
          </a:p>
        </p:txBody>
      </p:sp>
    </p:spTree>
  </p:cSld>
  <p:transition>
    <p:random/>
  </p:transition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0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9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9" dur="500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4" dur="500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9" dur="500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Transferring Corporate Competenci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orporate Relatednes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Using complex sets of resources and capabilities to link different businesses through managerial and technological knowledge, experience, and expertis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869860-280E-4B8B-9023-5EEBCFA2AC24}" type="slidenum">
              <a:t>16</a:t>
            </a:fld>
          </a:p>
        </p:txBody>
      </p:sp>
    </p:spTree>
  </p:cSld>
  <p:transition>
    <p:random/>
  </p:transition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0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6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1" dur="5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6" dur="500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rporate Relatednes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reates value in two ways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liminates resource duplication in the need to allocate resources for a second unit to develop a competence that already exists in another unit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rovides intangible resources (resource intangibility) that are difficult for competitors to understand and imitat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transferred intangible resource gives the unit receiving it an immediate competitive advantage over its riva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0AF079-3E01-4154-A8C8-FF0D550D5BC1}" type="slidenum">
              <a:t>17</a:t>
            </a:fld>
          </a:p>
        </p:txBody>
      </p:sp>
    </p:spTree>
  </p:cSld>
  <p:transition>
    <p:random/>
  </p:transition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0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3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8" dur="5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3" dur="500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500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3" dur="500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lated Diversification: Market Power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Market power exists when a firm can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ell its products above the existing competitive level and/or 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Reduce the costs of its primary and support activities below the competitive level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A451BA-95E5-4246-A0F1-C7605D9A4F84}" type="slidenum">
              <a:t>18</a:t>
            </a:fld>
          </a:p>
        </p:txBody>
      </p:sp>
    </p:spTree>
  </p:cSld>
  <p:transition>
    <p:random/>
  </p:transition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0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0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5" dur="5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0" dur="500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5" dur="500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lated Diversification: Market Power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Multipoint Competition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wo or more diversified firms simultaneously compete in the same product areas or geographic marke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Vertical Integration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ckward integration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—a firm produces its own inpu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ward integration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—a firm operates its own distribution system for delivering its outpu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07F66D-A064-4FEB-9518-BC7D904CB875}" type="slidenum">
              <a:t>19</a:t>
            </a:fld>
          </a:p>
        </p:txBody>
      </p:sp>
    </p:spTree>
  </p:cSld>
  <p:transition>
    <p:random/>
  </p:transition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2" dur="5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7" dur="500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2" dur="500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7" dur="500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2" dur="500"/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4267080" cy="459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K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NOWLEDGE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O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BJECTIVES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47840" y="190512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47840" indent="-447840">
              <a:spcBef>
                <a:spcPts val="751"/>
              </a:spcBef>
              <a:buClr>
                <a:srgbClr val="00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 corporate-level strategy and discuss its purpose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447840" indent="-447840">
              <a:spcBef>
                <a:spcPts val="751"/>
              </a:spcBef>
              <a:buClr>
                <a:srgbClr val="00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be different levels of diversification with different corporate-level strategies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447840" indent="-447840">
              <a:spcBef>
                <a:spcPts val="751"/>
              </a:spcBef>
              <a:buClr>
                <a:srgbClr val="00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lain three primary reasons firms diversify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447840" indent="-447840">
              <a:spcBef>
                <a:spcPts val="751"/>
              </a:spcBef>
              <a:buClr>
                <a:srgbClr val="00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be how firms can create value by using a related diversification strategy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447840" indent="-447840">
              <a:spcBef>
                <a:spcPts val="751"/>
              </a:spcBef>
              <a:buClr>
                <a:srgbClr val="00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lain the two ways value can be created with an unrelated diversification strategy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447840" indent="-447840">
              <a:spcBef>
                <a:spcPts val="751"/>
              </a:spcBef>
              <a:buClr>
                <a:srgbClr val="00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cuss the incentives and resources that encourage diversification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447840" indent="-447840">
              <a:spcBef>
                <a:spcPts val="751"/>
              </a:spcBef>
              <a:buClr>
                <a:srgbClr val="00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be motives that can encourage managers to overdiversify a firm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99960" y="1047600"/>
            <a:ext cx="832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udying this chapter should provide you with the strategic management knowledge needed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FFA10C-EEFF-417C-A10B-B27716D3164A}" type="slidenum">
              <a:t>2</a:t>
            </a:fld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lated Diversification: Complexity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imultaneous Operational Relatedness and Corporate Relatednes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volves managing two sources of knowledge simultaneously: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rational forms of economies of sc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rporate forms of economies of sc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ny such efforts often fail because of implementation difficulti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F6637D-1221-482A-A63E-E1F343486C9C}" type="slidenum">
              <a:t>20</a:t>
            </a:fld>
          </a:p>
        </p:txBody>
      </p:sp>
    </p:spTree>
  </p:cSld>
  <p:transition>
    <p:random/>
  </p:transition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fill="hold">
                      <p:stCondLst>
                        <p:cond delay="0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9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4" dur="50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9" dur="500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2" dur="500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0" dur="500"/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Unrelated Diversification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inancial Economie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re cost savings realized through improved allocations of financial resourc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ed on investments inside or outside the fi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reate value through two types of financial economies: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icient internal capital allo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rchase of other corporations and the restructuring their ass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81360D-F140-4949-A433-4A0EC502781C}" type="slidenum">
              <a:t>21</a:t>
            </a:fld>
          </a:p>
        </p:txBody>
      </p:sp>
    </p:spTree>
  </p:cSld>
  <p:transition>
    <p:random/>
  </p:transition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fill="hold">
                      <p:stCondLst>
                        <p:cond delay="0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7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7" dur="500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0" dur="500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5" dur="500"/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8" dur="500"/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1" dur="500"/>
                                        <p:tgtEl>
                                          <p:spTgt spid="2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Unrelated Diversification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Efficient Internal Capital Market Allocation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rporate office distributes capital to business divisions to create value for overall company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rporate office gains access to information about those businesses’ actual and prospective performan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nglomerates have a fairly short life cycle because financial economies are more easily duplicated by competitors than are gains from operational and corporate relatednes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134366-12B0-413B-A4E6-E71762F1FD16}" type="slidenum">
              <a:t>22</a:t>
            </a:fld>
          </a:p>
        </p:txBody>
      </p:sp>
    </p:spTree>
  </p:cSld>
  <p:transition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0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8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3" dur="5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8" dur="5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1" dur="5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6" dur="5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Unrelated Diversification: Restructuring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Restructuring creates financial economie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 firm creates value by buying and selling other firms’ assets in the external market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Resource allocation decisions may become complex, so success often requires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ocus on mature, low-technology business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ocus on businesses not reliant on a client orientation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D8CB9A-358A-40C5-96FC-700826E40E1C}" type="slidenum">
              <a:t>23</a:t>
            </a:fld>
          </a:p>
        </p:txBody>
      </p:sp>
    </p:spTree>
  </p:cSld>
  <p:transition>
    <p:random/>
  </p:transition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fill="hold">
                      <p:stCondLst>
                        <p:cond delay="0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3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8" dur="5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3" dur="500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8" dur="500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3" dur="500"/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8" dur="500"/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External Incentives to Diversify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58" name=""/>
          <p:cNvSpPr/>
          <p:nvPr/>
        </p:nvSpPr>
        <p:spPr>
          <a:xfrm>
            <a:off x="3429000" y="1469880"/>
            <a:ext cx="4952880" cy="424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Antitrust laws in 1960s and 1970s discouraged mergers that created increased market power (vertical or horizontal integr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Mergers in the 1960s and 1970s thus tended to be unrelat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Relaxation of antitrust enforcement results in more and larger horizontal merg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Early 2000: antitrust concerns seem to be emerging and mergers now more closely scrutiniz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533520" y="1371600"/>
            <a:ext cx="2189160" cy="896760"/>
            <a:chOff x="533520" y="1371600"/>
            <a:chExt cx="2189160" cy="896760"/>
          </a:xfrm>
        </p:grpSpPr>
        <p:sp>
          <p:nvSpPr>
            <p:cNvPr id="260" name=""/>
            <p:cNvSpPr/>
            <p:nvPr/>
          </p:nvSpPr>
          <p:spPr>
            <a:xfrm>
              <a:off x="533520" y="1371600"/>
              <a:ext cx="2189160" cy="89676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27120" y="1457280"/>
              <a:ext cx="2000160" cy="72360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ahoma"/>
                </a:rPr>
                <a:t>Anti-trust Legisl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2" name=""/>
          <p:cNvSpPr/>
          <p:nvPr/>
        </p:nvSpPr>
        <p:spPr>
          <a:xfrm>
            <a:off x="2732040" y="1393920"/>
            <a:ext cx="1295280" cy="4397400"/>
          </a:xfrm>
          <a:custGeom>
            <a:avLst/>
            <a:gdLst>
              <a:gd name="textAreaLeft" fmla="*/ 827640 w 1295280"/>
              <a:gd name="textAreaRight" fmla="*/ 1295640 w 1295280"/>
              <a:gd name="textAreaTop" fmla="*/ 0 h 4397400"/>
              <a:gd name="textAreaBottom" fmla="*/ 4397760 h 439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2131"/>
                </a:lnTo>
                <a:cubicBezTo>
                  <a:pt x="10800" y="2131"/>
                  <a:pt x="5400" y="2131"/>
                  <a:pt x="0" y="2131"/>
                </a:cubicBezTo>
                <a:cubicBezTo>
                  <a:pt x="5400" y="2131"/>
                  <a:pt x="10800" y="2131"/>
                  <a:pt x="10800" y="2131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18CB3B-D50A-4816-8820-F0443F233737}" type="slidenum">
              <a:t>24</a:t>
            </a:fld>
          </a:p>
        </p:txBody>
      </p:sp>
    </p:spTree>
  </p:cSld>
  <p:transition>
    <p:random/>
  </p:transition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0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5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500"/>
                            </p:stCondLst>
                            <p:childTnLst>
                              <p:par>
                                <p:cTn id="63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fill="hold">
                            <p:stCondLst>
                              <p:cond delay="1000"/>
                            </p:stCondLst>
                            <p:childTnLst>
                              <p:par>
                                <p:cTn id="6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4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fill="hold">
                            <p:stCondLst>
                              <p:cond delay="1500"/>
                            </p:stCondLst>
                            <p:childTnLst>
                              <p:par>
                                <p:cTn id="646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fill="hold">
                            <p:stCondLst>
                              <p:cond delay="2000"/>
                            </p:stCondLst>
                            <p:childTnLst>
                              <p:par>
                                <p:cTn id="653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fill="hold">
                            <p:stCondLst>
                              <p:cond delay="2500"/>
                            </p:stCondLst>
                            <p:childTnLst>
                              <p:par>
                                <p:cTn id="660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6" fill="hold">
                            <p:stCondLst>
                              <p:cond delay="3000"/>
                            </p:stCondLst>
                            <p:childTnLst>
                              <p:par>
                                <p:cTn id="66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External Incentives to Diversify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3429000" y="1469880"/>
            <a:ext cx="4952880" cy="409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25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High tax rates on dividends cause a corporate shift from dividends to buying and building companies in high-performance industr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1986 Tax Reform 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6600"/>
                </a:solidFill>
                <a:latin typeface="Arial"/>
              </a:rPr>
              <a:t>Reduced individual ordinary income tax rate from 50 to 28 perc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6600"/>
                </a:solidFill>
                <a:latin typeface="Arial"/>
              </a:rPr>
              <a:t>Treated capital gains as ordinary incom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6600"/>
                </a:solidFill>
                <a:latin typeface="Arial"/>
              </a:rPr>
              <a:t>Thus created incentive for shareholders to prefer dividends to acquisition investm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533520" y="1371600"/>
            <a:ext cx="2189160" cy="896760"/>
            <a:chOff x="533520" y="1371600"/>
            <a:chExt cx="2189160" cy="896760"/>
          </a:xfrm>
        </p:grpSpPr>
        <p:sp>
          <p:nvSpPr>
            <p:cNvPr id="266" name=""/>
            <p:cNvSpPr/>
            <p:nvPr/>
          </p:nvSpPr>
          <p:spPr>
            <a:xfrm>
              <a:off x="533520" y="1371600"/>
              <a:ext cx="2189160" cy="89676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27120" y="1457280"/>
              <a:ext cx="2000160" cy="72360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Anti-trust Legisl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2732040" y="1393920"/>
            <a:ext cx="1295280" cy="4244760"/>
          </a:xfrm>
          <a:custGeom>
            <a:avLst/>
            <a:gdLst>
              <a:gd name="textAreaLeft" fmla="*/ 827640 w 1295280"/>
              <a:gd name="textAreaRight" fmla="*/ 1295640 w 1295280"/>
              <a:gd name="textAreaTop" fmla="*/ 0 h 4244760"/>
              <a:gd name="textAreaBottom" fmla="*/ 4245120 h 4244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7020"/>
                </a:lnTo>
                <a:cubicBezTo>
                  <a:pt x="10800" y="7020"/>
                  <a:pt x="5400" y="7020"/>
                  <a:pt x="0" y="7020"/>
                </a:cubicBezTo>
                <a:cubicBezTo>
                  <a:pt x="5400" y="7020"/>
                  <a:pt x="10800" y="7020"/>
                  <a:pt x="10800" y="7020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533520" y="2303640"/>
            <a:ext cx="2189160" cy="896760"/>
            <a:chOff x="533520" y="2303640"/>
            <a:chExt cx="2189160" cy="896760"/>
          </a:xfrm>
        </p:grpSpPr>
        <p:sp>
          <p:nvSpPr>
            <p:cNvPr id="270" name=""/>
            <p:cNvSpPr/>
            <p:nvPr/>
          </p:nvSpPr>
          <p:spPr>
            <a:xfrm>
              <a:off x="533520" y="2303640"/>
              <a:ext cx="2189160" cy="89676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27120" y="2389320"/>
              <a:ext cx="2000160" cy="72360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ahoma"/>
                </a:rPr>
                <a:t>Tax Law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1FEF06-010D-4161-BB8F-298DC1DB07AC}" type="slidenum">
              <a:t>25</a:t>
            </a:fld>
          </a:p>
        </p:txBody>
      </p:sp>
    </p:spTree>
  </p:cSld>
  <p:timing>
    <p:tnLst>
      <p:par>
        <p:cTn id="673" dur="indefinite" restart="never" nodeType="tmRoot">
          <p:childTnLst>
            <p:seq>
              <p:cTn id="674" dur="indefinite" nodeType="mainSeq">
                <p:childTnLst>
                  <p:par>
                    <p:cTn id="675" fill="hold">
                      <p:stCondLst>
                        <p:cond delay="0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79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fill="hold">
                            <p:stCondLst>
                              <p:cond delay="500"/>
                            </p:stCondLst>
                            <p:childTnLst>
                              <p:par>
                                <p:cTn id="6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3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fill="hold">
                            <p:stCondLst>
                              <p:cond delay="1000"/>
                            </p:stCondLst>
                            <p:childTnLst>
                              <p:par>
                                <p:cTn id="685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500"/>
                            </p:stCondLst>
                            <p:childTnLst>
                              <p:par>
                                <p:cTn id="692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5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8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0" dur="5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5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5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4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0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2" dur="500" fill="hold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ternal Incentives to Diversify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73" name=""/>
          <p:cNvSpPr/>
          <p:nvPr/>
        </p:nvSpPr>
        <p:spPr>
          <a:xfrm>
            <a:off x="3429000" y="1438200"/>
            <a:ext cx="4952880" cy="30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5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High performance eliminates the need for greater diversif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5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Low performance acts as incentive for diversif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5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Firms plagued by poor performance often take higher risks (diversification is risk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4" name=""/>
          <p:cNvGrpSpPr/>
          <p:nvPr/>
        </p:nvGrpSpPr>
        <p:grpSpPr>
          <a:xfrm>
            <a:off x="533520" y="1371600"/>
            <a:ext cx="2189160" cy="896760"/>
            <a:chOff x="533520" y="1371600"/>
            <a:chExt cx="2189160" cy="896760"/>
          </a:xfrm>
        </p:grpSpPr>
        <p:sp>
          <p:nvSpPr>
            <p:cNvPr id="275" name=""/>
            <p:cNvSpPr/>
            <p:nvPr/>
          </p:nvSpPr>
          <p:spPr>
            <a:xfrm>
              <a:off x="533520" y="1371600"/>
              <a:ext cx="2189160" cy="89676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27120" y="1457280"/>
              <a:ext cx="2000160" cy="72360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ahoma"/>
                </a:rPr>
                <a:t>Low Performa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7" name=""/>
          <p:cNvSpPr/>
          <p:nvPr/>
        </p:nvSpPr>
        <p:spPr>
          <a:xfrm>
            <a:off x="2732040" y="1393920"/>
            <a:ext cx="1295280" cy="3101760"/>
          </a:xfrm>
          <a:custGeom>
            <a:avLst/>
            <a:gdLst>
              <a:gd name="textAreaLeft" fmla="*/ 827640 w 1295280"/>
              <a:gd name="textAreaRight" fmla="*/ 1295640 w 1295280"/>
              <a:gd name="textAreaTop" fmla="*/ 0 h 3101760"/>
              <a:gd name="textAreaBottom" fmla="*/ 3102120 h 3101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2804"/>
                </a:lnTo>
                <a:cubicBezTo>
                  <a:pt x="10800" y="2804"/>
                  <a:pt x="5400" y="2804"/>
                  <a:pt x="0" y="2804"/>
                </a:cubicBezTo>
                <a:cubicBezTo>
                  <a:pt x="5400" y="2804"/>
                  <a:pt x="10800" y="2804"/>
                  <a:pt x="10800" y="2804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87381F-B5A9-47FD-BF3E-0D03C2DC5CC4}" type="slidenum">
              <a:t>26</a:t>
            </a:fld>
          </a:p>
        </p:txBody>
      </p:sp>
    </p:spTree>
  </p:cSld>
  <p:transition>
    <p:random/>
  </p:transition>
  <p:timing>
    <p:tnLst>
      <p:par>
        <p:cTn id="716" dur="indefinite" restart="never" nodeType="tmRoot">
          <p:childTnLst>
            <p:seq>
              <p:cTn id="717" dur="indefinite" nodeType="mainSeq">
                <p:childTnLst>
                  <p:par>
                    <p:cTn id="718" fill="hold">
                      <p:stCondLst>
                        <p:cond delay="0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2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fill="hold">
                            <p:stCondLst>
                              <p:cond delay="500"/>
                            </p:stCondLst>
                            <p:childTnLst>
                              <p:par>
                                <p:cTn id="72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8" fill="hold">
                            <p:stCondLst>
                              <p:cond delay="1000"/>
                            </p:stCondLst>
                            <p:childTnLst>
                              <p:par>
                                <p:cTn id="7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1500"/>
                            </p:stCondLst>
                            <p:childTnLst>
                              <p:par>
                                <p:cTn id="733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fill="hold">
                            <p:stCondLst>
                              <p:cond delay="2000"/>
                            </p:stCondLst>
                            <p:childTnLst>
                              <p:par>
                                <p:cTn id="740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2" dur="5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5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5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5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6" fill="hold">
                            <p:stCondLst>
                              <p:cond delay="2500"/>
                            </p:stCondLst>
                            <p:childTnLst>
                              <p:par>
                                <p:cTn id="74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9" dur="5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5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5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5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7720" y="533520"/>
            <a:ext cx="662940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600" spc="-1" strike="noStrike">
                <a:solidFill>
                  <a:srgbClr val="cc3300"/>
                </a:solidFill>
                <a:latin typeface="Arial"/>
              </a:rPr>
              <a:t>6.3</a:t>
            </a:r>
            <a:r>
              <a:rPr b="1" i="1" lang="en-US" sz="14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he Curvilinear Relationship between Diversification and Performance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79" name=""/>
          <p:cNvSpPr/>
          <p:nvPr/>
        </p:nvSpPr>
        <p:spPr>
          <a:xfrm>
            <a:off x="457200" y="457200"/>
            <a:ext cx="8229600" cy="68580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457200" y="577800"/>
            <a:ext cx="1828800" cy="479160"/>
            <a:chOff x="457200" y="577800"/>
            <a:chExt cx="1828800" cy="479160"/>
          </a:xfrm>
        </p:grpSpPr>
        <p:sp>
          <p:nvSpPr>
            <p:cNvPr id="281" name=""/>
            <p:cNvSpPr/>
            <p:nvPr/>
          </p:nvSpPr>
          <p:spPr>
            <a:xfrm>
              <a:off x="685800" y="57780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57200" y="88416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83" name="" descr=""/>
          <p:cNvPicPr/>
          <p:nvPr/>
        </p:nvPicPr>
        <p:blipFill>
          <a:blip r:embed="rId1"/>
          <a:stretch/>
        </p:blipFill>
        <p:spPr>
          <a:xfrm>
            <a:off x="1492200" y="1447920"/>
            <a:ext cx="6143760" cy="478296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 flipV="1">
            <a:off x="1809720" y="2286000"/>
            <a:ext cx="0" cy="31240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06E5C4-220D-48DB-ADA9-DA25BDDD68A3}" type="slidenum">
              <a:t>27</a:t>
            </a:fld>
          </a:p>
        </p:txBody>
      </p:sp>
    </p:spTree>
  </p:cSld>
  <p:transition>
    <p:random/>
  </p:transition>
  <p:timing>
    <p:tnLst>
      <p:par>
        <p:cTn id="753" dur="indefinite" restart="never" nodeType="tmRoot">
          <p:childTnLst>
            <p:seq>
              <p:cTn id="754" dur="indefinite" nodeType="mainSeq">
                <p:childTnLst>
                  <p:par>
                    <p:cTn id="755" fill="hold">
                      <p:stCondLst>
                        <p:cond delay="0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9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0" fill="hold">
                            <p:stCondLst>
                              <p:cond delay="500"/>
                            </p:stCondLst>
                            <p:childTnLst>
                              <p:par>
                                <p:cTn id="7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fill="hold">
                            <p:stCondLst>
                              <p:cond delay="1000"/>
                            </p:stCondLst>
                            <p:childTnLst>
                              <p:par>
                                <p:cTn id="76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7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ternal Incentives to Diversify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86" name=""/>
          <p:cNvSpPr/>
          <p:nvPr/>
        </p:nvSpPr>
        <p:spPr>
          <a:xfrm>
            <a:off x="3429000" y="1469880"/>
            <a:ext cx="4952880" cy="340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Diversification may be defensive strategy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roduct line m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roduct line is threaten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irm is small and is in mature or maturing indust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7" name=""/>
          <p:cNvGrpSpPr/>
          <p:nvPr/>
        </p:nvGrpSpPr>
        <p:grpSpPr>
          <a:xfrm>
            <a:off x="533520" y="1371600"/>
            <a:ext cx="2189160" cy="896760"/>
            <a:chOff x="533520" y="1371600"/>
            <a:chExt cx="2189160" cy="896760"/>
          </a:xfrm>
        </p:grpSpPr>
        <p:sp>
          <p:nvSpPr>
            <p:cNvPr id="288" name=""/>
            <p:cNvSpPr/>
            <p:nvPr/>
          </p:nvSpPr>
          <p:spPr>
            <a:xfrm>
              <a:off x="533520" y="1371600"/>
              <a:ext cx="2189160" cy="89676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27120" y="1457280"/>
              <a:ext cx="2000160" cy="72360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Low Performa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0" name=""/>
          <p:cNvSpPr/>
          <p:nvPr/>
        </p:nvSpPr>
        <p:spPr>
          <a:xfrm>
            <a:off x="2732040" y="1393920"/>
            <a:ext cx="1295280" cy="3101760"/>
          </a:xfrm>
          <a:custGeom>
            <a:avLst/>
            <a:gdLst>
              <a:gd name="textAreaLeft" fmla="*/ 827640 w 1295280"/>
              <a:gd name="textAreaRight" fmla="*/ 1295640 w 1295280"/>
              <a:gd name="textAreaTop" fmla="*/ 0 h 3101760"/>
              <a:gd name="textAreaBottom" fmla="*/ 3102120 h 3101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9569"/>
                </a:lnTo>
                <a:cubicBezTo>
                  <a:pt x="10800" y="9569"/>
                  <a:pt x="5400" y="9569"/>
                  <a:pt x="0" y="9569"/>
                </a:cubicBezTo>
                <a:cubicBezTo>
                  <a:pt x="5400" y="9569"/>
                  <a:pt x="10800" y="9569"/>
                  <a:pt x="10800" y="9569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1" name=""/>
          <p:cNvGrpSpPr/>
          <p:nvPr/>
        </p:nvGrpSpPr>
        <p:grpSpPr>
          <a:xfrm>
            <a:off x="533520" y="2303640"/>
            <a:ext cx="2189160" cy="1277280"/>
            <a:chOff x="533520" y="2303640"/>
            <a:chExt cx="2189160" cy="1277280"/>
          </a:xfrm>
        </p:grpSpPr>
        <p:sp>
          <p:nvSpPr>
            <p:cNvPr id="292" name=""/>
            <p:cNvSpPr/>
            <p:nvPr/>
          </p:nvSpPr>
          <p:spPr>
            <a:xfrm>
              <a:off x="533520" y="2303640"/>
              <a:ext cx="2189160" cy="127728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27120" y="2425680"/>
              <a:ext cx="2000160" cy="103068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ahoma"/>
                </a:rPr>
                <a:t>Uncertain Future Cash Flow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6861CF-7B52-4D39-80E3-0A15AF0006AE}" type="slidenum">
              <a:t>28</a:t>
            </a:fld>
          </a:p>
        </p:txBody>
      </p:sp>
    </p:spTree>
  </p:cSld>
  <p:transition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4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5" fill="hold">
                            <p:stCondLst>
                              <p:cond delay="500"/>
                            </p:stCondLst>
                            <p:childTnLst>
                              <p:par>
                                <p:cTn id="776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78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9" fill="hold">
                            <p:stCondLst>
                              <p:cond delay="1000"/>
                            </p:stCondLst>
                            <p:childTnLst>
                              <p:par>
                                <p:cTn id="7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2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3" fill="hold">
                            <p:stCondLst>
                              <p:cond delay="1500"/>
                            </p:stCondLst>
                            <p:childTnLst>
                              <p:par>
                                <p:cTn id="78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6" dur="5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5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5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5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0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2" dur="500" fill="hold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500" fill="hold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500" fill="hold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500" fill="hold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6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500" fill="hold"/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500" fill="hold"/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500" fill="hold"/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2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4" dur="500" fill="hold"/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500" fill="hold"/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500" fill="hold"/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500" fill="hold"/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ternal Incentives to Diversify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95" name=""/>
          <p:cNvSpPr/>
          <p:nvPr/>
        </p:nvSpPr>
        <p:spPr>
          <a:xfrm>
            <a:off x="3429000" y="1469880"/>
            <a:ext cx="5029200" cy="432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Synergy exists when the value created by businesses working together </a:t>
            </a:r>
            <a:r>
              <a:rPr b="0" lang="en-US" sz="2000" spc="-1" strike="noStrike">
                <a:solidFill>
                  <a:srgbClr val="660033"/>
                </a:solidFill>
                <a:latin typeface="Arial"/>
              </a:rPr>
              <a:t>exceeds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 the value created by them working independent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… 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but synergy creates joint interdependence between business uni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A firm may become risk averse and constrain its level of activity shar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A firm may reduce level of technological change by operating in more certain environ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533520" y="1371600"/>
            <a:ext cx="2189160" cy="896760"/>
            <a:chOff x="533520" y="1371600"/>
            <a:chExt cx="2189160" cy="896760"/>
          </a:xfrm>
        </p:grpSpPr>
        <p:sp>
          <p:nvSpPr>
            <p:cNvPr id="297" name=""/>
            <p:cNvSpPr/>
            <p:nvPr/>
          </p:nvSpPr>
          <p:spPr>
            <a:xfrm>
              <a:off x="533520" y="1371600"/>
              <a:ext cx="2189160" cy="89676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27120" y="1457280"/>
              <a:ext cx="2000160" cy="72360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Low Performa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9" name=""/>
          <p:cNvSpPr/>
          <p:nvPr/>
        </p:nvSpPr>
        <p:spPr>
          <a:xfrm>
            <a:off x="2732040" y="1393920"/>
            <a:ext cx="1295280" cy="4397400"/>
          </a:xfrm>
          <a:custGeom>
            <a:avLst/>
            <a:gdLst>
              <a:gd name="textAreaLeft" fmla="*/ 827640 w 1295280"/>
              <a:gd name="textAreaRight" fmla="*/ 1295640 w 1295280"/>
              <a:gd name="textAreaTop" fmla="*/ 0 h 4397400"/>
              <a:gd name="textAreaBottom" fmla="*/ 4397760 h 439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13865"/>
                </a:lnTo>
                <a:cubicBezTo>
                  <a:pt x="10800" y="13865"/>
                  <a:pt x="5400" y="13865"/>
                  <a:pt x="0" y="13865"/>
                </a:cubicBezTo>
                <a:cubicBezTo>
                  <a:pt x="5400" y="13865"/>
                  <a:pt x="10800" y="13865"/>
                  <a:pt x="10800" y="13865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0" name=""/>
          <p:cNvGrpSpPr/>
          <p:nvPr/>
        </p:nvGrpSpPr>
        <p:grpSpPr>
          <a:xfrm>
            <a:off x="533520" y="2303640"/>
            <a:ext cx="2189160" cy="1277280"/>
            <a:chOff x="533520" y="2303640"/>
            <a:chExt cx="2189160" cy="1277280"/>
          </a:xfrm>
        </p:grpSpPr>
        <p:sp>
          <p:nvSpPr>
            <p:cNvPr id="301" name=""/>
            <p:cNvSpPr/>
            <p:nvPr/>
          </p:nvSpPr>
          <p:spPr>
            <a:xfrm>
              <a:off x="533520" y="2303640"/>
              <a:ext cx="2189160" cy="127728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27120" y="2425680"/>
              <a:ext cx="2000160" cy="103068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Uncertain Future Cash Flow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533520" y="3603600"/>
            <a:ext cx="2189160" cy="1277640"/>
            <a:chOff x="533520" y="3603600"/>
            <a:chExt cx="2189160" cy="1277640"/>
          </a:xfrm>
        </p:grpSpPr>
        <p:sp>
          <p:nvSpPr>
            <p:cNvPr id="304" name=""/>
            <p:cNvSpPr/>
            <p:nvPr/>
          </p:nvSpPr>
          <p:spPr>
            <a:xfrm>
              <a:off x="533520" y="3603600"/>
              <a:ext cx="2189160" cy="127764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27120" y="3725640"/>
              <a:ext cx="2000160" cy="10310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ahoma"/>
                </a:rPr>
                <a:t>Synergy and Risk Red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A923A0-2E82-4425-AB3C-B29E0EDA9620}" type="slidenum">
              <a:t>29</a:t>
            </a:fld>
          </a:p>
        </p:txBody>
      </p:sp>
    </p:spTree>
  </p:cSld>
  <p:timing>
    <p:tnLst>
      <p:par>
        <p:cTn id="808" dur="indefinite" restart="never" nodeType="tmRoot">
          <p:childTnLst>
            <p:seq>
              <p:cTn id="809" dur="indefinite" nodeType="mainSeq">
                <p:childTnLst>
                  <p:par>
                    <p:cTn id="810" fill="hold">
                      <p:stCondLst>
                        <p:cond delay="0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14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5" fill="hold">
                            <p:stCondLst>
                              <p:cond delay="500"/>
                            </p:stCondLst>
                            <p:childTnLst>
                              <p:par>
                                <p:cTn id="8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8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9" fill="hold">
                            <p:stCondLst>
                              <p:cond delay="1000"/>
                            </p:stCondLst>
                            <p:childTnLst>
                              <p:par>
                                <p:cTn id="820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2" dur="5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5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5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5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6" fill="hold">
                            <p:stCondLst>
                              <p:cond delay="1500"/>
                            </p:stCondLst>
                            <p:childTnLst>
                              <p:par>
                                <p:cTn id="82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9" dur="500" fill="hold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500" fill="hold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500" fill="hold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500" fill="hold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3" fill="hold">
                            <p:stCondLst>
                              <p:cond delay="2000"/>
                            </p:stCondLst>
                            <p:childTnLst>
                              <p:par>
                                <p:cTn id="83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6" dur="500" fill="hold"/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500" fill="hold"/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500" fill="hold"/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500" fill="hold"/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0" fill="hold">
                            <p:stCondLst>
                              <p:cond delay="2500"/>
                            </p:stCondLst>
                            <p:childTnLst>
                              <p:par>
                                <p:cTn id="84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3" dur="500" fill="hold"/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500" fill="hold"/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500" fill="hold"/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500" fill="hold"/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The Role of Diversification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Diversification strategies play a major role in the behavior of large firms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Product diversification concerns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scope of the industries and markets in which the firm compet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How managers buy, create and sell different businesses to match skills and strengths with opportunities presented to the firm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151A62-44A3-47B4-85D9-323918EB56B3}" type="slidenum">
              <a:t>3</a:t>
            </a:fld>
          </a:p>
        </p:txBody>
      </p:sp>
    </p:spTree>
  </p:cSld>
  <p:transition>
    <p:random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sources and Diversification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A firm must have both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centives to diversif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resources required to create value through diversification—cash and tangible resources (e.g., plant and equipment)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Value creation is determined more by appropriate use of resources than by incentives to diversify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Managerial Motives to Diversify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nagerial risk reduction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esire for increased compensation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16462E-9FE9-48C7-B44F-0D2F5AFBB3A8}" type="slidenum">
              <a:t>30</a:t>
            </a:fld>
          </a:p>
        </p:txBody>
      </p:sp>
    </p:spTree>
  </p:cSld>
  <p:transition>
    <p:random/>
  </p:transition>
  <p:timing>
    <p:tnLst>
      <p:par>
        <p:cTn id="847" dur="indefinite" restart="never" nodeType="tmRoot">
          <p:childTnLst>
            <p:seq>
              <p:cTn id="848" dur="indefinite" nodeType="mainSeq">
                <p:childTnLst>
                  <p:par>
                    <p:cTn id="849" fill="hold">
                      <p:stCondLst>
                        <p:cond delay="0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3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8" dur="500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3" dur="500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8" dur="500"/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3" dur="500"/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8" dur="500"/>
                                        <p:tgtEl>
                                          <p:spTgt spid="3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3" dur="500"/>
                                        <p:tgtEl>
                                          <p:spTgt spid="3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8" dur="500"/>
                                        <p:tgtEl>
                                          <p:spTgt spid="3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457200" y="609480"/>
            <a:ext cx="6419880" cy="577368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2"/>
          <a:stretch/>
        </p:blipFill>
        <p:spPr>
          <a:xfrm>
            <a:off x="5867280" y="447840"/>
            <a:ext cx="2819520" cy="1761840"/>
          </a:xfrm>
          <a:prstGeom prst="rect">
            <a:avLst/>
          </a:prstGeom>
          <a:ln w="0">
            <a:noFill/>
          </a:ln>
        </p:spPr>
      </p:pic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477120" y="561960"/>
            <a:ext cx="2286000" cy="1496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600" spc="-1" strike="noStrike">
                <a:solidFill>
                  <a:srgbClr val="cc3300"/>
                </a:solidFill>
                <a:latin typeface="Arial"/>
              </a:rPr>
              <a:t>6.4</a:t>
            </a:r>
            <a:r>
              <a:rPr b="1" i="1" lang="en-US" sz="1400" spc="-1" strike="noStrike">
                <a:solidFill>
                  <a:srgbClr val="cc3300"/>
                </a:solidFill>
                <a:latin typeface="Arial"/>
              </a:rPr>
              <a:t> </a:t>
            </a:r>
            <a:br>
              <a:rPr sz="1200"/>
            </a:br>
            <a:br>
              <a:rPr sz="12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ummary Model of the Relationship between Firm Performance and Diversification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11" name=""/>
          <p:cNvSpPr/>
          <p:nvPr/>
        </p:nvSpPr>
        <p:spPr>
          <a:xfrm>
            <a:off x="6324480" y="593640"/>
            <a:ext cx="0" cy="479520"/>
          </a:xfrm>
          <a:prstGeom prst="line">
            <a:avLst/>
          </a:prstGeom>
          <a:ln w="284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095880" y="890640"/>
            <a:ext cx="1828800" cy="0"/>
          </a:xfrm>
          <a:prstGeom prst="line">
            <a:avLst/>
          </a:prstGeom>
          <a:ln w="572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6019920" y="591516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ource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R. E. Hoskisson &amp; M. A. Hitt, 1990, Antecedents and performance outcomes of diversification: A review and critique of theoretical perspectives,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Journal of Management,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6: 498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7F37A5-CCA6-42FA-AD25-29576AC0FEFC}" type="slidenum">
              <a:t>31</a:t>
            </a:fld>
          </a:p>
        </p:txBody>
      </p:sp>
    </p:spTree>
  </p:cSld>
  <p:transition>
    <p:random/>
  </p:transition>
  <p:timing>
    <p:tnLst>
      <p:par>
        <p:cTn id="889" dur="indefinite" restart="never" nodeType="tmRoot">
          <p:childTnLst>
            <p:seq>
              <p:cTn id="890" dur="indefinite" nodeType="mainSeq">
                <p:childTnLst>
                  <p:par>
                    <p:cTn id="891" fill="hold">
                      <p:stCondLst>
                        <p:cond delay="0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5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Two Strategy Level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Business-level Strategy (Competitive)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ach business unit in a diversified firm chooses a business-level strategy as its means of competing in individual product marke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orporate-level Strategy (Companywide)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pecifies actions taken by the firm to gain a competitive advantage by selecting and managing a group of different businesses competing in several industries and product marke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A9E718-90E3-4CB9-92D1-34B64933FB86}" type="slidenum">
              <a:t>4</a:t>
            </a:fld>
          </a:p>
        </p:txBody>
      </p:sp>
    </p:spTree>
  </p:cSld>
  <p:transition>
    <p:random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rporate-Level Strategy: Key Question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orporate-level Strategy’s Value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degree to which the businesses in the portfolio are worth more under the management of the company than they would be under other ownership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What businesses should </a:t>
            </a:r>
            <a:br>
              <a:rPr sz="2400"/>
            </a:b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the firm be in?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How should the corporate </a:t>
            </a:r>
            <a:br>
              <a:rPr sz="2400"/>
            </a:b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office manage the </a:t>
            </a:r>
            <a:br>
              <a:rPr sz="2400"/>
            </a:b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group of businesses?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6397560" y="3429000"/>
            <a:ext cx="811440" cy="517320"/>
            <a:chOff x="6397560" y="3429000"/>
            <a:chExt cx="811440" cy="517320"/>
          </a:xfrm>
        </p:grpSpPr>
        <p:sp>
          <p:nvSpPr>
            <p:cNvPr id="107" name=""/>
            <p:cNvSpPr/>
            <p:nvPr/>
          </p:nvSpPr>
          <p:spPr>
            <a:xfrm>
              <a:off x="6397560" y="3429000"/>
              <a:ext cx="811440" cy="51732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456600" y="3484440"/>
              <a:ext cx="691920" cy="404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5433840" y="4249800"/>
            <a:ext cx="2738520" cy="519120"/>
            <a:chOff x="5433840" y="4249800"/>
            <a:chExt cx="2738520" cy="519120"/>
          </a:xfrm>
        </p:grpSpPr>
        <p:grpSp>
          <p:nvGrpSpPr>
            <p:cNvPr id="110" name=""/>
            <p:cNvGrpSpPr/>
            <p:nvPr/>
          </p:nvGrpSpPr>
          <p:grpSpPr>
            <a:xfrm>
              <a:off x="7360920" y="4249800"/>
              <a:ext cx="811440" cy="517680"/>
              <a:chOff x="7360920" y="4249800"/>
              <a:chExt cx="811440" cy="517680"/>
            </a:xfrm>
          </p:grpSpPr>
          <p:sp>
            <p:nvSpPr>
              <p:cNvPr id="111" name=""/>
              <p:cNvSpPr/>
              <p:nvPr/>
            </p:nvSpPr>
            <p:spPr>
              <a:xfrm>
                <a:off x="7360920" y="4249800"/>
                <a:ext cx="811440" cy="517680"/>
              </a:xfrm>
              <a:prstGeom prst="rect">
                <a:avLst/>
              </a:prstGeom>
              <a:gradFill rotWithShape="0">
                <a:gsLst>
                  <a:gs pos="0">
                    <a:srgbClr val="566768"/>
                  </a:gs>
                  <a:gs pos="100000">
                    <a:srgbClr val="bbe0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7419600" y="4305600"/>
                <a:ext cx="692280" cy="404640"/>
              </a:xfrm>
              <a:prstGeom prst="rect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6676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" name=""/>
            <p:cNvGrpSpPr/>
            <p:nvPr/>
          </p:nvGrpSpPr>
          <p:grpSpPr>
            <a:xfrm>
              <a:off x="5433840" y="4251600"/>
              <a:ext cx="811080" cy="517320"/>
              <a:chOff x="5433840" y="4251600"/>
              <a:chExt cx="811080" cy="517320"/>
            </a:xfrm>
          </p:grpSpPr>
          <p:sp>
            <p:nvSpPr>
              <p:cNvPr id="114" name=""/>
              <p:cNvSpPr/>
              <p:nvPr/>
            </p:nvSpPr>
            <p:spPr>
              <a:xfrm>
                <a:off x="5433840" y="4251600"/>
                <a:ext cx="811080" cy="517320"/>
              </a:xfrm>
              <a:prstGeom prst="rect">
                <a:avLst/>
              </a:prstGeom>
              <a:gradFill rotWithShape="0">
                <a:gsLst>
                  <a:gs pos="0">
                    <a:srgbClr val="566768"/>
                  </a:gs>
                  <a:gs pos="100000">
                    <a:srgbClr val="bbe0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492520" y="4307040"/>
                <a:ext cx="692280" cy="405000"/>
              </a:xfrm>
              <a:prstGeom prst="rect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6676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4952880" y="5073480"/>
            <a:ext cx="1774800" cy="519120"/>
            <a:chOff x="4952880" y="5073480"/>
            <a:chExt cx="1774800" cy="519120"/>
          </a:xfrm>
        </p:grpSpPr>
        <p:grpSp>
          <p:nvGrpSpPr>
            <p:cNvPr id="117" name=""/>
            <p:cNvGrpSpPr/>
            <p:nvPr/>
          </p:nvGrpSpPr>
          <p:grpSpPr>
            <a:xfrm>
              <a:off x="4952880" y="5074920"/>
              <a:ext cx="811080" cy="517680"/>
              <a:chOff x="4952880" y="5074920"/>
              <a:chExt cx="811080" cy="517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952880" y="5074920"/>
                <a:ext cx="811080" cy="517680"/>
              </a:xfrm>
              <a:prstGeom prst="rect">
                <a:avLst/>
              </a:prstGeom>
              <a:gradFill rotWithShape="0">
                <a:gsLst>
                  <a:gs pos="0">
                    <a:srgbClr val="5e2f00"/>
                  </a:gs>
                  <a:gs pos="100000">
                    <a:srgbClr val="cc66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011560" y="5130720"/>
                <a:ext cx="691920" cy="404640"/>
              </a:xfrm>
              <a:prstGeom prst="rect">
                <a:avLst/>
              </a:prstGeom>
              <a:gradFill rotWithShape="0">
                <a:gsLst>
                  <a:gs pos="0">
                    <a:srgbClr val="cc6600"/>
                  </a:gs>
                  <a:gs pos="100000">
                    <a:srgbClr val="5e2f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5916240" y="5073480"/>
              <a:ext cx="811440" cy="517680"/>
              <a:chOff x="5916240" y="5073480"/>
              <a:chExt cx="811440" cy="517680"/>
            </a:xfrm>
          </p:grpSpPr>
          <p:sp>
            <p:nvSpPr>
              <p:cNvPr id="121" name=""/>
              <p:cNvSpPr/>
              <p:nvPr/>
            </p:nvSpPr>
            <p:spPr>
              <a:xfrm>
                <a:off x="5916240" y="5073480"/>
                <a:ext cx="811440" cy="517680"/>
              </a:xfrm>
              <a:prstGeom prst="rect">
                <a:avLst/>
              </a:prstGeom>
              <a:gradFill rotWithShape="0">
                <a:gsLst>
                  <a:gs pos="0">
                    <a:srgbClr val="5e2f00"/>
                  </a:gs>
                  <a:gs pos="100000">
                    <a:srgbClr val="cc66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5975280" y="5128920"/>
                <a:ext cx="691920" cy="405000"/>
              </a:xfrm>
              <a:prstGeom prst="rect">
                <a:avLst/>
              </a:prstGeom>
              <a:gradFill rotWithShape="0">
                <a:gsLst>
                  <a:gs pos="0">
                    <a:srgbClr val="cc6600"/>
                  </a:gs>
                  <a:gs pos="100000">
                    <a:srgbClr val="5e2f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3" name=""/>
          <p:cNvGrpSpPr/>
          <p:nvPr/>
        </p:nvGrpSpPr>
        <p:grpSpPr>
          <a:xfrm>
            <a:off x="6880320" y="5075280"/>
            <a:ext cx="1774800" cy="517320"/>
            <a:chOff x="6880320" y="5075280"/>
            <a:chExt cx="1774800" cy="517320"/>
          </a:xfrm>
        </p:grpSpPr>
        <p:grpSp>
          <p:nvGrpSpPr>
            <p:cNvPr id="124" name=""/>
            <p:cNvGrpSpPr/>
            <p:nvPr/>
          </p:nvGrpSpPr>
          <p:grpSpPr>
            <a:xfrm>
              <a:off x="6880320" y="5075280"/>
              <a:ext cx="811080" cy="517320"/>
              <a:chOff x="6880320" y="5075280"/>
              <a:chExt cx="811080" cy="517320"/>
            </a:xfrm>
          </p:grpSpPr>
          <p:sp>
            <p:nvSpPr>
              <p:cNvPr id="125" name=""/>
              <p:cNvSpPr/>
              <p:nvPr/>
            </p:nvSpPr>
            <p:spPr>
              <a:xfrm>
                <a:off x="6880320" y="5075280"/>
                <a:ext cx="811080" cy="517320"/>
              </a:xfrm>
              <a:prstGeom prst="rect">
                <a:avLst/>
              </a:prstGeom>
              <a:gradFill rotWithShape="0">
                <a:gsLst>
                  <a:gs pos="0">
                    <a:srgbClr val="5e2f00"/>
                  </a:gs>
                  <a:gs pos="100000">
                    <a:srgbClr val="cc66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6939000" y="5130720"/>
                <a:ext cx="692280" cy="404280"/>
              </a:xfrm>
              <a:prstGeom prst="rect">
                <a:avLst/>
              </a:prstGeom>
              <a:gradFill rotWithShape="0">
                <a:gsLst>
                  <a:gs pos="0">
                    <a:srgbClr val="cc6600"/>
                  </a:gs>
                  <a:gs pos="100000">
                    <a:srgbClr val="5e2f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7" name=""/>
            <p:cNvGrpSpPr/>
            <p:nvPr/>
          </p:nvGrpSpPr>
          <p:grpSpPr>
            <a:xfrm>
              <a:off x="7844040" y="5075280"/>
              <a:ext cx="811080" cy="517320"/>
              <a:chOff x="7844040" y="5075280"/>
              <a:chExt cx="811080" cy="517320"/>
            </a:xfrm>
          </p:grpSpPr>
          <p:sp>
            <p:nvSpPr>
              <p:cNvPr id="128" name=""/>
              <p:cNvSpPr/>
              <p:nvPr/>
            </p:nvSpPr>
            <p:spPr>
              <a:xfrm>
                <a:off x="7844040" y="5075280"/>
                <a:ext cx="811080" cy="517320"/>
              </a:xfrm>
              <a:prstGeom prst="rect">
                <a:avLst/>
              </a:prstGeom>
              <a:gradFill rotWithShape="0">
                <a:gsLst>
                  <a:gs pos="0">
                    <a:srgbClr val="5e2f00"/>
                  </a:gs>
                  <a:gs pos="100000">
                    <a:srgbClr val="cc66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7902720" y="5130720"/>
                <a:ext cx="692280" cy="404280"/>
              </a:xfrm>
              <a:prstGeom prst="rect">
                <a:avLst/>
              </a:prstGeom>
              <a:gradFill rotWithShape="0">
                <a:gsLst>
                  <a:gs pos="0">
                    <a:srgbClr val="cc6600"/>
                  </a:gs>
                  <a:gs pos="100000">
                    <a:srgbClr val="5e2f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0" name=""/>
          <p:cNvGrpSpPr/>
          <p:nvPr/>
        </p:nvGrpSpPr>
        <p:grpSpPr>
          <a:xfrm>
            <a:off x="5839920" y="3946320"/>
            <a:ext cx="1926720" cy="305280"/>
            <a:chOff x="5839920" y="3946320"/>
            <a:chExt cx="1926720" cy="305280"/>
          </a:xfrm>
        </p:grpSpPr>
        <p:cxnSp>
          <p:nvCxnSpPr>
            <p:cNvPr id="131" name=""/>
            <p:cNvCxnSpPr>
              <a:stCxn id="107" idx="2"/>
              <a:endCxn id="114" idx="0"/>
            </p:cNvCxnSpPr>
            <p:nvPr/>
          </p:nvCxnSpPr>
          <p:spPr>
            <a:xfrm rot="5400000">
              <a:off x="6168960" y="3617280"/>
              <a:ext cx="305280" cy="964080"/>
            </a:xfrm>
            <a:prstGeom prst="bentConnector3">
              <a:avLst>
                <a:gd name="adj1" fmla="val 49940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32" name=""/>
            <p:cNvCxnSpPr>
              <a:stCxn id="107" idx="2"/>
              <a:endCxn id="111" idx="0"/>
            </p:cNvCxnSpPr>
            <p:nvPr/>
          </p:nvCxnSpPr>
          <p:spPr>
            <a:xfrm flipH="1" rot="16200000">
              <a:off x="7133400" y="3615480"/>
              <a:ext cx="303120" cy="964440"/>
            </a:xfrm>
            <a:prstGeom prst="bentConnector3">
              <a:avLst>
                <a:gd name="adj1" fmla="val 49702"/>
              </a:avLst>
            </a:prstGeom>
            <a:ln w="9360">
              <a:solidFill>
                <a:srgbClr val="000000"/>
              </a:solidFill>
              <a:miter/>
            </a:ln>
          </p:spPr>
        </p:cxnSp>
      </p:grpSp>
      <p:grpSp>
        <p:nvGrpSpPr>
          <p:cNvPr id="133" name=""/>
          <p:cNvGrpSpPr/>
          <p:nvPr/>
        </p:nvGrpSpPr>
        <p:grpSpPr>
          <a:xfrm>
            <a:off x="5358960" y="4768560"/>
            <a:ext cx="964080" cy="306360"/>
            <a:chOff x="5358960" y="4768560"/>
            <a:chExt cx="964080" cy="306360"/>
          </a:xfrm>
        </p:grpSpPr>
        <p:cxnSp>
          <p:nvCxnSpPr>
            <p:cNvPr id="134" name=""/>
            <p:cNvCxnSpPr>
              <a:stCxn id="114" idx="2"/>
              <a:endCxn id="118" idx="0"/>
            </p:cNvCxnSpPr>
            <p:nvPr/>
          </p:nvCxnSpPr>
          <p:spPr>
            <a:xfrm rot="5400000">
              <a:off x="5446080" y="4681080"/>
              <a:ext cx="306720" cy="481680"/>
            </a:xfrm>
            <a:prstGeom prst="bentConnector3">
              <a:avLst>
                <a:gd name="adj1" fmla="val 49706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35" name=""/>
            <p:cNvCxnSpPr>
              <a:stCxn id="114" idx="2"/>
              <a:endCxn id="121" idx="0"/>
            </p:cNvCxnSpPr>
            <p:nvPr/>
          </p:nvCxnSpPr>
          <p:spPr>
            <a:xfrm flipH="1" rot="16200000">
              <a:off x="5928840" y="4679640"/>
              <a:ext cx="305640" cy="48312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</a:ln>
          </p:spPr>
        </p:cxnSp>
      </p:grpSp>
      <p:grpSp>
        <p:nvGrpSpPr>
          <p:cNvPr id="136" name=""/>
          <p:cNvGrpSpPr/>
          <p:nvPr/>
        </p:nvGrpSpPr>
        <p:grpSpPr>
          <a:xfrm>
            <a:off x="7286040" y="4710240"/>
            <a:ext cx="964080" cy="365400"/>
            <a:chOff x="7286040" y="4710240"/>
            <a:chExt cx="964080" cy="365400"/>
          </a:xfrm>
        </p:grpSpPr>
        <p:cxnSp>
          <p:nvCxnSpPr>
            <p:cNvPr id="137" name=""/>
            <p:cNvCxnSpPr>
              <a:endCxn id="125" idx="0"/>
            </p:cNvCxnSpPr>
            <p:nvPr/>
          </p:nvCxnSpPr>
          <p:spPr>
            <a:xfrm flipV="1" rot="10800000">
              <a:off x="7286040" y="4887720"/>
              <a:ext cx="513000" cy="1879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38" name=""/>
            <p:cNvCxnSpPr>
              <a:stCxn id="112" idx="2"/>
              <a:endCxn id="128" idx="0"/>
            </p:cNvCxnSpPr>
            <p:nvPr/>
          </p:nvCxnSpPr>
          <p:spPr>
            <a:xfrm flipH="1" rot="16200000">
              <a:off x="7825320" y="4650480"/>
              <a:ext cx="365760" cy="484560"/>
            </a:xfrm>
            <a:prstGeom prst="bentConnector3">
              <a:avLst>
                <a:gd name="adj1" fmla="val 49950"/>
              </a:avLst>
            </a:prstGeom>
            <a:ln w="9360">
              <a:solidFill>
                <a:srgbClr val="000000"/>
              </a:solidFill>
              <a:miter/>
            </a:ln>
          </p:spPr>
        </p:cxnSp>
      </p:grpSp>
      <p:sp>
        <p:nvSpPr>
          <p:cNvPr id="139" name=""/>
          <p:cNvSpPr/>
          <p:nvPr/>
        </p:nvSpPr>
        <p:spPr>
          <a:xfrm>
            <a:off x="5942520" y="5954760"/>
            <a:ext cx="175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usiness Un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5495400" y="5594400"/>
            <a:ext cx="2683080" cy="396720"/>
            <a:chOff x="5495400" y="5594400"/>
            <a:chExt cx="2683080" cy="396720"/>
          </a:xfrm>
        </p:grpSpPr>
        <p:sp>
          <p:nvSpPr>
            <p:cNvPr id="141" name=""/>
            <p:cNvSpPr/>
            <p:nvPr/>
          </p:nvSpPr>
          <p:spPr>
            <a:xfrm flipH="1" flipV="1">
              <a:off x="5495400" y="5628600"/>
              <a:ext cx="1353960" cy="36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 flipV="1">
              <a:off x="6833880" y="5630760"/>
              <a:ext cx="1344600" cy="360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V="1">
              <a:off x="6833880" y="5594400"/>
              <a:ext cx="397080" cy="39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 flipV="1">
              <a:off x="6470280" y="5611320"/>
              <a:ext cx="379440" cy="379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2E401F-DF83-4549-8B91-E611CD3DFA9C}" type="slidenum">
              <a:t>5</a:t>
            </a:fld>
          </a:p>
        </p:txBody>
      </p:sp>
    </p:spTree>
  </p:cSld>
  <p:transition>
    <p:random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500"/>
                            </p:stCondLst>
                            <p:childTnLst>
                              <p:par>
                                <p:cTn id="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2000"/>
                            </p:stCondLst>
                            <p:childTnLst>
                              <p:par>
                                <p:cTn id="78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2500"/>
                            </p:stCondLst>
                            <p:childTnLst>
                              <p:par>
                                <p:cTn id="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3500"/>
                            </p:stCondLst>
                            <p:childTnLst>
                              <p:par>
                                <p:cTn id="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4000"/>
                            </p:stCondLst>
                            <p:childTnLst>
                              <p:par>
                                <p:cTn id="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4500"/>
                            </p:stCondLst>
                            <p:childTnLst>
                              <p:par>
                                <p:cTn id="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5000"/>
                            </p:stCondLst>
                            <p:childTnLst>
                              <p:par>
                                <p:cTn id="1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Levels of Diversification: Low Level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3809520"/>
            <a:ext cx="4114800" cy="16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Dominant Business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etween 70% and 95% of revenue comes from a single busines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5791320" y="5315040"/>
            <a:ext cx="685800" cy="318960"/>
          </a:xfrm>
          <a:prstGeom prst="line">
            <a:avLst/>
          </a:prstGeom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6248520" y="1371600"/>
            <a:ext cx="2132640" cy="2133000"/>
            <a:chOff x="6248520" y="1371600"/>
            <a:chExt cx="2132640" cy="2133000"/>
          </a:xfrm>
        </p:grpSpPr>
        <p:sp>
          <p:nvSpPr>
            <p:cNvPr id="149" name=""/>
            <p:cNvSpPr/>
            <p:nvPr/>
          </p:nvSpPr>
          <p:spPr>
            <a:xfrm>
              <a:off x="6248520" y="1371600"/>
              <a:ext cx="2132640" cy="2133000"/>
            </a:xfrm>
            <a:prstGeom prst="ellipse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394320" y="1517400"/>
              <a:ext cx="1837800" cy="183816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Tahoma"/>
                </a:rPr>
                <a:t>A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6400800" y="4038480"/>
            <a:ext cx="1904760" cy="1904760"/>
            <a:chOff x="6400800" y="4038480"/>
            <a:chExt cx="1904760" cy="1904760"/>
          </a:xfrm>
        </p:grpSpPr>
        <p:sp>
          <p:nvSpPr>
            <p:cNvPr id="152" name=""/>
            <p:cNvSpPr/>
            <p:nvPr/>
          </p:nvSpPr>
          <p:spPr>
            <a:xfrm>
              <a:off x="6400800" y="4038480"/>
              <a:ext cx="1904760" cy="1904760"/>
            </a:xfrm>
            <a:prstGeom prst="ellipse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530760" y="4168440"/>
              <a:ext cx="1641240" cy="164124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Tahoma"/>
                </a:rPr>
                <a:t>A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4952880" y="5410080"/>
            <a:ext cx="914400" cy="914400"/>
            <a:chOff x="4952880" y="5410080"/>
            <a:chExt cx="914400" cy="914400"/>
          </a:xfrm>
        </p:grpSpPr>
        <p:sp>
          <p:nvSpPr>
            <p:cNvPr id="155" name=""/>
            <p:cNvSpPr/>
            <p:nvPr/>
          </p:nvSpPr>
          <p:spPr>
            <a:xfrm>
              <a:off x="4952880" y="5410080"/>
              <a:ext cx="914400" cy="914400"/>
            </a:xfrm>
            <a:prstGeom prst="ellipse">
              <a:avLst/>
            </a:prstGeom>
            <a:gradFill rotWithShape="0">
              <a:gsLst>
                <a:gs pos="0">
                  <a:srgbClr val="cc6600"/>
                </a:gs>
                <a:gs pos="100000">
                  <a:srgbClr val="5e2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015160" y="5472000"/>
              <a:ext cx="787680" cy="788040"/>
            </a:xfrm>
            <a:prstGeom prst="ellipse">
              <a:avLst/>
            </a:prstGeom>
            <a:gradFill rotWithShape="0">
              <a:gsLst>
                <a:gs pos="0">
                  <a:srgbClr val="5e2f00"/>
                </a:gs>
                <a:gs pos="100000">
                  <a:srgbClr val="cc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ahoma"/>
                </a:rPr>
                <a:t>B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685800" y="1631880"/>
            <a:ext cx="449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Single Bus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ore than 95% of revenue comes from a single busin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973015-C068-45AA-A512-47C2871F79E8}" type="slidenum">
              <a:t>6</a:t>
            </a:fld>
          </a:p>
        </p:txBody>
      </p:sp>
    </p:spTree>
  </p:cSld>
  <p:transition>
    <p:random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2000"/>
                            </p:stCondLst>
                            <p:childTnLst>
                              <p:par>
                                <p:cTn id="1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2500"/>
                            </p:stCondLst>
                            <p:childTnLst>
                              <p:par>
                                <p:cTn id="1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3000"/>
                            </p:stCondLst>
                            <p:childTnLst>
                              <p:par>
                                <p:cTn id="1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4500"/>
                            </p:stCondLst>
                            <p:childTnLst>
                              <p:par>
                                <p:cTn id="1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Levels of Diversification: Moderate to High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07880"/>
            <a:ext cx="3886200" cy="24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Related Constrained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Less than 70% of revenue comes from a single business and all businesses share product, technological and distribution linkages.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49760" y="1307880"/>
            <a:ext cx="4037040" cy="26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66680" indent="-1666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Related Linked (mixed related and unrelated)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512640" indent="-2314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Less than 70% of revenue comes from the dominant business, and there are only limited links between businesses.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410080" y="3952800"/>
            <a:ext cx="2828880" cy="2371680"/>
            <a:chOff x="5410080" y="3952800"/>
            <a:chExt cx="2828880" cy="2371680"/>
          </a:xfrm>
        </p:grpSpPr>
        <p:sp>
          <p:nvSpPr>
            <p:cNvPr id="162" name=""/>
            <p:cNvSpPr/>
            <p:nvPr/>
          </p:nvSpPr>
          <p:spPr>
            <a:xfrm flipH="1">
              <a:off x="6165360" y="4714920"/>
              <a:ext cx="615960" cy="1066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53120" y="5781600"/>
              <a:ext cx="1447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4" name=""/>
            <p:cNvGrpSpPr/>
            <p:nvPr/>
          </p:nvGrpSpPr>
          <p:grpSpPr>
            <a:xfrm>
              <a:off x="7238880" y="5315040"/>
              <a:ext cx="1000080" cy="1000080"/>
              <a:chOff x="7238880" y="5315040"/>
              <a:chExt cx="1000080" cy="1000080"/>
            </a:xfrm>
          </p:grpSpPr>
          <p:sp>
            <p:nvSpPr>
              <p:cNvPr id="165" name=""/>
              <p:cNvSpPr/>
              <p:nvPr/>
            </p:nvSpPr>
            <p:spPr>
              <a:xfrm>
                <a:off x="7238880" y="5315040"/>
                <a:ext cx="1000080" cy="1000080"/>
              </a:xfrm>
              <a:prstGeom prst="ellipse">
                <a:avLst/>
              </a:prstGeom>
              <a:gradFill rotWithShape="0">
                <a:gsLst>
                  <a:gs pos="0">
                    <a:srgbClr val="004646"/>
                  </a:gs>
                  <a:gs pos="100000">
                    <a:srgbClr val="0099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7307280" y="5383440"/>
                <a:ext cx="861840" cy="861840"/>
              </a:xfrm>
              <a:prstGeom prst="ellipse">
                <a:avLst/>
              </a:prstGeom>
              <a:gradFill rotWithShape="0">
                <a:gsLst>
                  <a:gs pos="0">
                    <a:srgbClr val="009999"/>
                  </a:gs>
                  <a:gs pos="100000">
                    <a:srgbClr val="00464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Tahoma"/>
                  </a:rPr>
                  <a:t>C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7" name=""/>
            <p:cNvGrpSpPr/>
            <p:nvPr/>
          </p:nvGrpSpPr>
          <p:grpSpPr>
            <a:xfrm>
              <a:off x="6324480" y="3952800"/>
              <a:ext cx="1000080" cy="1000080"/>
              <a:chOff x="6324480" y="3952800"/>
              <a:chExt cx="1000080" cy="1000080"/>
            </a:xfrm>
          </p:grpSpPr>
          <p:sp>
            <p:nvSpPr>
              <p:cNvPr id="168" name=""/>
              <p:cNvSpPr/>
              <p:nvPr/>
            </p:nvSpPr>
            <p:spPr>
              <a:xfrm>
                <a:off x="6324480" y="3952800"/>
                <a:ext cx="1000080" cy="1000080"/>
              </a:xfrm>
              <a:prstGeom prst="ellipse">
                <a:avLst/>
              </a:prstGeom>
              <a:gradFill rotWithShape="0">
                <a:gsLst>
                  <a:gs pos="0">
                    <a:srgbClr val="566768"/>
                  </a:gs>
                  <a:gs pos="100000">
                    <a:srgbClr val="bbe0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392880" y="4021200"/>
                <a:ext cx="861840" cy="86184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6676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Tahoma"/>
                  </a:rPr>
                  <a:t>A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0" name=""/>
            <p:cNvGrpSpPr/>
            <p:nvPr/>
          </p:nvGrpSpPr>
          <p:grpSpPr>
            <a:xfrm>
              <a:off x="5410080" y="5324400"/>
              <a:ext cx="1000080" cy="1000080"/>
              <a:chOff x="5410080" y="5324400"/>
              <a:chExt cx="1000080" cy="1000080"/>
            </a:xfrm>
          </p:grpSpPr>
          <p:sp>
            <p:nvSpPr>
              <p:cNvPr id="171" name=""/>
              <p:cNvSpPr/>
              <p:nvPr/>
            </p:nvSpPr>
            <p:spPr>
              <a:xfrm>
                <a:off x="5410080" y="5324400"/>
                <a:ext cx="1000080" cy="1000080"/>
              </a:xfrm>
              <a:prstGeom prst="ellipse">
                <a:avLst/>
              </a:prstGeom>
              <a:gradFill rotWithShape="0">
                <a:gsLst>
                  <a:gs pos="0">
                    <a:srgbClr val="cc6600"/>
                  </a:gs>
                  <a:gs pos="100000">
                    <a:srgbClr val="5e2f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5478480" y="5392440"/>
                <a:ext cx="861840" cy="862200"/>
              </a:xfrm>
              <a:prstGeom prst="ellipse">
                <a:avLst/>
              </a:prstGeom>
              <a:gradFill rotWithShape="0">
                <a:gsLst>
                  <a:gs pos="0">
                    <a:srgbClr val="5e2f00"/>
                  </a:gs>
                  <a:gs pos="100000">
                    <a:srgbClr val="cc66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Tahoma"/>
                  </a:rPr>
                  <a:t>B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73" name=""/>
          <p:cNvGrpSpPr/>
          <p:nvPr/>
        </p:nvGrpSpPr>
        <p:grpSpPr>
          <a:xfrm>
            <a:off x="971640" y="3952800"/>
            <a:ext cx="2838240" cy="2371680"/>
            <a:chOff x="971640" y="3952800"/>
            <a:chExt cx="2838240" cy="2371680"/>
          </a:xfrm>
        </p:grpSpPr>
        <p:sp>
          <p:nvSpPr>
            <p:cNvPr id="174" name=""/>
            <p:cNvSpPr/>
            <p:nvPr/>
          </p:nvSpPr>
          <p:spPr>
            <a:xfrm>
              <a:off x="1743120" y="4724280"/>
              <a:ext cx="1295280" cy="1120680"/>
            </a:xfrm>
            <a:prstGeom prst="triangle">
              <a:avLst>
                <a:gd name="adj" fmla="val 50000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5" name=""/>
            <p:cNvGrpSpPr/>
            <p:nvPr/>
          </p:nvGrpSpPr>
          <p:grpSpPr>
            <a:xfrm>
              <a:off x="2809800" y="5324400"/>
              <a:ext cx="1000080" cy="1000080"/>
              <a:chOff x="2809800" y="5324400"/>
              <a:chExt cx="1000080" cy="1000080"/>
            </a:xfrm>
          </p:grpSpPr>
          <p:sp>
            <p:nvSpPr>
              <p:cNvPr id="176" name=""/>
              <p:cNvSpPr/>
              <p:nvPr/>
            </p:nvSpPr>
            <p:spPr>
              <a:xfrm>
                <a:off x="2809800" y="5324400"/>
                <a:ext cx="1000080" cy="1000080"/>
              </a:xfrm>
              <a:prstGeom prst="ellipse">
                <a:avLst/>
              </a:prstGeom>
              <a:gradFill rotWithShape="0">
                <a:gsLst>
                  <a:gs pos="0">
                    <a:srgbClr val="004646"/>
                  </a:gs>
                  <a:gs pos="100000">
                    <a:srgbClr val="0099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2878200" y="5392800"/>
                <a:ext cx="861840" cy="861840"/>
              </a:xfrm>
              <a:prstGeom prst="ellipse">
                <a:avLst/>
              </a:prstGeom>
              <a:gradFill rotWithShape="0">
                <a:gsLst>
                  <a:gs pos="0">
                    <a:srgbClr val="009999"/>
                  </a:gs>
                  <a:gs pos="100000">
                    <a:srgbClr val="00464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Tahoma"/>
                  </a:rPr>
                  <a:t>C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8" name=""/>
            <p:cNvGrpSpPr/>
            <p:nvPr/>
          </p:nvGrpSpPr>
          <p:grpSpPr>
            <a:xfrm>
              <a:off x="1895400" y="3952800"/>
              <a:ext cx="1000080" cy="1000080"/>
              <a:chOff x="1895400" y="3952800"/>
              <a:chExt cx="1000080" cy="1000080"/>
            </a:xfrm>
          </p:grpSpPr>
          <p:sp>
            <p:nvSpPr>
              <p:cNvPr id="179" name=""/>
              <p:cNvSpPr/>
              <p:nvPr/>
            </p:nvSpPr>
            <p:spPr>
              <a:xfrm>
                <a:off x="1895400" y="3952800"/>
                <a:ext cx="1000080" cy="1000080"/>
              </a:xfrm>
              <a:prstGeom prst="ellipse">
                <a:avLst/>
              </a:prstGeom>
              <a:gradFill rotWithShape="0">
                <a:gsLst>
                  <a:gs pos="0">
                    <a:srgbClr val="566768"/>
                  </a:gs>
                  <a:gs pos="100000">
                    <a:srgbClr val="bbe0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1963800" y="4021200"/>
                <a:ext cx="861840" cy="86184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6676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Tahoma"/>
                  </a:rPr>
                  <a:t>A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1" name=""/>
            <p:cNvGrpSpPr/>
            <p:nvPr/>
          </p:nvGrpSpPr>
          <p:grpSpPr>
            <a:xfrm>
              <a:off x="971640" y="5324400"/>
              <a:ext cx="1000080" cy="1000080"/>
              <a:chOff x="971640" y="5324400"/>
              <a:chExt cx="1000080" cy="1000080"/>
            </a:xfrm>
          </p:grpSpPr>
          <p:sp>
            <p:nvSpPr>
              <p:cNvPr id="182" name=""/>
              <p:cNvSpPr/>
              <p:nvPr/>
            </p:nvSpPr>
            <p:spPr>
              <a:xfrm>
                <a:off x="971640" y="5324400"/>
                <a:ext cx="1000080" cy="1000080"/>
              </a:xfrm>
              <a:prstGeom prst="ellipse">
                <a:avLst/>
              </a:prstGeom>
              <a:gradFill rotWithShape="0">
                <a:gsLst>
                  <a:gs pos="0">
                    <a:srgbClr val="cc6600"/>
                  </a:gs>
                  <a:gs pos="100000">
                    <a:srgbClr val="5e2f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1040040" y="5392440"/>
                <a:ext cx="861840" cy="862200"/>
              </a:xfrm>
              <a:prstGeom prst="ellipse">
                <a:avLst/>
              </a:prstGeom>
              <a:gradFill rotWithShape="0">
                <a:gsLst>
                  <a:gs pos="0">
                    <a:srgbClr val="5e2f00"/>
                  </a:gs>
                  <a:gs pos="100000">
                    <a:srgbClr val="cc66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Tahoma"/>
                  </a:rPr>
                  <a:t>B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40D818-0605-4063-9B62-69BF38277F89}" type="slidenum">
              <a:t>7</a:t>
            </a:fld>
          </a:p>
        </p:txBody>
      </p:sp>
    </p:spTree>
  </p:cSld>
  <p:transition>
    <p:random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500"/>
                            </p:stCondLst>
                            <p:childTnLst>
                              <p:par>
                                <p:cTn id="1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1000"/>
                            </p:stCondLst>
                            <p:childTnLst>
                              <p:par>
                                <p:cTn id="1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Levels of Diversification: Very High Levels 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87280" indent="-28728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Unrelated Diversification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Less than 70% of revenue comes from the dominant business, and there are no common links between business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87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5410080" y="4562640"/>
            <a:ext cx="1000080" cy="1000080"/>
            <a:chOff x="5410080" y="4562640"/>
            <a:chExt cx="1000080" cy="1000080"/>
          </a:xfrm>
        </p:grpSpPr>
        <p:sp>
          <p:nvSpPr>
            <p:cNvPr id="187" name=""/>
            <p:cNvSpPr/>
            <p:nvPr/>
          </p:nvSpPr>
          <p:spPr>
            <a:xfrm>
              <a:off x="5410080" y="4562640"/>
              <a:ext cx="1000080" cy="1000080"/>
            </a:xfrm>
            <a:prstGeom prst="ellipse">
              <a:avLst/>
            </a:prstGeom>
            <a:gradFill rotWithShape="0">
              <a:gsLst>
                <a:gs pos="0">
                  <a:srgbClr val="004646"/>
                </a:gs>
                <a:gs pos="100000">
                  <a:srgbClr val="0099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478480" y="4631040"/>
              <a:ext cx="861840" cy="861840"/>
            </a:xfrm>
            <a:prstGeom prst="ellipse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464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ahoma"/>
                </a:rPr>
                <a:t>C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2743200" y="4562640"/>
            <a:ext cx="1000080" cy="1000080"/>
            <a:chOff x="2743200" y="4562640"/>
            <a:chExt cx="1000080" cy="1000080"/>
          </a:xfrm>
        </p:grpSpPr>
        <p:sp>
          <p:nvSpPr>
            <p:cNvPr id="190" name=""/>
            <p:cNvSpPr/>
            <p:nvPr/>
          </p:nvSpPr>
          <p:spPr>
            <a:xfrm>
              <a:off x="2743200" y="4562640"/>
              <a:ext cx="1000080" cy="1000080"/>
            </a:xfrm>
            <a:prstGeom prst="ellipse">
              <a:avLst/>
            </a:prstGeom>
            <a:gradFill rotWithShape="0">
              <a:gsLst>
                <a:gs pos="0">
                  <a:srgbClr val="cc6600"/>
                </a:gs>
                <a:gs pos="100000">
                  <a:srgbClr val="5e2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11600" y="4630680"/>
              <a:ext cx="861840" cy="862200"/>
            </a:xfrm>
            <a:prstGeom prst="ellipse">
              <a:avLst/>
            </a:prstGeom>
            <a:gradFill rotWithShape="0">
              <a:gsLst>
                <a:gs pos="0">
                  <a:srgbClr val="5e2f00"/>
                </a:gs>
                <a:gs pos="100000">
                  <a:srgbClr val="cc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ahoma"/>
                </a:rPr>
                <a:t>B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3932280" y="3038400"/>
            <a:ext cx="1261800" cy="1261800"/>
            <a:chOff x="3932280" y="3038400"/>
            <a:chExt cx="1261800" cy="1261800"/>
          </a:xfrm>
        </p:grpSpPr>
        <p:sp>
          <p:nvSpPr>
            <p:cNvPr id="193" name=""/>
            <p:cNvSpPr/>
            <p:nvPr/>
          </p:nvSpPr>
          <p:spPr>
            <a:xfrm>
              <a:off x="3932280" y="3038400"/>
              <a:ext cx="1261800" cy="1261800"/>
            </a:xfrm>
            <a:prstGeom prst="ellipse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018320" y="3124440"/>
              <a:ext cx="1087560" cy="108756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ahoma"/>
                </a:rPr>
                <a:t>A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7FFC45-E0CB-4C19-A731-3903D217A973}" type="slidenum">
              <a:t>8</a:t>
            </a:fld>
          </a:p>
        </p:txBody>
      </p:sp>
    </p:spTree>
  </p:cSld>
  <p:transition>
    <p:random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50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1500"/>
                            </p:stCondLst>
                            <p:childTnLst>
                              <p:par>
                                <p:cTn id="20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8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8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8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8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2500"/>
                            </p:stCondLst>
                            <p:childTnLst>
                              <p:par>
                                <p:cTn id="21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8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8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8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8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3500"/>
                            </p:stCondLst>
                            <p:childTnLst>
                              <p:par>
                                <p:cTn id="22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8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8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8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8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8080" y="490680"/>
            <a:ext cx="7934400" cy="368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6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800" spc="-1" strike="noStrike">
                <a:solidFill>
                  <a:srgbClr val="cc3300"/>
                </a:solidFill>
                <a:latin typeface="Arial"/>
              </a:rPr>
              <a:t>6.1</a:t>
            </a:r>
            <a:r>
              <a:rPr b="1" i="1" lang="en-US" sz="16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evels and Types of Diversification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" y="457200"/>
            <a:ext cx="8229600" cy="46656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457200" y="577800"/>
            <a:ext cx="1828800" cy="479160"/>
            <a:chOff x="457200" y="577800"/>
            <a:chExt cx="1828800" cy="479160"/>
          </a:xfrm>
        </p:grpSpPr>
        <p:sp>
          <p:nvSpPr>
            <p:cNvPr id="198" name=""/>
            <p:cNvSpPr/>
            <p:nvPr/>
          </p:nvSpPr>
          <p:spPr>
            <a:xfrm>
              <a:off x="685800" y="57780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57200" y="88416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1066680" y="1219320"/>
            <a:ext cx="7239240" cy="517212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457200" y="6324480"/>
            <a:ext cx="7010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ource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Adapted from R. P. Rumelt, 1974,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Strategy, Structure and Economic Performance,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oston: Harvard Business School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9B726F-751E-4A1D-9928-73127F43CFCA}" type="slidenum">
              <a:t>9</a:t>
            </a:fld>
          </a:p>
        </p:txBody>
      </p:sp>
    </p:spTree>
  </p:cSld>
  <p:transition>
    <p:random/>
  </p:transition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4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4T15:06:22Z</dcterms:created>
  <dc:creator>Charlie Cook, The University of West Alabama</dc:creator>
  <dc:description/>
  <dc:language>en-US</dc:language>
  <cp:lastModifiedBy>dii</cp:lastModifiedBy>
  <dcterms:modified xsi:type="dcterms:W3CDTF">2007-06-12T13:36:47Z</dcterms:modified>
  <cp:revision>42</cp:revision>
  <dc:subject>Chapter 6</dc:subject>
  <dc:title>Strategic Management 7e.</dc:title>
</cp:coreProperties>
</file>