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45DF-6112-4550-87B2-BCDE375DB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066F-851E-4E44-95E2-6FA1DF8C2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BBE3-D402-4272-AB6A-06E043DBB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B4EE-C4C8-4224-9855-379556B94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4F38-AF6E-4ACA-A143-8C5242374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FD6D-E795-4CDB-8DA9-0FE978F6E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386A-0F07-4442-A2DE-02753F3B6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FE24-4615-4682-9618-B00B2641D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7FF9-12E3-4F56-A817-958967CBB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D93A-2888-4503-B070-2F71CEB34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C289-9CF0-4D99-A086-00C7F2549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442F-27C3-44E6-B2C3-67608790D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FCC3-A461-4ABD-A619-4369D0A66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6228-F5C3-4424-972E-3D52E56D3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48B2-0D5A-4025-8ED8-81C159550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D11E-1C02-4EAF-9B40-91CC8783D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985C-6B8B-4426-A4B6-12296A050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BC7C-5391-46B3-8444-926C14369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4DB2-129F-4E80-96FF-51DC4C7F0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F864-B537-4149-806C-C85ACFC0A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66E7-3C93-4922-B154-B80869C4F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F571-3F05-4906-957B-9FCC7B167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F588-742D-4937-A3E6-FE494C3F7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BFCD-527A-44E7-9FA8-F6A27B9BF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CE6B-4A57-413E-8B0A-2449C2FF1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3E07B-B844-41D6-8FCC-ED69D3E7B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B6FA5-4735-41CE-B85D-1E99511CB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58674-9391-4BC7-872A-6FD09B51F4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1D3E8-FE82-45CF-8BB8-C70295BCB7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73FA2-43B5-417F-830A-9E01C0565C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A27A2-FF25-4CE1-ADCC-D2897FF2B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FF9EA-2D28-445F-8B27-60E395F59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3EA37-4C20-4A97-934E-036C6C90E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E7F60-1BF4-48EE-BD92-55DC0310F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C0011-72D2-48A7-9733-58A70E6015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59337-F282-4C35-90F0-A4B56F1E9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11BD0-3AF5-42AE-9041-5CADEBCE4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–</a:t>
            </a:r>
            <a:fld id="{8637A759-42A5-4141-AE17-997CF961C3E9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3840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044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6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-Level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6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36680" y="1074600"/>
            <a:ext cx="41353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Creat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of scope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ing core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ower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ompetitors through multipoi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economies (un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estru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066680"/>
            <a:ext cx="38862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Neutral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rus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 future cash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for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Reduc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ying managerial employmen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managerial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A1885-54E5-4ED6-8689-64CEBC4816FA}" type="slidenum">
              <a:t>10</a:t>
            </a:fld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58520" y="5108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65320" y="5108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alue-Creating Strategies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986200" y="1508040"/>
            <a:ext cx="49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and Corporate 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54360" y="553068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Relatedness: Transferring Skills into Businesses through Corporate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2852640"/>
            <a:ext cx="19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latedness: Sharing Activities betwee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39520" y="211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0900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9120" y="2041560"/>
            <a:ext cx="2894040" cy="1511280"/>
            <a:chOff x="2589120" y="2041560"/>
            <a:chExt cx="2894040" cy="1511280"/>
          </a:xfrm>
        </p:grpSpPr>
        <p:sp>
          <p:nvSpPr>
            <p:cNvPr id="214" name=""/>
            <p:cNvSpPr/>
            <p:nvPr/>
          </p:nvSpPr>
          <p:spPr>
            <a:xfrm>
              <a:off x="2589120" y="204156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4000" y="212868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Constrain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tical Integr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Market P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92360" y="3595680"/>
            <a:ext cx="2893680" cy="1511280"/>
            <a:chOff x="2592360" y="3595680"/>
            <a:chExt cx="2893680" cy="1511280"/>
          </a:xfrm>
        </p:grpSpPr>
        <p:grpSp>
          <p:nvGrpSpPr>
            <p:cNvPr id="217" name=""/>
            <p:cNvGrpSpPr/>
            <p:nvPr/>
          </p:nvGrpSpPr>
          <p:grpSpPr>
            <a:xfrm>
              <a:off x="2592360" y="3595680"/>
              <a:ext cx="2893680" cy="1511280"/>
              <a:chOff x="2592360" y="3595680"/>
              <a:chExt cx="2893680" cy="151128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2360" y="359568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8400" y="364032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705040" y="366552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relat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Financial Economi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14840" y="3595680"/>
            <a:ext cx="2894040" cy="1511280"/>
            <a:chOff x="5514840" y="3595680"/>
            <a:chExt cx="2894040" cy="1511280"/>
          </a:xfrm>
        </p:grpSpPr>
        <p:sp>
          <p:nvSpPr>
            <p:cNvPr id="222" name=""/>
            <p:cNvSpPr/>
            <p:nvPr/>
          </p:nvSpPr>
          <p:spPr>
            <a:xfrm>
              <a:off x="5514840" y="359568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89720" y="368280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Link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514840" y="2041560"/>
            <a:ext cx="2893680" cy="1511280"/>
            <a:chOff x="5514840" y="2041560"/>
            <a:chExt cx="2893680" cy="1511280"/>
          </a:xfrm>
        </p:grpSpPr>
        <p:grpSp>
          <p:nvGrpSpPr>
            <p:cNvPr id="225" name=""/>
            <p:cNvGrpSpPr/>
            <p:nvPr/>
          </p:nvGrpSpPr>
          <p:grpSpPr>
            <a:xfrm>
              <a:off x="5514840" y="2041560"/>
              <a:ext cx="2893680" cy="1511280"/>
              <a:chOff x="5514840" y="2041560"/>
              <a:chExt cx="2893680" cy="1511280"/>
            </a:xfrm>
          </p:grpSpPr>
          <p:sp>
            <p:nvSpPr>
              <p:cNvPr id="226" name=""/>
              <p:cNvSpPr/>
              <p:nvPr/>
            </p:nvSpPr>
            <p:spPr>
              <a:xfrm>
                <a:off x="5514840" y="204156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00880" y="208620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627520" y="211140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th Operational and Corporate Relatedness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are capability that creates dis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97B95-3F32-4380-894B-984A56920506}" type="slidenum">
              <a:t>11</a:t>
            </a:fld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934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-Creating Diversification Strategie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al and Corporate Relatednes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DED12-B230-41A7-9680-16C37D0F1CD3}" type="slidenum">
              <a:t>12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 creates value by building upon or extending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op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savings that occur when a firm transfers capabilities and competencies developed in one of its businesses to another of its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CBB8C-0B86-4B88-B02A-D722D93EB182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Economies of Sco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is created from economies of scope throug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onal relatedness in sharing activ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relatedness in transferring skills or corporate core competencies among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ifference between sharing activities and transferring competencies is based on how the resources are jointly used to create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32720-4CFC-409E-92AF-DCDE4FD16C41}" type="slidenum">
              <a:t>14</a:t>
            </a:fld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haring Activ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al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d by sharing either a primary activity such as inventory delivery systems, or a support activity such as purchas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requires sharing strategic control over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may create risk because business-unit ties create links between outcomes.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C5A52-8482-4C91-BF63-CE810CCF0753}" type="slidenum">
              <a:t>15</a:t>
            </a:fld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ransferring Corporat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complex sets of resources and capabilities to link different businesses through managerial and technological knowledge, experience, and expertis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4BA39-0959-418F-B740-A43E392F7D5D}" type="slidenum">
              <a:t>16</a:t>
            </a:fld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Relatedn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value in two way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liminates resource duplication in the need to allocate resources for a second unit to develop a competence that already exists in another 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intangible resources (resource intangibility) that are difficult for competitors to understand and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ferred intangible resource gives the unit receiving it an immediate competitive advantage over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60C3B-2A88-4C36-8AD5-793BB0FF3D30}" type="slidenum">
              <a:t>17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power exists when a firm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l its products above the existing competitive level and/or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e the costs of its primary and support activities below the competitive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9B39C-0A50-4E64-8EEC-6CB9B72363F9}" type="slidenum">
              <a:t>18</a:t>
            </a:fld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point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diversified firms simultaneously compete in the same product areas or geographic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Integ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produces its own in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operates its own distribution system for delivering its out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AEBA3-2C14-4E46-B211-09DEA8F12530}" type="slidenum">
              <a:t>19</a:t>
            </a:fld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orporate-level strategy and discuss its purpos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different levels of diversification with different corporate-level strateg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ree primary reasons firms diversif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firms can create value by using a 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wo ways value can be created with an un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incentives and resources that encourage diversifica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motives that can encourage managers to overdiversify a firm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31233-6686-45AC-9804-666FFFC6A989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Complexit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multaneous Operational Relatedness and 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managing two sources of knowledge simultaneously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y such efforts often fail because of implementation difficul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AA849-518C-45C6-9EA5-AB5D3C5AD307}" type="slidenum">
              <a:t>20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st savings realized through improved allocations of financi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vestments inside or outside the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 value through two types of financial economie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other corporations and the restructuring thei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753CE-B8ED-4F02-82C8-4447EA6ABB35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icient Internal Capital Market Al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 distributes capital to business divisions to create value for overall compan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ffice gains access to information about those businesses’ actual and prospectiv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glomerates have a fairly short life cycle because financial economies are more easily duplicated by competitors than are gains from operational and corporate related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CB336-AA0F-4E81-81F2-275C15EA4C80}" type="slidenum">
              <a:t>22</a:t>
            </a:fld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: Restructur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tructuring creates 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creates value by buying and selling other firms’ assets in the external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ource allocation decisions may become complex, so success often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mature, low-technology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businesses not reliant on a client orient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E9259-4EE0-4B3B-9369-1B9061DAE075}" type="slidenum">
              <a:t>23</a:t>
            </a:fld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469880"/>
            <a:ext cx="49528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titrust laws in 1960s and 1970s discouraged mergers that created increased market power (vertical or horizontal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ergers in the 1960s and 1970s thus tended to be un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laxation of antitrust enforcement results in more and larger horizontal mer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arly 2000: antitrust concerns seem to be emerging and mergers now more closely scruti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0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131"/>
                </a:lnTo>
                <a:cubicBezTo>
                  <a:pt x="10800" y="2131"/>
                  <a:pt x="5400" y="2131"/>
                  <a:pt x="0" y="2131"/>
                </a:cubicBezTo>
                <a:cubicBezTo>
                  <a:pt x="5400" y="2131"/>
                  <a:pt x="10800" y="2131"/>
                  <a:pt x="10800" y="2131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CB00D-7FA2-46B0-A056-EC103DE99CAC}" type="slidenum">
              <a:t>24</a:t>
            </a:fld>
          </a:p>
        </p:txBody>
      </p:sp>
    </p:spTree>
  </p:cSld>
  <p:transition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1469880"/>
            <a:ext cx="49528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igh tax rates on dividends cause a corporate shift from dividends to buying and building companies in high-performance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986 Tax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Reduced individual ordinary income tax rate from 50 to 28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reated capital gains as ordinary in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hus created incentive for shareholders to prefer dividends to acquisition inve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6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732040" y="1393920"/>
            <a:ext cx="1295280" cy="4244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244760"/>
              <a:gd name="textAreaBottom" fmla="*/ 4245120 h 42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020"/>
                </a:lnTo>
                <a:cubicBezTo>
                  <a:pt x="10800" y="7020"/>
                  <a:pt x="5400" y="7020"/>
                  <a:pt x="0" y="7020"/>
                </a:cubicBezTo>
                <a:cubicBezTo>
                  <a:pt x="5400" y="7020"/>
                  <a:pt x="10800" y="7020"/>
                  <a:pt x="10800" y="702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3520" y="2303640"/>
            <a:ext cx="2189160" cy="896760"/>
            <a:chOff x="533520" y="2303640"/>
            <a:chExt cx="2189160" cy="896760"/>
          </a:xfrm>
        </p:grpSpPr>
        <p:sp>
          <p:nvSpPr>
            <p:cNvPr id="270" name=""/>
            <p:cNvSpPr/>
            <p:nvPr/>
          </p:nvSpPr>
          <p:spPr>
            <a:xfrm>
              <a:off x="533520" y="230364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238932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Tax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34D43-DC28-4F53-998E-04ED5AF30135}" type="slidenum">
              <a:t>25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1438200"/>
            <a:ext cx="4952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igh performance eliminates the need for greate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w performance acts as incentive fo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rms plagued by poor performance often take higher risks (diversification is risk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75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04"/>
                </a:lnTo>
                <a:cubicBezTo>
                  <a:pt x="10800" y="2804"/>
                  <a:pt x="5400" y="2804"/>
                  <a:pt x="0" y="2804"/>
                </a:cubicBezTo>
                <a:cubicBezTo>
                  <a:pt x="5400" y="2804"/>
                  <a:pt x="10800" y="2804"/>
                  <a:pt x="10800" y="280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6CD17-0A4C-44CE-A9C1-AE8F0B9FD4B5}" type="slidenum">
              <a:t>26</a:t>
            </a:fld>
          </a:p>
        </p:txBody>
      </p: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62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urvilinear Relationship between Diversification and Performanc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92200" y="1447920"/>
            <a:ext cx="6143760" cy="47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1809720" y="228600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9216F-BC2A-49BE-AA22-F5174AC35919}" type="slidenum">
              <a:t>27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469880"/>
            <a:ext cx="495288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may be defensive strateg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m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is threat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is small and is in mature or maturing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88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569"/>
                </a:lnTo>
                <a:cubicBezTo>
                  <a:pt x="10800" y="9569"/>
                  <a:pt x="5400" y="9569"/>
                  <a:pt x="0" y="9569"/>
                </a:cubicBezTo>
                <a:cubicBezTo>
                  <a:pt x="5400" y="9569"/>
                  <a:pt x="10800" y="9569"/>
                  <a:pt x="10800" y="956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292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E1EF1-74C1-4597-8362-F7259F47B84E}" type="slidenum">
              <a:t>28</a:t>
            </a:fld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469880"/>
            <a:ext cx="5029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ergy exists when the value created by businesses working together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ceed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the value created by them working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ut synergy creates joint interdependence between business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become risk averse and constrain its level of activity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reduce level of technological change by operating in more certain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97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3865"/>
                </a:lnTo>
                <a:cubicBezTo>
                  <a:pt x="10800" y="13865"/>
                  <a:pt x="5400" y="13865"/>
                  <a:pt x="0" y="13865"/>
                </a:cubicBezTo>
                <a:cubicBezTo>
                  <a:pt x="5400" y="13865"/>
                  <a:pt x="10800" y="13865"/>
                  <a:pt x="10800" y="1386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301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603600"/>
            <a:ext cx="2189160" cy="1277640"/>
            <a:chOff x="533520" y="3603600"/>
            <a:chExt cx="2189160" cy="1277640"/>
          </a:xfrm>
        </p:grpSpPr>
        <p:sp>
          <p:nvSpPr>
            <p:cNvPr id="304" name=""/>
            <p:cNvSpPr/>
            <p:nvPr/>
          </p:nvSpPr>
          <p:spPr>
            <a:xfrm>
              <a:off x="533520" y="3603600"/>
              <a:ext cx="2189160" cy="1277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3725640"/>
              <a:ext cx="2000160" cy="1031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Synergy and Risk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4F69D-4A65-4AAD-9954-46E4D19DF62E}" type="slidenum">
              <a:t>29</a:t>
            </a:fld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ole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ies play a major role in the behavior of large firm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versification conc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cope of the industries and markets in which the firm compet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 managers buy, create and sell different businesses to match skills and strengths with opportunities presented to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8B488-9BCD-423C-A3A5-52DB31E1A224}" type="slidenum">
              <a:t>3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 must have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entives to diversif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esources required to create value through diversification—cash and tangible resources (e.g., plant and equipmen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creation is determined more by appropriate use of resources than by incentives to diversif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Motives to Diversif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risk reduc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increased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20A7A-E303-489B-B52A-E2AAD1A04136}" type="slidenum">
              <a:t>30</a:t>
            </a:fld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419880" cy="5773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47840"/>
            <a:ext cx="2819520" cy="1761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7120" y="561960"/>
            <a:ext cx="228600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4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mary Model of the Relationship between Firm Performance and Diversifica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91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. E. Hoskisson &amp; M. A. Hitt, 1990, Antecedents and performance outcomes of diversification: A review and critique of theoretical perspectiv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: 49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83C14-C835-4A16-AF42-805FA1B4627A}" type="slidenum">
              <a:t>31</a:t>
            </a:fld>
          </a:p>
        </p:txBody>
      </p:sp>
    </p:spTree>
  </p:cSld>
  <p:transition>
    <p:random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wo Strategy Leve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siness-level Strategy (Competitiv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business unit in a diversified firm chooses a business-level strategy as its means of competing in individual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 (Companywid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actions taken by the firm to gain a competitive advantage by selecting and managing a group of different businesses competing in several industries and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6E479-F55A-428D-9F08-EFD11BC48521}" type="slidenum">
              <a:t>4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y: Key Ques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’s Valu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degree to which the businesses in the portfolio are worth more under the management of the company than they would be under other ownership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hat businesses shoul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firm be in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should the corporat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ffice manage th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oup of businesses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97560" y="3429000"/>
            <a:ext cx="811440" cy="517320"/>
            <a:chOff x="6397560" y="3429000"/>
            <a:chExt cx="811440" cy="517320"/>
          </a:xfrm>
        </p:grpSpPr>
        <p:sp>
          <p:nvSpPr>
            <p:cNvPr id="107" name=""/>
            <p:cNvSpPr/>
            <p:nvPr/>
          </p:nvSpPr>
          <p:spPr>
            <a:xfrm>
              <a:off x="6397560" y="3429000"/>
              <a:ext cx="811440" cy="517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6600" y="3484440"/>
              <a:ext cx="691920" cy="404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3840" y="4249800"/>
            <a:ext cx="2738520" cy="519120"/>
            <a:chOff x="5433840" y="4249800"/>
            <a:chExt cx="2738520" cy="519120"/>
          </a:xfrm>
        </p:grpSpPr>
        <p:grpSp>
          <p:nvGrpSpPr>
            <p:cNvPr id="110" name=""/>
            <p:cNvGrpSpPr/>
            <p:nvPr/>
          </p:nvGrpSpPr>
          <p:grpSpPr>
            <a:xfrm>
              <a:off x="7360920" y="4249800"/>
              <a:ext cx="811440" cy="517680"/>
              <a:chOff x="7360920" y="4249800"/>
              <a:chExt cx="811440" cy="517680"/>
            </a:xfrm>
          </p:grpSpPr>
          <p:sp>
            <p:nvSpPr>
              <p:cNvPr id="111" name=""/>
              <p:cNvSpPr/>
              <p:nvPr/>
            </p:nvSpPr>
            <p:spPr>
              <a:xfrm>
                <a:off x="7360920" y="424980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9600" y="4305600"/>
                <a:ext cx="692280" cy="404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840" y="4251600"/>
              <a:ext cx="811080" cy="517320"/>
              <a:chOff x="5433840" y="4251600"/>
              <a:chExt cx="811080" cy="51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5433840" y="425160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2520" y="4307040"/>
                <a:ext cx="692280" cy="405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952880" y="5073480"/>
            <a:ext cx="1774800" cy="519120"/>
            <a:chOff x="4952880" y="5073480"/>
            <a:chExt cx="1774800" cy="519120"/>
          </a:xfrm>
        </p:grpSpPr>
        <p:grpSp>
          <p:nvGrpSpPr>
            <p:cNvPr id="117" name=""/>
            <p:cNvGrpSpPr/>
            <p:nvPr/>
          </p:nvGrpSpPr>
          <p:grpSpPr>
            <a:xfrm>
              <a:off x="4952880" y="5074920"/>
              <a:ext cx="811080" cy="517680"/>
              <a:chOff x="4952880" y="5074920"/>
              <a:chExt cx="811080" cy="51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952880" y="5074920"/>
                <a:ext cx="81108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1560" y="5130720"/>
                <a:ext cx="691920" cy="4046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16240" y="5073480"/>
              <a:ext cx="811440" cy="517680"/>
              <a:chOff x="5916240" y="5073480"/>
              <a:chExt cx="811440" cy="517680"/>
            </a:xfrm>
          </p:grpSpPr>
          <p:sp>
            <p:nvSpPr>
              <p:cNvPr id="121" name=""/>
              <p:cNvSpPr/>
              <p:nvPr/>
            </p:nvSpPr>
            <p:spPr>
              <a:xfrm>
                <a:off x="5916240" y="507348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75280" y="5128920"/>
                <a:ext cx="691920" cy="40500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880320" y="5075280"/>
            <a:ext cx="1774800" cy="517320"/>
            <a:chOff x="6880320" y="5075280"/>
            <a:chExt cx="1774800" cy="517320"/>
          </a:xfrm>
        </p:grpSpPr>
        <p:grpSp>
          <p:nvGrpSpPr>
            <p:cNvPr id="124" name=""/>
            <p:cNvGrpSpPr/>
            <p:nvPr/>
          </p:nvGrpSpPr>
          <p:grpSpPr>
            <a:xfrm>
              <a:off x="6880320" y="5075280"/>
              <a:ext cx="811080" cy="517320"/>
              <a:chOff x="6880320" y="5075280"/>
              <a:chExt cx="811080" cy="51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88032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3900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844040" y="5075280"/>
              <a:ext cx="811080" cy="517320"/>
              <a:chOff x="7844040" y="5075280"/>
              <a:chExt cx="811080" cy="517320"/>
            </a:xfrm>
          </p:grpSpPr>
          <p:sp>
            <p:nvSpPr>
              <p:cNvPr id="128" name=""/>
              <p:cNvSpPr/>
              <p:nvPr/>
            </p:nvSpPr>
            <p:spPr>
              <a:xfrm>
                <a:off x="784404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272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839920" y="3946320"/>
            <a:ext cx="1926720" cy="305280"/>
            <a:chOff x="5839920" y="3946320"/>
            <a:chExt cx="1926720" cy="305280"/>
          </a:xfrm>
        </p:grpSpPr>
        <p:cxnSp>
          <p:nvCxnSpPr>
            <p:cNvPr id="131" name=""/>
            <p:cNvCxnSpPr>
              <a:stCxn id="107" idx="2"/>
              <a:endCxn id="114" idx="0"/>
            </p:cNvCxnSpPr>
            <p:nvPr/>
          </p:nvCxnSpPr>
          <p:spPr>
            <a:xfrm rot="5400000">
              <a:off x="6168960" y="3617280"/>
              <a:ext cx="305280" cy="9640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07" idx="2"/>
              <a:endCxn id="111" idx="0"/>
            </p:cNvCxnSpPr>
            <p:nvPr/>
          </p:nvCxnSpPr>
          <p:spPr>
            <a:xfrm flipH="1" rot="16200000">
              <a:off x="7133400" y="3615480"/>
              <a:ext cx="303120" cy="964440"/>
            </a:xfrm>
            <a:prstGeom prst="bentConnector3">
              <a:avLst>
                <a:gd name="adj1" fmla="val 4970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358960" y="4768560"/>
            <a:ext cx="964080" cy="306360"/>
            <a:chOff x="5358960" y="4768560"/>
            <a:chExt cx="964080" cy="306360"/>
          </a:xfrm>
        </p:grpSpPr>
        <p:cxnSp>
          <p:nvCxnSpPr>
            <p:cNvPr id="134" name=""/>
            <p:cNvCxnSpPr>
              <a:stCxn id="114" idx="2"/>
              <a:endCxn id="118" idx="0"/>
            </p:cNvCxnSpPr>
            <p:nvPr/>
          </p:nvCxnSpPr>
          <p:spPr>
            <a:xfrm rot="5400000">
              <a:off x="5446080" y="4681080"/>
              <a:ext cx="306720" cy="48168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14" idx="2"/>
              <a:endCxn id="121" idx="0"/>
            </p:cNvCxnSpPr>
            <p:nvPr/>
          </p:nvCxnSpPr>
          <p:spPr>
            <a:xfrm flipH="1" rot="16200000">
              <a:off x="5928840" y="4679640"/>
              <a:ext cx="305640" cy="483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7286040" y="4710240"/>
            <a:ext cx="964080" cy="365400"/>
            <a:chOff x="7286040" y="4710240"/>
            <a:chExt cx="964080" cy="365400"/>
          </a:xfrm>
        </p:grpSpPr>
        <p:cxnSp>
          <p:nvCxnSpPr>
            <p:cNvPr id="137" name=""/>
            <p:cNvCxnSpPr>
              <a:endCxn id="125" idx="0"/>
            </p:cNvCxnSpPr>
            <p:nvPr/>
          </p:nvCxnSpPr>
          <p:spPr>
            <a:xfrm flipV="1" rot="10800000">
              <a:off x="7286040" y="4887720"/>
              <a:ext cx="51300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12" idx="2"/>
              <a:endCxn id="128" idx="0"/>
            </p:cNvCxnSpPr>
            <p:nvPr/>
          </p:nvCxnSpPr>
          <p:spPr>
            <a:xfrm flipH="1" rot="16200000">
              <a:off x="7825320" y="4650480"/>
              <a:ext cx="365760" cy="484560"/>
            </a:xfrm>
            <a:prstGeom prst="bentConnector3">
              <a:avLst>
                <a:gd name="adj1" fmla="val 4995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942520" y="59547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495400" y="5594400"/>
            <a:ext cx="2683080" cy="396720"/>
            <a:chOff x="5495400" y="5594400"/>
            <a:chExt cx="2683080" cy="396720"/>
          </a:xfrm>
        </p:grpSpPr>
        <p:sp>
          <p:nvSpPr>
            <p:cNvPr id="141" name=""/>
            <p:cNvSpPr/>
            <p:nvPr/>
          </p:nvSpPr>
          <p:spPr>
            <a:xfrm flipH="1" flipV="1">
              <a:off x="5495400" y="5628600"/>
              <a:ext cx="135396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33880" y="5630760"/>
              <a:ext cx="13446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33880" y="5594400"/>
              <a:ext cx="39708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0280" y="5611320"/>
              <a:ext cx="379440" cy="37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87DDE-8F7F-4C30-97DB-64646D8F224F}" type="slidenum">
              <a:t>5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Low Lev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4114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minant Busines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tween 70% and 95% of revenue comes from a single busin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91320" y="5315040"/>
            <a:ext cx="685800" cy="3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248520" y="1371600"/>
            <a:ext cx="2132640" cy="2133000"/>
            <a:chOff x="6248520" y="1371600"/>
            <a:chExt cx="2132640" cy="2133000"/>
          </a:xfrm>
        </p:grpSpPr>
        <p:sp>
          <p:nvSpPr>
            <p:cNvPr id="149" name=""/>
            <p:cNvSpPr/>
            <p:nvPr/>
          </p:nvSpPr>
          <p:spPr>
            <a:xfrm>
              <a:off x="6248520" y="1371600"/>
              <a:ext cx="2132640" cy="21330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94320" y="1517400"/>
              <a:ext cx="1837800" cy="1838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4038480"/>
            <a:ext cx="1904760" cy="1904760"/>
            <a:chOff x="6400800" y="4038480"/>
            <a:chExt cx="1904760" cy="1904760"/>
          </a:xfrm>
        </p:grpSpPr>
        <p:sp>
          <p:nvSpPr>
            <p:cNvPr id="152" name=""/>
            <p:cNvSpPr/>
            <p:nvPr/>
          </p:nvSpPr>
          <p:spPr>
            <a:xfrm>
              <a:off x="6400800" y="4038480"/>
              <a:ext cx="1904760" cy="1904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0760" y="4168440"/>
              <a:ext cx="1641240" cy="164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5410080"/>
            <a:ext cx="914400" cy="914400"/>
            <a:chOff x="4952880" y="5410080"/>
            <a:chExt cx="914400" cy="914400"/>
          </a:xfrm>
        </p:grpSpPr>
        <p:sp>
          <p:nvSpPr>
            <p:cNvPr id="155" name=""/>
            <p:cNvSpPr/>
            <p:nvPr/>
          </p:nvSpPr>
          <p:spPr>
            <a:xfrm>
              <a:off x="4952880" y="54100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5160" y="5472000"/>
              <a:ext cx="787680" cy="78804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1631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ngl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than 95% of revenue comes from a singl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C5058-373F-4200-9772-41B8F6D42D70}" type="slidenum">
              <a:t>6</a:t>
            </a:fld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Moderate to High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388620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Constrain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a single business and all businesses share product, technological and distribution linkag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4037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6680" indent="-1666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Linked (mixed related and unrelat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12640" indent="-231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only limited links between business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0080" y="3952800"/>
            <a:ext cx="2828880" cy="2371680"/>
            <a:chOff x="5410080" y="3952800"/>
            <a:chExt cx="2828880" cy="2371680"/>
          </a:xfrm>
        </p:grpSpPr>
        <p:sp>
          <p:nvSpPr>
            <p:cNvPr id="162" name=""/>
            <p:cNvSpPr/>
            <p:nvPr/>
          </p:nvSpPr>
          <p:spPr>
            <a:xfrm flipH="1">
              <a:off x="6165360" y="4714920"/>
              <a:ext cx="6159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3120" y="578160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238880" y="5315040"/>
              <a:ext cx="1000080" cy="1000080"/>
              <a:chOff x="7238880" y="5315040"/>
              <a:chExt cx="1000080" cy="1000080"/>
            </a:xfrm>
          </p:grpSpPr>
          <p:sp>
            <p:nvSpPr>
              <p:cNvPr id="165" name=""/>
              <p:cNvSpPr/>
              <p:nvPr/>
            </p:nvSpPr>
            <p:spPr>
              <a:xfrm>
                <a:off x="7238880" y="53150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280" y="538344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3952800"/>
              <a:ext cx="1000080" cy="1000080"/>
              <a:chOff x="6324480" y="3952800"/>
              <a:chExt cx="1000080" cy="10000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9288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10080" y="5324400"/>
              <a:ext cx="1000080" cy="1000080"/>
              <a:chOff x="5410080" y="5324400"/>
              <a:chExt cx="1000080" cy="10000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848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971640" y="3952800"/>
            <a:ext cx="2838240" cy="2371680"/>
            <a:chOff x="971640" y="3952800"/>
            <a:chExt cx="2838240" cy="2371680"/>
          </a:xfrm>
        </p:grpSpPr>
        <p:sp>
          <p:nvSpPr>
            <p:cNvPr id="174" name=""/>
            <p:cNvSpPr/>
            <p:nvPr/>
          </p:nvSpPr>
          <p:spPr>
            <a:xfrm>
              <a:off x="1743120" y="4724280"/>
              <a:ext cx="1295280" cy="11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09800" y="5324400"/>
              <a:ext cx="1000080" cy="1000080"/>
              <a:chOff x="2809800" y="5324400"/>
              <a:chExt cx="1000080" cy="1000080"/>
            </a:xfrm>
          </p:grpSpPr>
          <p:sp>
            <p:nvSpPr>
              <p:cNvPr id="176" name=""/>
              <p:cNvSpPr/>
              <p:nvPr/>
            </p:nvSpPr>
            <p:spPr>
              <a:xfrm>
                <a:off x="280980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8200" y="53928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95400" y="3952800"/>
              <a:ext cx="1000080" cy="1000080"/>
              <a:chOff x="1895400" y="3952800"/>
              <a:chExt cx="1000080" cy="1000080"/>
            </a:xfrm>
          </p:grpSpPr>
          <p:sp>
            <p:nvSpPr>
              <p:cNvPr id="179" name=""/>
              <p:cNvSpPr/>
              <p:nvPr/>
            </p:nvSpPr>
            <p:spPr>
              <a:xfrm>
                <a:off x="189540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380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71640" y="5324400"/>
              <a:ext cx="1000080" cy="1000080"/>
              <a:chOff x="971640" y="5324400"/>
              <a:chExt cx="1000080" cy="1000080"/>
            </a:xfrm>
          </p:grpSpPr>
          <p:sp>
            <p:nvSpPr>
              <p:cNvPr id="182" name=""/>
              <p:cNvSpPr/>
              <p:nvPr/>
            </p:nvSpPr>
            <p:spPr>
              <a:xfrm>
                <a:off x="97164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004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48D4C-94CC-4BFA-B778-F48DE578DA05}" type="slidenum">
              <a:t>7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Very High Levels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related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no common links between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62640"/>
            <a:ext cx="1000080" cy="1000080"/>
            <a:chOff x="5410080" y="4562640"/>
            <a:chExt cx="1000080" cy="1000080"/>
          </a:xfrm>
        </p:grpSpPr>
        <p:sp>
          <p:nvSpPr>
            <p:cNvPr id="187" name=""/>
            <p:cNvSpPr/>
            <p:nvPr/>
          </p:nvSpPr>
          <p:spPr>
            <a:xfrm>
              <a:off x="541008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8480" y="4631040"/>
              <a:ext cx="861840" cy="861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4562640"/>
            <a:ext cx="1000080" cy="1000080"/>
            <a:chOff x="2743200" y="4562640"/>
            <a:chExt cx="1000080" cy="1000080"/>
          </a:xfrm>
        </p:grpSpPr>
        <p:sp>
          <p:nvSpPr>
            <p:cNvPr id="190" name=""/>
            <p:cNvSpPr/>
            <p:nvPr/>
          </p:nvSpPr>
          <p:spPr>
            <a:xfrm>
              <a:off x="274320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1600" y="4630680"/>
              <a:ext cx="861840" cy="86220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32280" y="3038400"/>
            <a:ext cx="1261800" cy="1261800"/>
            <a:chOff x="3932280" y="3038400"/>
            <a:chExt cx="1261800" cy="1261800"/>
          </a:xfrm>
        </p:grpSpPr>
        <p:sp>
          <p:nvSpPr>
            <p:cNvPr id="193" name=""/>
            <p:cNvSpPr/>
            <p:nvPr/>
          </p:nvSpPr>
          <p:spPr>
            <a:xfrm>
              <a:off x="3932280" y="3038400"/>
              <a:ext cx="1261800" cy="12618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8320" y="3124440"/>
              <a:ext cx="1087560" cy="1087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6F157-5C74-4351-96FB-A86773968E67}" type="slidenum">
              <a:t>8</a:t>
            </a:fld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49068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s and Types of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8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239240" cy="517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6324480"/>
            <a:ext cx="701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dapted from R. P. Rumelt, 1974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y, Structure and Economic Performance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ston: Harvard Business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0F556-E614-4157-BCE1-03F801650D5B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6:47Z</dcterms:modified>
  <cp:revision>42</cp:revision>
  <dc:subject>Chapter 6</dc:subject>
  <dc:title>Strategic Management 7e.</dc:title>
</cp:coreProperties>
</file>