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E70DB-019F-4A82-A167-8E11C9EA5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23F9-0ABF-432C-961E-0CD160DD0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69421-49CA-43BD-AB44-1AD1BED10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339F-F676-48F4-9AFD-C53E1C831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7398-F0AD-4BC6-9282-B71D9488FB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984D-AA3F-48EC-A513-D3ADDDB56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6B48-7EE7-4027-B5D1-F7F0B7771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A31E-D1B2-4C06-AA77-36F3B19C4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67F65-361C-463E-A51A-6B8C3C315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15A3-0298-4DE3-99CC-E35BD99A3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EA4E3-F375-4311-BF71-87B555B78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5A3C4-E7FF-4FE4-B92B-688269A0F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E8F5-7EBC-46E4-B5E0-4EF7D62C0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C5E1F-F1CB-45A0-91EE-E32D7CA87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708E-D09C-4990-978D-F33CDF426E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D5FB-6F9A-4EAC-B6B9-D0EF757E5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E859-12FF-413C-8669-7EC03557D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E878A-1136-4955-A2AD-80FF851A1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A23D4-94D7-4D5A-A4DD-6C1AD8EBE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01754-27AB-4433-9095-D22439889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2A24-54B2-4C88-A3FA-970905909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7FCC-CEDF-464C-B8C4-79B2F1CFA2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2C35-DA6A-4C6D-BB95-23F325332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AFF82-85CA-43F2-980F-B0FDDDF68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46B0-6048-49AB-8906-DF55C35911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6768-4EBB-49F1-9135-CD5F2FFCB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F685F-6B60-45C3-BC87-C3A37EEC1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75533-2115-4F45-98F7-A42816092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03C36-4081-43DB-A788-5EA9FCE05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B022-04E0-4293-85DA-9154F0259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457CA-4488-4EC5-A52D-D3722515D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AC61-0E5A-48AF-9041-5F4C2E06E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F1482-6299-436D-8C82-09163B46EE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BEFAE-5518-45F2-B089-F4F9C388B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7B153-6299-4D1E-A5A1-02F14B361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2F0DD-1E28-47F0-AB74-3137EDCFB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2BC50-B8CF-458A-90AB-6F23BFB9F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8B5E-A376-4209-A224-1311239B7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09FD-E3AB-4CD2-839B-95FC12AA9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68F65-B86F-4E59-8F1D-7563E6092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AD2A-A0E3-40F3-9B0C-DC9A304AA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F5031-B704-4030-B1D2-3215068E2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A983E6-9CBD-4F6E-9A80-D7AEF13CD8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4F3D5C-2ABC-4E30-A8E0-C4EE480FBD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C06FC6-75A7-4FBA-82AE-08C6A23C12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22E656-343A-4F60-A409-37BDD488D8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899B7D-D0E2-432B-B165-16E7A30A90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D694C1-20A0-4DD9-81E2-3779F4534A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B79F80-52F8-4CBF-8AA0-9C4FE05942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BFE0F2-5A10-4B0B-B0EF-73C7754248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8E09D0-72B7-4CE3-A29C-22E53CEED6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11CCFD-74E4-4610-9132-5219C415D1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B59C13-F79F-4B42-9003-46C72A200A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79D0A6-C78B-4948-96E9-CD86017EF0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4A941E61-9DC8-4FCF-9DD4-9D49D473E1E8}"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B27D8BAA-AA79-4B7E-B838-C3A0B6C3F612}"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274CB59A-8610-420A-8AAE-3E40373A7169}"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D64C1D6-AC30-4B87-96C4-B4118C400F57}"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B3C2A35-63F7-41BA-B749-581F7AA54256}"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80382DA9-EB79-42F3-8F5A-8C86F2322B6F}"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8F3A9E6E-314F-4E2F-B09E-221D2DEC642F}"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AB8A2A5-C582-46F0-A27A-2C5F6CBB2BA1}"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A87A7E18-C7BD-4131-8FD6-D3C1F59671B4}"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0A6C0D6-3681-40BA-96E0-A329BC6E5E21}"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6F35560-756B-4938-937C-0A8596DCC7C1}"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4E3034-3404-418A-86BA-44590190A66E}"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6BDF9B7E-E098-4FC7-AD06-165A4A8F6F0E}"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3F1BAE73-9F36-4D67-A1E4-8B65CE486DB6}"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C2734CAB-D913-4AE3-891F-C6FE4F06BE2F}"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C978FF-9759-49D4-B3F2-420D57051AF0}"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660465F-7B5A-43C0-BC55-75B3476D465F}"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908D10-D47C-41C4-85DD-DBF8A0BCBD08}"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EA3B6B-E884-4674-8A18-17BD6E2AA7CD}"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6EF8AD3-D6F7-4BB8-AE52-097D344065E0}"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B53B756-0C3B-4131-866F-4C563F836764}"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D166D4F-9745-40F6-B0DA-CD4F447F29A9}"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5F9A6F58-07CF-42B9-8904-DE4954F99A4D}"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A95092A0-8A59-4516-B742-A39D9D405E98}"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57E9F95C-4290-4CB3-A8B9-6F03D8BB0931}"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F8A17552-0C34-414E-946E-5634124B7914}"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85C524-CEDC-44B1-82C7-3AA1A4E573C1}"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9C30670-F7FE-41DC-8C8E-A221ABE88E54}"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B2BE8E-FFC3-4716-A784-C86EA7A6B759}"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36296E-5915-4FAD-A880-E3D84C1D2C7B}"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4121497-92AB-4F0B-9A54-B2C3ACE9ACCC}"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1144C901-6C1B-4806-89FF-05E079F3D768}"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0100780-1AED-4FC4-854C-4B952D3CEAF3}"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19D644D7-4603-46F6-84EE-0F0CC564C394}"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EEC886E-87ED-4F69-AF86-17CECA2864E5}"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B646CDC3-5A8A-4DBF-B7D3-870D3CAAE32A}"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FC1E85A5-18FD-4548-86BC-E8644606C437}"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83BD377-E1C8-4C72-9733-81389353D27D}"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CDF6A7C-53EB-415B-BC5D-28D9452C0A6D}"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D25029F-155A-45C5-8F34-A7866376D581}"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E5A7026-FCDA-42F5-B75F-85B447EA7513}"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BB20241-DBEC-449A-82A8-D1C61061A129}"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A3DF3E2-47D7-4D09-A438-A8C8CBC81294}"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B5B3680-E690-429E-AA0A-C08915F9DCE8}"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C69E59A-295F-461A-A30F-C3890FEBA703}"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B8E0654-3E77-464F-B00C-46B41C190B6B}"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C4A01150-A2BA-4663-8AB3-E380092A2ACB}"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982F7FB9-9277-4FB0-8D40-462018E75B00}"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5:43Z</dcterms:modified>
  <cp:revision>46</cp:revision>
  <dc:subject>Chapter 4</dc:subject>
  <dc:title>Strategic Management 7e.</dc:title>
</cp:coreProperties>
</file>