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13B4-5BCD-485C-B0CC-A996D0992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32B8-51AC-42B8-B6EA-3B08EFC18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3736-00DC-4684-9490-A124C091A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9949-3D2C-4C54-B48F-8969C6719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98D4-F671-4899-A721-6CC27FD6E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87B8-E163-4E46-8219-890461F93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3B08-0F87-4182-929A-4CDAA4B16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8382-C25A-40C1-94C1-F57064C91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C17C-0E83-4D59-832E-68B470C53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47CB-8D7F-4C06-AED5-248E990A2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509B-EA32-4991-9426-F813880FD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5177-BD22-4522-84FE-369DB11D0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87B6-4156-4986-872C-34EAAC0A0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1533-19A2-4D1C-A4C5-F149B3EF2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EFE8-676F-4506-AA44-CE6E5569B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AD9A-12C0-4B20-9BB0-1D73E0D74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5F0E-6326-482D-9E45-2EC1F941A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363F-B4DE-41F3-91C6-940E5CA55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F4FE-34FC-4D12-A1B8-13B7C6B14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3CFC-ADCC-4DD9-B019-F51E6854E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4C63-AC6C-4553-A771-CBDE12FD7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4AE1-298F-4191-9E94-0422E1113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3153-5598-4B6D-9E40-AAA2D3AF3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1391-0529-4F2A-AE69-CE90AA5DA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FBD2-6409-48C3-84FC-866E9277A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EA4C-1722-474A-B36D-88A727898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7C3E-285A-4EDC-8512-60BF1DE7F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61C0-CB39-45E4-9377-C713017D2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3ECF-5E58-4FE7-9A16-C8170F011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FE44-8C46-4EB4-8C65-6BE3C4A67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866C-7621-4F3C-BF92-F057E25F7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6730C-1FDB-4A10-8DB7-F33BBF570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6AAAB-8D32-474B-AB14-3E137BA21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EBF65-545C-4517-B618-3FED2938B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645C-C2DF-447E-BCAD-FC5E60C62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9B645-81A0-4690-989B-109134C07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94029-F5DA-47CA-88E6-396227CDE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97A12-B541-4F8F-AB59-CC7063798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6FD18-EB2C-4E32-9272-6A8EB0C7B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3271C-8397-4738-B7E3-16EF296A1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492D8-91ED-43B8-9747-59188C8AA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A89C8-421A-4500-AC39-7F33199AC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930A7-CB22-4202-BAAC-AAF6A5940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B91919EA-3A3D-451B-B5F9-94F1E11167C2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02EA5-0A4C-42B7-947C-6F2BFA22E763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B8B5E-6BD6-46CF-B0A2-C5879911BD13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B5A2F-BFCF-4400-BDC2-C50D5BC6D192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F85BB-7DDA-4C1A-92E5-7DF5F2123A1B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B9D16-49DB-4222-8164-604FD0B3B73B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4C6A7-BC6F-468A-8BC2-5BE1835BE1BD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DBCAC-7634-4D8D-8DC5-A35016CBF1CA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8D233-EA7F-4D6C-9B42-CB24018B817E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48D98-BA42-4190-B26B-9C5E87FE4B43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83036-1C59-450F-93EB-69AF00C95DB4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68DCC-8B91-40B7-9FB4-CF3326E5F715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04163-D15A-4692-878B-5B3216CAD98E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C9273-228B-4E3E-B500-1EFF0F118003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3C2B5-4FC8-431F-AD54-567D9B457D39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61C33-FC28-46DF-A58B-CFB4413C9306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9926E-5F10-432A-827E-0EB96D0ECE1F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4A131-1DA6-478D-A107-5DC4BE2B3FF3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D8293-515C-4045-B291-DB39671A3889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36585-A048-458B-B2BB-74DCD20E533D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2E355-1238-4A7F-96BE-B13EF5129E8C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0BA84-27E3-416F-A8FD-34BEE34E93EF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FCDE3-1545-428A-AA8C-2CFA346DDFF9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E8E0E-0C84-46B5-A98F-2CC2FDFE6362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2EBBB-EE63-4898-BFF7-9F375D7441CF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60883-ABB8-4597-91F6-9FA98AAE5F9C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8D970-BF5D-4855-9732-70F38817A32E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CF015-C125-4A33-8901-5365789A286D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A49C-543F-42C2-A5EF-00CD87CC4CDB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81B3B-2249-4C7E-8C14-83461A9FFF0D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C0107-759B-439C-A3A5-4AF3AF7F0492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7E38A-76AB-42F1-964C-B612580E18D8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9EB28-4134-4679-9A95-09FEACA1822B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F7131-EF43-4A72-8924-F0BEE81E84E4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8DB9D-93CF-4F74-B8C3-E95D6C9AF3DE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8C1A6-5B02-4F71-AB59-231AB6CF968A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2D889-F748-42DA-9732-FA92681FF778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B342-7845-4A40-B2A8-976D3DDDCF03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FDF69-DD06-493D-9C65-115EAE556F83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BA947-F9B6-4EFB-A59F-409EFADD3F9D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dii</cp:lastModifiedBy>
  <dcterms:modified xsi:type="dcterms:W3CDTF">2007-06-12T13:34:20Z</dcterms:modified>
  <cp:revision>44</cp:revision>
  <dc:subject>Chapter 2</dc:subject>
  <dc:title>Strategic Management 7e.</dc:title>
</cp:coreProperties>
</file>