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ct" ContentType="image/x-pict"/>
  <Override PartName="/ppt/media/image1.png" ContentType="image/png"/>
  <Override PartName="/ppt/media/image16.pct" ContentType="image/x-pict"/>
  <Override PartName="/ppt/media/image14.pct" ContentType="image/x-pict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5.pct" ContentType="image/x-pict"/>
  <Override PartName="/ppt/media/image13.png" ContentType="image/png"/>
  <Override PartName="/ppt/media/image6.png" ContentType="image/png"/>
  <Override PartName="/ppt/media/image9.pct" ContentType="image/x-pict"/>
  <Override PartName="/ppt/media/image11.png" ContentType="image/png"/>
  <Override PartName="/ppt/media/image7.png" ContentType="image/png"/>
  <Override PartName="/ppt/media/image10.png" ContentType="image/png"/>
  <Override PartName="/ppt/media/image8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move the slide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66AA-7264-4991-BD1E-E3DCB125F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C17D-D918-4B69-BD42-E19DC76B7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AB44A-2EAD-4158-82FC-CC0E9F9454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2F975-33F7-4988-BC9E-C2C478E1BD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31D26-4F63-4895-A2CD-98FC1BC0F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6EE6B-B6A9-449C-B825-8DF65B5B6B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4945D-B209-4009-8EDE-1C5AD8F95F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BC9F5-9C0A-4B98-876A-F9DFA7B771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45649-CFF6-4D7D-9A2E-D9BCFE506B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BC9BE-97B1-49D4-9715-EBF0F073DB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E7058-1037-4A07-9FEE-7E5449D1FF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1A1D7-E435-41A3-A256-FDC6F92F8B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ACD59-D224-40C2-B32F-C875612BF8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40F7B-6A33-4689-8F76-A874015E5F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47676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81440" y="6476760"/>
            <a:ext cx="129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–</a:t>
            </a:r>
            <a:fld id="{5C03EA1C-61E2-4782-B118-9D09F5A1DD5D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title text format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09920" y="60958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8120" y="2057400"/>
            <a:ext cx="5943600" cy="14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1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Management and Strategic Competitiveness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Global Econom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oods, people, skills, and ideas move freely across geographic bor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vement is relatively unfettered by artificial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ansion into global arena complicates a firm’s competitive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-term: Where is the fastest growth likely to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term: Where will sustainable growth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477D1-7019-4896-9931-157642421142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March of Globaliz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economic interdependence among countrie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low of goods and services, financial capital, and knowledge across country bor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performance lev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ality, cost, productivity, product introduction time, and operational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range of opportunities for companies competing in the 21st-century competitive landscap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ability of foreign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the risks of participating outside of a firm’s domestic country in the global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of time required for firms to learn how to compete in markets that are new to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7CA0C-3AA1-4E9B-BA4D-51CE281D9207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y and 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echnology Diffu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peed at which new technologies become availab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sruptive Technolog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 that destroy the value of existing technology and create new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erpetual Innov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apidity and consistency with which new, information-intensive technologies replace older o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68EAD-FA6D-4587-BE89-2CD1FC8BB840}" type="slidenum">
              <a:t>12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Information 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bility to effectively and efficiently access and use information has become an important source of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 includes personal computers, cellular phones, artificial intelligence, virtual reality, massive databases, electronic networks, internet trad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48520" y="4419720"/>
            <a:ext cx="189216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AC8E0-9004-46C0-A83D-38ABC11BC17B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creasing Knowledge Intens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nowledge as a critical organizational resource for creating an intangible competitive advanta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trategic flexibility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the set of capabilities used to respond to various demands and opportunities in dynamic and uncertain competitive environ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Organizational slack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slack resources that allow the firm flexibility to respond to environmental cha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capacity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7A1DA-731F-49D3-A1DA-DC50216CA5DB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ominance of the External Environmen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 in which a firm competes has a stronger influence on the firm’s performance than do the choices managers make inside their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perties Determining Performanc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D67A8-9CFB-4D3F-B403-977972E4FFD9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our Assumptions of the I/O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82840" y="1486080"/>
            <a:ext cx="697536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xternal environment imposes pressures and constraints that determine strategies leading to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459080"/>
            <a:ext cx="838080" cy="761760"/>
            <a:chOff x="549360" y="1459080"/>
            <a:chExt cx="838080" cy="761760"/>
          </a:xfrm>
        </p:grpSpPr>
        <p:sp>
          <p:nvSpPr>
            <p:cNvPr id="138" name=""/>
            <p:cNvSpPr/>
            <p:nvPr/>
          </p:nvSpPr>
          <p:spPr>
            <a:xfrm>
              <a:off x="549360" y="145908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9320" y="152820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705040"/>
            <a:ext cx="838080" cy="762120"/>
            <a:chOff x="549360" y="2705040"/>
            <a:chExt cx="838080" cy="762120"/>
          </a:xfrm>
        </p:grpSpPr>
        <p:sp>
          <p:nvSpPr>
            <p:cNvPr id="141" name=""/>
            <p:cNvSpPr/>
            <p:nvPr/>
          </p:nvSpPr>
          <p:spPr>
            <a:xfrm>
              <a:off x="549360" y="270504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9320" y="277416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539720" y="2743200"/>
            <a:ext cx="714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st firms competing in an industry control similar strategically relevant resources and pursue similar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39720" y="3867120"/>
            <a:ext cx="6096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sources used to implement strategies are highly mobile across fi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49360" y="3832200"/>
            <a:ext cx="838080" cy="762120"/>
            <a:chOff x="549360" y="3832200"/>
            <a:chExt cx="838080" cy="762120"/>
          </a:xfrm>
        </p:grpSpPr>
        <p:sp>
          <p:nvSpPr>
            <p:cNvPr id="146" name=""/>
            <p:cNvSpPr/>
            <p:nvPr/>
          </p:nvSpPr>
          <p:spPr>
            <a:xfrm>
              <a:off x="549360" y="383220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9320" y="390132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49360" y="5105520"/>
            <a:ext cx="838080" cy="761760"/>
            <a:chOff x="549360" y="5105520"/>
            <a:chExt cx="838080" cy="761760"/>
          </a:xfrm>
        </p:grpSpPr>
        <p:sp>
          <p:nvSpPr>
            <p:cNvPr id="149" name=""/>
            <p:cNvSpPr/>
            <p:nvPr/>
          </p:nvSpPr>
          <p:spPr>
            <a:xfrm>
              <a:off x="549360" y="510552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9320" y="517464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539720" y="50292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rganizational decision makers are assumed to be rational and committed to acting in the firm’s best interests (profit-maximiz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FB218-2DA8-483E-87F1-8EE740994B02}" type="slidenum">
              <a:t>16</a:t>
            </a:fld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155680" cy="1371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55200"/>
            <a:ext cx="190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I/O Model of Above-Average Return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478152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47CE2-56CA-4C7F-94C3-7AECD2225CC3}" type="slidenum">
              <a:t>17</a:t>
            </a:fld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586440" y="1833480"/>
            <a:ext cx="3842280" cy="4340160"/>
            <a:chOff x="586440" y="1833480"/>
            <a:chExt cx="3842280" cy="4340160"/>
          </a:xfrm>
        </p:grpSpPr>
        <p:sp>
          <p:nvSpPr>
            <p:cNvPr id="158" name=""/>
            <p:cNvSpPr/>
            <p:nvPr/>
          </p:nvSpPr>
          <p:spPr>
            <a:xfrm>
              <a:off x="609480" y="2152800"/>
              <a:ext cx="3687840" cy="368748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97280" y="2205000"/>
              <a:ext cx="9122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73200" y="5349960"/>
              <a:ext cx="17625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Technolog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7976600">
              <a:off x="3161160" y="4602960"/>
              <a:ext cx="1271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Econom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3531600">
              <a:off x="2964960" y="3099240"/>
              <a:ext cx="1721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emograp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3576600">
              <a:off x="360720" y="4550040"/>
              <a:ext cx="16786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ociocultu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7993400">
              <a:off x="290880" y="3016080"/>
              <a:ext cx="18144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tical/Leg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6520" y="2894040"/>
              <a:ext cx="2633760" cy="2278080"/>
            </a:xfrm>
            <a:prstGeom prst="hexagon">
              <a:avLst>
                <a:gd name="adj" fmla="val 28903"/>
                <a:gd name="vf" fmla="val 11547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21080" y="302436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21080" y="431964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Competi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11960" y="18334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21080" y="580536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28760" y="4284720"/>
              <a:ext cx="22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76560" y="1255320"/>
            <a:ext cx="38862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rategy is dictated by the external environment of the firm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opportunities exist in these environment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rm develops internal skills required by external environment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can the firm do about the opportunitie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0160" y="140328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ernal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97400" y="168120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100320" y="1681200"/>
            <a:ext cx="1805040" cy="137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876040" y="1700280"/>
            <a:ext cx="2009880" cy="528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03040" y="1681200"/>
            <a:ext cx="2001960" cy="267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2954C-A60B-498A-8143-77ECD3B0D7C2}" type="slidenum">
              <a:t>18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22680" y="1447920"/>
            <a:ext cx="407664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udy the external environment, especially the industry environment: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41440" y="1380960"/>
            <a:ext cx="3801960" cy="593640"/>
            <a:chOff x="541440" y="1380960"/>
            <a:chExt cx="3801960" cy="593640"/>
          </a:xfrm>
        </p:grpSpPr>
        <p:sp>
          <p:nvSpPr>
            <p:cNvPr id="181" name=""/>
            <p:cNvSpPr/>
            <p:nvPr/>
          </p:nvSpPr>
          <p:spPr>
            <a:xfrm>
              <a:off x="54144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50000">
                  <a:srgbClr val="bbe0e3"/>
                </a:gs>
                <a:gs pos="100000">
                  <a:srgbClr val="4350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0640" y="1452240"/>
              <a:ext cx="3643560" cy="449280"/>
            </a:xfrm>
            <a:prstGeom prst="rect">
              <a:avLst/>
            </a:prstGeom>
            <a:gradFill rotWithShape="0">
              <a:gsLst>
                <a:gs pos="0">
                  <a:srgbClr val="7b9395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862F6-34AE-4971-89C2-069C709A2E4A}" type="slidenum">
              <a:t>19</a:t>
            </a:fld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85760"/>
            <a:ext cx="4267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competitiveness, strategy, competitive advantage, above-average returns, and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21st-century competitive landscape and explain how globalization and technological changes shape it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dustrial organization (I/O) model to explain how firms can earn above-average retur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resource-based model to explain how firms can earn above-average return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DE413-4CDC-429D-A570-050E2783975D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02240" y="1981080"/>
            <a:ext cx="35258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 with a high potential for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429000"/>
            <a:ext cx="3505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One whose structural characteristics suggest above-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440" y="1371600"/>
            <a:ext cx="3801960" cy="593640"/>
            <a:chOff x="541440" y="1371600"/>
            <a:chExt cx="3801960" cy="593640"/>
          </a:xfrm>
        </p:grpSpPr>
        <p:sp>
          <p:nvSpPr>
            <p:cNvPr id="187" name=""/>
            <p:cNvSpPr/>
            <p:nvPr/>
          </p:nvSpPr>
          <p:spPr>
            <a:xfrm>
              <a:off x="54144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064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440" y="1982880"/>
            <a:ext cx="3801960" cy="593640"/>
            <a:chOff x="541440" y="1982880"/>
            <a:chExt cx="3801960" cy="593640"/>
          </a:xfrm>
        </p:grpSpPr>
        <p:sp>
          <p:nvSpPr>
            <p:cNvPr id="190" name=""/>
            <p:cNvSpPr/>
            <p:nvPr/>
          </p:nvSpPr>
          <p:spPr>
            <a:xfrm>
              <a:off x="54144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064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E1691-3687-4645-9653-EE462DEED2D0}" type="slidenum">
              <a:t>20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2640" y="2592000"/>
            <a:ext cx="41148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strategy called for by the attractive industry to earn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40280" y="3765600"/>
            <a:ext cx="38228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: Selection of a strategy linked with above-average returns in a particular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41440" y="1390680"/>
            <a:ext cx="3801960" cy="593640"/>
            <a:chOff x="541440" y="1390680"/>
            <a:chExt cx="3801960" cy="593640"/>
          </a:xfrm>
        </p:grpSpPr>
        <p:sp>
          <p:nvSpPr>
            <p:cNvPr id="196" name=""/>
            <p:cNvSpPr/>
            <p:nvPr/>
          </p:nvSpPr>
          <p:spPr>
            <a:xfrm>
              <a:off x="541440" y="1390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0640" y="1461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41440" y="2001960"/>
            <a:ext cx="3801960" cy="593640"/>
            <a:chOff x="541440" y="2001960"/>
            <a:chExt cx="3801960" cy="593640"/>
          </a:xfrm>
        </p:grpSpPr>
        <p:sp>
          <p:nvSpPr>
            <p:cNvPr id="199" name=""/>
            <p:cNvSpPr/>
            <p:nvPr/>
          </p:nvSpPr>
          <p:spPr>
            <a:xfrm>
              <a:off x="541440" y="2001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0640" y="2073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41440" y="2614680"/>
            <a:ext cx="3801960" cy="593640"/>
            <a:chOff x="541440" y="2614680"/>
            <a:chExt cx="3801960" cy="593640"/>
          </a:xfrm>
        </p:grpSpPr>
        <p:sp>
          <p:nvSpPr>
            <p:cNvPr id="202" name=""/>
            <p:cNvSpPr/>
            <p:nvPr/>
          </p:nvSpPr>
          <p:spPr>
            <a:xfrm>
              <a:off x="541440" y="2614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0640" y="2685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1B2EB-C18E-4823-A196-4662B37ECC55}" type="slidenum">
              <a:t>21</a:t>
            </a:fld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02240" y="3201480"/>
            <a:ext cx="407520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velop or acquir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sets and skill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needed to implement a chosen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4343400"/>
            <a:ext cx="3733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ssets and skills: those assets and skills required to implement a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33520" y="1380960"/>
            <a:ext cx="3801960" cy="593640"/>
            <a:chOff x="533520" y="1380960"/>
            <a:chExt cx="3801960" cy="593640"/>
          </a:xfrm>
        </p:grpSpPr>
        <p:sp>
          <p:nvSpPr>
            <p:cNvPr id="208" name=""/>
            <p:cNvSpPr/>
            <p:nvPr/>
          </p:nvSpPr>
          <p:spPr>
            <a:xfrm>
              <a:off x="53352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720" y="1452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41440" y="1990800"/>
            <a:ext cx="3801960" cy="593640"/>
            <a:chOff x="541440" y="1990800"/>
            <a:chExt cx="3801960" cy="593640"/>
          </a:xfrm>
        </p:grpSpPr>
        <p:sp>
          <p:nvSpPr>
            <p:cNvPr id="211" name=""/>
            <p:cNvSpPr/>
            <p:nvPr/>
          </p:nvSpPr>
          <p:spPr>
            <a:xfrm>
              <a:off x="541440" y="19908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0640" y="20620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1440" y="2603520"/>
            <a:ext cx="3801960" cy="593640"/>
            <a:chOff x="541440" y="2603520"/>
            <a:chExt cx="3801960" cy="593640"/>
          </a:xfrm>
        </p:grpSpPr>
        <p:sp>
          <p:nvSpPr>
            <p:cNvPr id="214" name=""/>
            <p:cNvSpPr/>
            <p:nvPr/>
          </p:nvSpPr>
          <p:spPr>
            <a:xfrm>
              <a:off x="541440" y="26035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640" y="26748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41440" y="3216240"/>
            <a:ext cx="3801960" cy="593640"/>
            <a:chOff x="541440" y="3216240"/>
            <a:chExt cx="3801960" cy="593640"/>
          </a:xfrm>
        </p:grpSpPr>
        <p:sp>
          <p:nvSpPr>
            <p:cNvPr id="217" name=""/>
            <p:cNvSpPr/>
            <p:nvPr/>
          </p:nvSpPr>
          <p:spPr>
            <a:xfrm>
              <a:off x="541440" y="32162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0640" y="32875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4A324-FD19-4E58-86ED-784F564B3D29}" type="slidenum">
              <a:t>22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94956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 Use the firm’s strengths (its developed or acquired assets and skills) to implement the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43600" y="5181480"/>
            <a:ext cx="3871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implementation: select strategic actions linked with effective implementation of the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33520" y="1376280"/>
            <a:ext cx="3801960" cy="593640"/>
            <a:chOff x="533520" y="1376280"/>
            <a:chExt cx="3801960" cy="593640"/>
          </a:xfrm>
        </p:grpSpPr>
        <p:sp>
          <p:nvSpPr>
            <p:cNvPr id="223" name=""/>
            <p:cNvSpPr/>
            <p:nvPr/>
          </p:nvSpPr>
          <p:spPr>
            <a:xfrm>
              <a:off x="533520" y="1376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2720" y="1447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33520" y="1987560"/>
            <a:ext cx="3801960" cy="593640"/>
            <a:chOff x="533520" y="1987560"/>
            <a:chExt cx="3801960" cy="593640"/>
          </a:xfrm>
        </p:grpSpPr>
        <p:sp>
          <p:nvSpPr>
            <p:cNvPr id="226" name=""/>
            <p:cNvSpPr/>
            <p:nvPr/>
          </p:nvSpPr>
          <p:spPr>
            <a:xfrm>
              <a:off x="533520" y="1987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2720" y="2058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33520" y="2600280"/>
            <a:ext cx="3801960" cy="593640"/>
            <a:chOff x="533520" y="2600280"/>
            <a:chExt cx="3801960" cy="593640"/>
          </a:xfrm>
        </p:grpSpPr>
        <p:sp>
          <p:nvSpPr>
            <p:cNvPr id="229" name=""/>
            <p:cNvSpPr/>
            <p:nvPr/>
          </p:nvSpPr>
          <p:spPr>
            <a:xfrm>
              <a:off x="533520" y="2600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2720" y="2671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33520" y="3213000"/>
            <a:ext cx="3801960" cy="593640"/>
            <a:chOff x="533520" y="3213000"/>
            <a:chExt cx="3801960" cy="593640"/>
          </a:xfrm>
        </p:grpSpPr>
        <p:sp>
          <p:nvSpPr>
            <p:cNvPr id="232" name=""/>
            <p:cNvSpPr/>
            <p:nvPr/>
          </p:nvSpPr>
          <p:spPr>
            <a:xfrm>
              <a:off x="533520" y="3213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2720" y="3284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33520" y="3825720"/>
            <a:ext cx="3801960" cy="593640"/>
            <a:chOff x="533520" y="3825720"/>
            <a:chExt cx="3801960" cy="593640"/>
          </a:xfrm>
        </p:grpSpPr>
        <p:sp>
          <p:nvSpPr>
            <p:cNvPr id="235" name=""/>
            <p:cNvSpPr/>
            <p:nvPr/>
          </p:nvSpPr>
          <p:spPr>
            <a:xfrm>
              <a:off x="533520" y="38257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2720" y="38970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7C034-C4AB-4985-A754-90134F5A20B8}" type="slidenum">
              <a:t>23</a:t>
            </a:fld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(I/O)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33520" y="1371600"/>
            <a:ext cx="3801960" cy="593640"/>
            <a:chOff x="533520" y="1371600"/>
            <a:chExt cx="3801960" cy="593640"/>
          </a:xfrm>
        </p:grpSpPr>
        <p:sp>
          <p:nvSpPr>
            <p:cNvPr id="239" name=""/>
            <p:cNvSpPr/>
            <p:nvPr/>
          </p:nvSpPr>
          <p:spPr>
            <a:xfrm>
              <a:off x="53352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272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33520" y="1982880"/>
            <a:ext cx="3801960" cy="593640"/>
            <a:chOff x="533520" y="1982880"/>
            <a:chExt cx="3801960" cy="593640"/>
          </a:xfrm>
        </p:grpSpPr>
        <p:sp>
          <p:nvSpPr>
            <p:cNvPr id="242" name=""/>
            <p:cNvSpPr/>
            <p:nvPr/>
          </p:nvSpPr>
          <p:spPr>
            <a:xfrm>
              <a:off x="53352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272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33520" y="2595600"/>
            <a:ext cx="3801960" cy="593640"/>
            <a:chOff x="533520" y="2595600"/>
            <a:chExt cx="3801960" cy="593640"/>
          </a:xfrm>
        </p:grpSpPr>
        <p:sp>
          <p:nvSpPr>
            <p:cNvPr id="245" name=""/>
            <p:cNvSpPr/>
            <p:nvPr/>
          </p:nvSpPr>
          <p:spPr>
            <a:xfrm>
              <a:off x="533520" y="2595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2720" y="2666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33520" y="3208320"/>
            <a:ext cx="3801960" cy="593640"/>
            <a:chOff x="533520" y="3208320"/>
            <a:chExt cx="3801960" cy="593640"/>
          </a:xfrm>
        </p:grpSpPr>
        <p:sp>
          <p:nvSpPr>
            <p:cNvPr id="248" name=""/>
            <p:cNvSpPr/>
            <p:nvPr/>
          </p:nvSpPr>
          <p:spPr>
            <a:xfrm>
              <a:off x="533520" y="3208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2720" y="3279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33520" y="3821040"/>
            <a:ext cx="3801960" cy="593640"/>
            <a:chOff x="533520" y="3821040"/>
            <a:chExt cx="3801960" cy="593640"/>
          </a:xfrm>
        </p:grpSpPr>
        <p:sp>
          <p:nvSpPr>
            <p:cNvPr id="251" name=""/>
            <p:cNvSpPr/>
            <p:nvPr/>
          </p:nvSpPr>
          <p:spPr>
            <a:xfrm>
              <a:off x="533520" y="38210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2720" y="38923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891040" y="332424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29000" y="1631880"/>
            <a:ext cx="843120" cy="247356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560"/>
              <a:gd name="textAreaBottom" fmla="*/ 2409120 h 24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65720" y="2867040"/>
            <a:ext cx="1861920" cy="190512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64920" y="5181480"/>
            <a:ext cx="372564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520" y="4433760"/>
            <a:ext cx="3801960" cy="593640"/>
            <a:chOff x="533520" y="4433760"/>
            <a:chExt cx="3801960" cy="593640"/>
          </a:xfrm>
        </p:grpSpPr>
        <p:sp>
          <p:nvSpPr>
            <p:cNvPr id="258" name=""/>
            <p:cNvSpPr/>
            <p:nvPr/>
          </p:nvSpPr>
          <p:spPr>
            <a:xfrm>
              <a:off x="533520" y="44337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2720" y="45050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B9A4D-AEFE-4198-A2C2-5F4E89E10767}" type="slidenum">
              <a:t>24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fitabil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’s rate of return on invested capital relative to its cost of capit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n industry’s profitability results from interaction among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ve rivalry among firms currently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tential entrants to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7AA4E-7E51-4A22-AD61-5C459D3A291E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808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rms earn above-average returns by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Cost leadership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ing standardized products 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Differentiation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differentiated products for which customers are willing to pay a price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483240" y="4267080"/>
            <a:ext cx="17449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197EF-E12A-40DB-8139-AEE5250C1D04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esource-Based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784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odel Assumptio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organization is a collection of unique resources and capabilities that provides the basis for its strategy and that is the primary source of its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 evolve and must be managed dynamical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ces in firms’ performances are due primarily to their unique resources and capabilities rather than structural characteristics of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acquire different resources and develop unique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5B485-4AEC-42EE-BB2F-929EBE2307C4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34880" y="457200"/>
            <a:ext cx="2156040" cy="18288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1905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3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Resource-Based Model of Above-Average Return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971800" y="380880"/>
            <a:ext cx="4954680" cy="603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16A33-B6EF-45B3-A884-03A00772A622}" type="slidenum">
              <a:t>28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09480" y="4724280"/>
            <a:ext cx="3505320" cy="1371600"/>
          </a:xfrm>
          <a:prstGeom prst="ellipse">
            <a:avLst/>
          </a:prstGeom>
          <a:gradFill rotWithShape="0">
            <a:gsLst>
              <a:gs pos="0">
                <a:srgbClr val="996600"/>
              </a:gs>
              <a:gs pos="100000">
                <a:srgbClr val="4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of Above-Average Retur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67160" y="1523880"/>
            <a:ext cx="423216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Strategy is dictated by the firm’s unique resources and capabilitie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Find an environment in which to exploit these assets (where are the best opportunities?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37720" y="1981080"/>
            <a:ext cx="3048120" cy="3124440"/>
            <a:chOff x="837720" y="1981080"/>
            <a:chExt cx="3048120" cy="3124440"/>
          </a:xfrm>
        </p:grpSpPr>
        <p:sp>
          <p:nvSpPr>
            <p:cNvPr id="278" name=""/>
            <p:cNvSpPr/>
            <p:nvPr/>
          </p:nvSpPr>
          <p:spPr>
            <a:xfrm rot="5400000">
              <a:off x="799560" y="2018880"/>
              <a:ext cx="3124440" cy="304812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teg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ompetitive Advan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9320" y="3938760"/>
              <a:ext cx="2286000" cy="3373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62320" y="30132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62320" y="35654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3394080"/>
              <a:ext cx="2286000" cy="3373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19320" y="2819520"/>
              <a:ext cx="2286000" cy="337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3B9E9-5D92-4235-B312-0ABE8E1BFFE1}" type="slidenum">
              <a:t>29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82520"/>
            <a:ext cx="5181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vision and mission and discuss their valu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akeholders and describe their ability to influence organizatio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work of strategic leader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EE12F-5998-438E-B477-0764D8050EE0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Capabil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403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puts into a firm’s production proces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ills of individual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ented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0400" y="1142640"/>
            <a:ext cx="4037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city of a set of resources to perform in an integrative mann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bility should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simple that it is highly imi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complex that it defies internal steering and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9DBA8-DFDF-4A87-A023-4789348682E9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02240" y="1142640"/>
            <a:ext cx="4075200" cy="24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firm’s resourc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rengths and weaknesses compared with competito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41440" y="1300320"/>
            <a:ext cx="3801960" cy="593640"/>
            <a:chOff x="541440" y="1300320"/>
            <a:chExt cx="3801960" cy="593640"/>
          </a:xfrm>
        </p:grpSpPr>
        <p:sp>
          <p:nvSpPr>
            <p:cNvPr id="290" name=""/>
            <p:cNvSpPr/>
            <p:nvPr/>
          </p:nvSpPr>
          <p:spPr>
            <a:xfrm>
              <a:off x="541440" y="1300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0640" y="1371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762120" y="2057400"/>
            <a:ext cx="3576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Resources: inputs into a firm’s produ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6B70C-046B-4ACC-BF1E-DB55A218161B}" type="slidenum">
              <a:t>31</a:t>
            </a:fld>
          </a:p>
        </p:txBody>
      </p:sp>
    </p:spTree>
  </p:cSld>
  <p:transition>
    <p:random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01880" y="1821960"/>
            <a:ext cx="393372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firm’s capabiliti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hat it can do better than its competitor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296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299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09480" y="2630520"/>
            <a:ext cx="388152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apability: capacity of an integrated set of resources to integratively perform a task or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DBF3E-C93D-4964-A6D5-B589A470572E}" type="slidenum">
              <a:t>32</a:t>
            </a:fld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02240" y="2416320"/>
            <a:ext cx="354168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potential of the firm’s resources and capabilities in terms of a competitive advantage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05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08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11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85800" y="3200400"/>
            <a:ext cx="34290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ompetitive advantage: </a:t>
            </a:r>
            <a:br>
              <a:rPr sz="2000"/>
            </a:b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bility of a firm to outperform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C8D4D-3ED4-4907-BF2F-2CBCCFF277D8}" type="slidenum">
              <a:t>33</a:t>
            </a:fld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2640" y="3154320"/>
            <a:ext cx="4114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17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20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23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26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33520" y="3809880"/>
            <a:ext cx="38811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 an industry with opportunities that can be exploited by the firm’s resources and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683CE-7191-438E-9DF4-9A1E533C8D3C}" type="slidenum">
              <a:t>34</a:t>
            </a:fld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77676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lect a strategy that best allows the firm to utilize its resources and capabilities relative to opportunities in the external environment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32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35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38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41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41440" y="3745080"/>
            <a:ext cx="3801960" cy="1131480"/>
            <a:chOff x="541440" y="3745080"/>
            <a:chExt cx="3801960" cy="1131480"/>
          </a:xfrm>
        </p:grpSpPr>
        <p:sp>
          <p:nvSpPr>
            <p:cNvPr id="344" name=""/>
            <p:cNvSpPr/>
            <p:nvPr/>
          </p:nvSpPr>
          <p:spPr>
            <a:xfrm>
              <a:off x="541440" y="3745080"/>
              <a:ext cx="3801960" cy="1131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0640" y="3880800"/>
              <a:ext cx="3642840" cy="8560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38080" y="4890960"/>
            <a:ext cx="31194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 and implementation: strategic actions taken to earn above 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100F1-988F-4C58-B5BC-1E0AA1808566}" type="slidenum">
              <a:t>35</a:t>
            </a:fld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33520" y="1295280"/>
            <a:ext cx="3801960" cy="593640"/>
            <a:chOff x="533520" y="1295280"/>
            <a:chExt cx="3801960" cy="593640"/>
          </a:xfrm>
        </p:grpSpPr>
        <p:sp>
          <p:nvSpPr>
            <p:cNvPr id="349" name=""/>
            <p:cNvSpPr/>
            <p:nvPr/>
          </p:nvSpPr>
          <p:spPr>
            <a:xfrm>
              <a:off x="53352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272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33520" y="1906560"/>
            <a:ext cx="3801960" cy="593640"/>
            <a:chOff x="533520" y="1906560"/>
            <a:chExt cx="3801960" cy="593640"/>
          </a:xfrm>
        </p:grpSpPr>
        <p:sp>
          <p:nvSpPr>
            <p:cNvPr id="352" name=""/>
            <p:cNvSpPr/>
            <p:nvPr/>
          </p:nvSpPr>
          <p:spPr>
            <a:xfrm>
              <a:off x="53352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272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33520" y="2519280"/>
            <a:ext cx="3801960" cy="593640"/>
            <a:chOff x="533520" y="2519280"/>
            <a:chExt cx="3801960" cy="593640"/>
          </a:xfrm>
        </p:grpSpPr>
        <p:sp>
          <p:nvSpPr>
            <p:cNvPr id="355" name=""/>
            <p:cNvSpPr/>
            <p:nvPr/>
          </p:nvSpPr>
          <p:spPr>
            <a:xfrm>
              <a:off x="53352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272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33520" y="3132000"/>
            <a:ext cx="3801960" cy="593640"/>
            <a:chOff x="533520" y="3132000"/>
            <a:chExt cx="3801960" cy="593640"/>
          </a:xfrm>
        </p:grpSpPr>
        <p:sp>
          <p:nvSpPr>
            <p:cNvPr id="358" name=""/>
            <p:cNvSpPr/>
            <p:nvPr/>
          </p:nvSpPr>
          <p:spPr>
            <a:xfrm>
              <a:off x="53352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272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33520" y="3745080"/>
            <a:ext cx="3801960" cy="1053720"/>
            <a:chOff x="533520" y="3745080"/>
            <a:chExt cx="3801960" cy="1053720"/>
          </a:xfrm>
        </p:grpSpPr>
        <p:sp>
          <p:nvSpPr>
            <p:cNvPr id="361" name=""/>
            <p:cNvSpPr/>
            <p:nvPr/>
          </p:nvSpPr>
          <p:spPr>
            <a:xfrm>
              <a:off x="533520" y="3745080"/>
              <a:ext cx="3801960" cy="10537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2720" y="3871440"/>
              <a:ext cx="3642840" cy="79740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33520" y="4813200"/>
            <a:ext cx="3801960" cy="593640"/>
            <a:chOff x="533520" y="4813200"/>
            <a:chExt cx="3801960" cy="593640"/>
          </a:xfrm>
        </p:grpSpPr>
        <p:sp>
          <p:nvSpPr>
            <p:cNvPr id="364" name=""/>
            <p:cNvSpPr/>
            <p:nvPr/>
          </p:nvSpPr>
          <p:spPr>
            <a:xfrm>
              <a:off x="533520" y="48132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2720" y="48844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891040" y="330516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883120" y="324648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21080" y="1554120"/>
            <a:ext cx="843120" cy="247320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200"/>
              <a:gd name="textAreaBottom" fmla="*/ 2408760 h 24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357800" y="2789280"/>
            <a:ext cx="1861920" cy="231444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5484960"/>
            <a:ext cx="334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A6AC3-EF88-4376-9F10-C0A705272FF3}" type="slidenum">
              <a:t>36</a:t>
            </a:fld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Criteria for Resources and Capabilities That Become Core Competencies</a:t>
            </a:r>
            <a:endParaRPr b="0" lang="en-US" sz="2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3276720" y="3022560"/>
            <a:ext cx="2590560" cy="16257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85800" y="1905120"/>
            <a:ext cx="7772400" cy="3886200"/>
            <a:chOff x="685800" y="1905120"/>
            <a:chExt cx="7772400" cy="3886200"/>
          </a:xfrm>
        </p:grpSpPr>
        <p:sp>
          <p:nvSpPr>
            <p:cNvPr id="376" name=""/>
            <p:cNvSpPr/>
            <p:nvPr/>
          </p:nvSpPr>
          <p:spPr>
            <a:xfrm>
              <a:off x="2590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866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590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5866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00" y="1905120"/>
              <a:ext cx="2819520" cy="99072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alu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38680" y="1905120"/>
              <a:ext cx="2819520" cy="99072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4800960"/>
              <a:ext cx="2819520" cy="99036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stly to Imit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0960"/>
              <a:ext cx="2819520" cy="9903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nsubstitut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94A11-A7DD-47AE-9CE6-0DFB6BB66986}" type="slidenum">
              <a:t>37</a:t>
            </a:fld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How Resources and Capabilities Provide Competitive Advanta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3417840" y="5102280"/>
            <a:ext cx="5267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rm is organized appropriately to obtain the full benefits of the resources in order to realize a competitive advantag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55920" y="2027160"/>
            <a:ext cx="175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21080" y="2065320"/>
            <a:ext cx="5330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the firm to exploit opportunities or neutralize threats in its external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71560" y="3063960"/>
            <a:ext cx="15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17840" y="3111480"/>
            <a:ext cx="5116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essed by few, if any, current and potential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8280" y="4078440"/>
            <a:ext cx="267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tly to im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17840" y="4102200"/>
            <a:ext cx="5241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other firms cannot obtain them or must obtain them at a much high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1680" y="5059440"/>
            <a:ext cx="2736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substit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7C987-D748-4251-9594-F38516D8A027}" type="slidenum">
              <a:t>38</a:t>
            </a:fld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en the four key criteria of resources and capabilities are met, they become core competencies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rial competencies are especially importan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re competencies serve as a source of competitive advantage, create value, and provide the opportunity for above-average return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F90A1-8D9E-4EB5-BF7F-55DAB7D6C425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Competitiven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successfully formulates and implements a value-cre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tegrated and coordinated set of commitments and actions designed to exploit core competencies and gain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mpetitive Advant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implements a strategy that its competitors are unable to duplicate or find too costly to try to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4719C-6457-4C3E-952E-A29567B28515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hy Two Models?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124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0000" indent="-2700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ial Organization (I/O)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environment outside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38240" y="1142640"/>
            <a:ext cx="403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-Based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inside of the firm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3733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Successful strategy formulation and implementation actions result only when the firm properly uses both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52C2D-C9D9-4D1B-A669-7785201D7643}" type="slidenum">
              <a:t>40</a:t>
            </a:fld>
          </a:p>
        </p:txBody>
      </p:sp>
    </p:spTree>
  </p:cSld>
  <p:transition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enduring picture of what the firm wants to be and, in broad terms, what it wants to ultimately achie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tches and challenges people and evokes emotions and dr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ffective vision statements are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ed by a host of people from across the organiz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early tied to external and internal environmental condi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 with strategic leaders’ decisions and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44CC6-0AA2-44F5-A685-CF0DAE5067E7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is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the business or businesses in which the firm intends to compete and the customers it intends to ser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concrete than the firm’s 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effective when it fosters strong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 are the fruits of the firm’s efforts to achieve its vision and missio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D2E83-14BE-4153-A154-6FB12A15C1A0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ividuals and groups who can affect, and are affected by, the strategic outcomes achieved and who have enforceable claims on a firm’s performanc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aims on the firm’s performance are enforced by the stakeholder’s ability to withhold participation essential to the firm’s surviv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more critical and valued a stakeholder’s participation, the greater a firm’s dependency on 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must find ways to either accommodate or insulate the organization from the demands of stakeholders controlling critic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2745C-7B2A-4ED7-B1B6-7D2BD93FB52F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 Involve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wo issues affect the extent of stakeholder involvement in the firm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ivide retur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eep stakehold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d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increa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so every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more to share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889520" y="2590920"/>
            <a:ext cx="356868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96B1B-7D38-447A-B5A0-8C293CEFC300}" type="slidenum">
              <a:t>44</a:t>
            </a:fld>
          </a:p>
        </p:txBody>
      </p:sp>
    </p:spTree>
  </p:cSld>
  <p:transition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417600"/>
            <a:ext cx="8001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6600"/>
                </a:solidFill>
                <a:latin typeface="Arial"/>
              </a:rPr>
              <a:t>1.4</a:t>
            </a:r>
            <a:r>
              <a:rPr b="1" i="1" lang="en-US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hree Stakeholder Group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380880"/>
            <a:ext cx="8229600" cy="4669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57200" y="485640"/>
            <a:ext cx="1828800" cy="479520"/>
            <a:chOff x="457200" y="485640"/>
            <a:chExt cx="1828800" cy="479520"/>
          </a:xfrm>
        </p:grpSpPr>
        <p:sp>
          <p:nvSpPr>
            <p:cNvPr id="412" name=""/>
            <p:cNvSpPr/>
            <p:nvPr/>
          </p:nvSpPr>
          <p:spPr>
            <a:xfrm>
              <a:off x="990720" y="485640"/>
              <a:ext cx="0" cy="47952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" y="7920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776240" y="1228680"/>
            <a:ext cx="5691240" cy="511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C1676-F52B-4C02-981E-3FB90AC8C7DF}" type="slidenum">
              <a:t>45</a:t>
            </a:fld>
          </a:p>
        </p:txBody>
      </p:sp>
    </p:spTree>
  </p:cSld>
  <p:transition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589640" y="1371600"/>
            <a:ext cx="3944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Shareholders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Major suppliers of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Private l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Venture capi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33520" y="1371600"/>
            <a:ext cx="3639960" cy="1098360"/>
            <a:chOff x="533520" y="1371600"/>
            <a:chExt cx="3639960" cy="1098360"/>
          </a:xfrm>
        </p:grpSpPr>
        <p:sp>
          <p:nvSpPr>
            <p:cNvPr id="418" name=""/>
            <p:cNvSpPr/>
            <p:nvPr/>
          </p:nvSpPr>
          <p:spPr>
            <a:xfrm>
              <a:off x="533520" y="137160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0640" y="145260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9709E-CA15-4784-80D5-CFF51FC8F298}" type="slidenum">
              <a:t>46</a:t>
            </a:fld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5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apital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hareholders and lenders expect the firm to preserve and enhance the wealth they have entrusted to i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the return on their investment (and, hence, their wealth) to be maxim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returns to be commensurate with the degree of risk to the sharehold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ment must balance the interests of shareholders and lenders with its concerns for the firm’s future competitive ability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DA6CB-8193-4048-9C1B-3E67E3E73361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33520" y="1295280"/>
            <a:ext cx="3639960" cy="1098360"/>
            <a:chOff x="533520" y="1295280"/>
            <a:chExt cx="3639960" cy="1098360"/>
          </a:xfrm>
        </p:grpSpPr>
        <p:sp>
          <p:nvSpPr>
            <p:cNvPr id="424" name=""/>
            <p:cNvSpPr/>
            <p:nvPr/>
          </p:nvSpPr>
          <p:spPr>
            <a:xfrm>
              <a:off x="533520" y="129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0640" y="137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57280" y="2454120"/>
            <a:ext cx="3639960" cy="1098360"/>
            <a:chOff x="557280" y="2454120"/>
            <a:chExt cx="3639960" cy="1098360"/>
          </a:xfrm>
        </p:grpSpPr>
        <p:sp>
          <p:nvSpPr>
            <p:cNvPr id="427" name=""/>
            <p:cNvSpPr/>
            <p:nvPr/>
          </p:nvSpPr>
          <p:spPr>
            <a:xfrm>
              <a:off x="557280" y="24541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4400" y="25351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89640" y="2441520"/>
            <a:ext cx="4097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ost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U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C4A12-8904-4236-AD0C-09957557D80E}" type="slidenum">
              <a:t>48</a:t>
            </a:fld>
          </a:p>
        </p:txBody>
      </p:sp>
    </p:spTree>
  </p:cSld>
  <p:transition>
    <p:random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oduct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and reliable products at low pr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uppli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ek loyal customers willing to pay highest sustainable prices for goods and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Host commun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companies willing to be long-term employers and providers of tax revenues while minimizing demands on public support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nion official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secure jobs and desirable working condi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2A032-B3BC-4E42-BF67-9731EADBBCD7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3440" y="114264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vestor’s uncertainty about the economic gains or losses that will result from a particular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equal to those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in excess of what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43192-1D0D-4572-A8AF-EE2DE7E2C6D7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547560" y="1306440"/>
            <a:ext cx="3639960" cy="1098360"/>
            <a:chOff x="547560" y="1306440"/>
            <a:chExt cx="3639960" cy="1098360"/>
          </a:xfrm>
        </p:grpSpPr>
        <p:sp>
          <p:nvSpPr>
            <p:cNvPr id="434" name=""/>
            <p:cNvSpPr/>
            <p:nvPr/>
          </p:nvSpPr>
          <p:spPr>
            <a:xfrm>
              <a:off x="547560" y="130644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680" y="138744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57280" y="2465280"/>
            <a:ext cx="3639960" cy="1098360"/>
            <a:chOff x="557280" y="2465280"/>
            <a:chExt cx="3639960" cy="1098360"/>
          </a:xfrm>
        </p:grpSpPr>
        <p:sp>
          <p:nvSpPr>
            <p:cNvPr id="437" name=""/>
            <p:cNvSpPr/>
            <p:nvPr/>
          </p:nvSpPr>
          <p:spPr>
            <a:xfrm>
              <a:off x="557280" y="246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4400" y="254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541440" y="3625920"/>
            <a:ext cx="3639960" cy="1098360"/>
            <a:chOff x="541440" y="3625920"/>
            <a:chExt cx="3639960" cy="1098360"/>
          </a:xfrm>
        </p:grpSpPr>
        <p:sp>
          <p:nvSpPr>
            <p:cNvPr id="440" name=""/>
            <p:cNvSpPr/>
            <p:nvPr/>
          </p:nvSpPr>
          <p:spPr>
            <a:xfrm>
              <a:off x="541440" y="36259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560" y="37069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Organizational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589640" y="3797280"/>
            <a:ext cx="350496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tiona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on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9ADEC-4B1B-40ED-9AE2-03E1B4E515D6}" type="slidenum">
              <a:t>50</a:t>
            </a:fld>
          </a:p>
        </p:txBody>
      </p:sp>
    </p:spTree>
  </p:cSld>
  <p:transition>
    <p:random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500"/>
                            </p:stCondLst>
                            <p:childTnLst>
                              <p:par>
                                <p:cTn id="6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5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47840" y="1143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mployees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a dynamic, stimulating and rewarding work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satisfied by a company that is growing and actively developing their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708280" y="3646440"/>
            <a:ext cx="4073400" cy="25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6C57D-AD9C-48F8-AAD4-C35EAF3C8D82}" type="slidenum">
              <a:t>51</a:t>
            </a:fld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Lead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ople located in different parts of the firm who are using the strategic management process to help the firm reach its vision and mis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erequisites for Effective Strategic Leadership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rd 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orough analy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nes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accomplish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 sens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02392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AA809-10F6-4F9E-BF4E-54F23DBE5D3B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, and core values that are shared throughout the firm and that influence how the firm conducts busi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Value of a Functional 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orts effective delegation of strategic respon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support for strategic lea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courages social ener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sters of respect for oth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49035-7705-4408-BF7F-2AA35BEB6572}" type="slidenum">
              <a:t>53</a:t>
            </a:fld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edicting Outcomes of Strategic Decisions: Profit Po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4784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ofit Po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total profits earned in an industry at all points along the value chai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ing the components of a profit pool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fine the pool’s bounda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the pool’s overall siz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size of each value-chain activity in the po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concile the calculation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which activity provides the most profit potential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FAAD6-3C45-4925-BE0E-6DDF9295586D}" type="slidenum">
              <a:t>54</a:t>
            </a:fld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Management Proc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udy the external and internal environmen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 marketplace opportunities and threa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termine how to use core competenc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se strategic intent to leverage resources, capabilities and core competencies and win competitive battl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tegrate formulation and implementation of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ek feedback to improve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0BA79-CED6-4E73-9DDB-1F394667C1AA}" type="slidenum">
              <a:t>5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Management Proc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ull set of commitments, decisions, and actions required for a firm to achieve strategic competitiveness and earn above-average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86200" y="3402000"/>
            <a:ext cx="4338720" cy="27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7FF60-8F58-4D79-BD54-00D192009E4D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603360"/>
            <a:ext cx="6248520" cy="578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462720" y="488880"/>
            <a:ext cx="1919160" cy="1416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81320" y="655560"/>
            <a:ext cx="175284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Strategic Management Proces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9E125-9A91-4ED0-A004-0487D1F428AA}" type="slidenum">
              <a:t>7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21st-Century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784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 Perilous Business Worl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pid changes in industry boundaries and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ventional sources of competitive advantage losing effectivenes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ormous investments required to compete global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vere consequences for fail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veloping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and Implementing 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or planned actions rather than reac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s coordinate business unit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F6D9A-17A4-4EF2-8114-C315958F70F6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457200" y="3048120"/>
            <a:ext cx="4038480" cy="3047760"/>
          </a:xfrm>
          <a:custGeom>
            <a:avLst/>
            <a:gdLst>
              <a:gd name="textAreaLeft" fmla="*/ 969840 w 4038480"/>
              <a:gd name="textAreaRight" fmla="*/ 3068640 w 4038480"/>
              <a:gd name="textAreaTop" fmla="*/ 731880 h 3047760"/>
              <a:gd name="textAreaBottom" fmla="*/ 231588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411" y="21600"/>
                </a:lnTo>
                <a:lnTo>
                  <a:pt x="6189" y="21600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100000">
                <a:srgbClr val="00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Dynamic</a:t>
            </a:r>
            <a:br>
              <a:rPr sz="2400"/>
            </a:b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Global Economy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pid technological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c maneuveri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ong global and innovativ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ba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1219320"/>
            <a:ext cx="44956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Hypercompetition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 condition of rapidly escalating competition based 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2514600"/>
            <a:ext cx="3810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e-quality pos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create new know-how and establish first-mover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protect or invade established product or geographic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2840" y="1219320"/>
            <a:ext cx="2444760" cy="24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67498-A5BC-4182-935E-CCDEA5B7FE54}" type="slidenum">
              <a:t>9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Luis Zaviezo</cp:lastModifiedBy>
  <dcterms:modified xsi:type="dcterms:W3CDTF">2007-07-11T22:11:52Z</dcterms:modified>
  <cp:revision>54</cp:revision>
  <dc:subject>Chapter 1</dc:subject>
  <dc:title>Strategic Management 7e.</dc:title>
</cp:coreProperties>
</file>