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7.xml.rels" ContentType="application/vnd.openxmlformats-package.relationships+xml"/>
  <Override PartName="/ppt/notesSlides/notesSlide3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ct" ContentType="image/x-pict"/>
  <Override PartName="/ppt/media/image1.png" ContentType="image/png"/>
  <Override PartName="/ppt/media/image16.pct" ContentType="image/x-pict"/>
  <Override PartName="/ppt/media/image14.pct" ContentType="image/x-pict"/>
  <Override PartName="/ppt/media/image3.jpeg" ContentType="image/jpeg"/>
  <Override PartName="/ppt/media/image15.png" ContentType="image/png"/>
  <Override PartName="/ppt/media/image4.jpeg" ContentType="image/jpeg"/>
  <Override PartName="/ppt/media/image2.png" ContentType="image/png"/>
  <Override PartName="/ppt/media/image5.pct" ContentType="image/x-pict"/>
  <Override PartName="/ppt/media/image13.png" ContentType="image/png"/>
  <Override PartName="/ppt/media/image6.png" ContentType="image/png"/>
  <Override PartName="/ppt/media/image9.pct" ContentType="image/x-pict"/>
  <Override PartName="/ppt/media/image11.png" ContentType="image/png"/>
  <Override PartName="/ppt/media/image7.png" ContentType="image/png"/>
  <Override PartName="/ppt/media/image10.png" ContentType="image/png"/>
  <Override PartName="/ppt/media/image8.pct" ContentType="image/x-pi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Click to move the slide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F2314-B67C-4650-9529-784D2EC830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7F753-261A-4C29-87EB-C8B6FA25E6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125FF4-8885-4079-B037-19CCC747A0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47840" y="384912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9E3E32-ABB9-4774-973B-E8AAADBA3D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488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784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488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1D672E-382D-4499-83CA-4FA0650E18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028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1272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4784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028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1272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0EEF58-0B9F-480D-A2D8-48F91CCFBA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488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47840" y="312480"/>
            <a:ext cx="8229600" cy="27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488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4784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C543DB-046A-437C-9446-4D81CFA081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488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488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488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47840" y="384912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47840" y="384912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488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4784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488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028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1272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4784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028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1272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BF0F7C-FF48-4B61-9163-FF42C3E7C5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488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0330A5-19FA-42C4-8A91-6BDD4EA93B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C620E4-4D88-4312-BCE6-10F3304B9C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47840" y="312480"/>
            <a:ext cx="8229600" cy="27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14C3EE-6228-47BE-8F5C-A5D1CE80A4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488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4784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11255D-00FD-4568-B6D6-E6C90DEC75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488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488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877684-DB43-4419-9134-4612A152AE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488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47840" y="384912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DCE4FA-457F-495F-A0E5-0864B81081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lick to edit the title text format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457200" y="6476760"/>
            <a:ext cx="411480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81440" y="6476760"/>
            <a:ext cx="129564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–</a:t>
            </a:r>
            <a:fld id="{0B6E50A7-47E8-4E44-ABF2-47796D0A857F}" type="slidenum"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843280" cy="6858000"/>
          </a:xfrm>
          <a:prstGeom prst="rect">
            <a:avLst/>
          </a:prstGeom>
          <a:ln w="0">
            <a:noFill/>
          </a:ln>
        </p:spPr>
      </p:pic>
      <p:pic>
        <p:nvPicPr>
          <p:cNvPr id="41" name="" descr=""/>
          <p:cNvPicPr/>
          <p:nvPr/>
        </p:nvPicPr>
        <p:blipFill>
          <a:blip r:embed="rId3"/>
          <a:stretch/>
        </p:blipFill>
        <p:spPr>
          <a:xfrm>
            <a:off x="2819520" y="0"/>
            <a:ext cx="6324480" cy="441972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4"/>
          <a:stretch/>
        </p:blipFill>
        <p:spPr>
          <a:xfrm>
            <a:off x="2819520" y="4419720"/>
            <a:ext cx="6324480" cy="24382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819520" y="0"/>
            <a:ext cx="0" cy="6858000"/>
          </a:xfrm>
          <a:prstGeom prst="line">
            <a:avLst/>
          </a:prstGeom>
          <a:ln w="572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4419720"/>
            <a:ext cx="6324480" cy="0"/>
          </a:xfrm>
          <a:prstGeom prst="line">
            <a:avLst/>
          </a:prstGeom>
          <a:ln w="572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352320" y="1938240"/>
            <a:ext cx="480060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Click to edit the title text format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3"/>
          </p:nvPr>
        </p:nvSpPr>
        <p:spPr>
          <a:xfrm>
            <a:off x="304560" y="6035760"/>
            <a:ext cx="23619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0066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6666"/>
                </a:solidFill>
                <a:latin typeface="Times New Roman"/>
              </a:rPr>
              <a:t>© 2007 Thomson/South-Western.</a:t>
            </a:r>
            <a:br>
              <a:rPr sz="800"/>
            </a:br>
            <a:r>
              <a:rPr b="1" lang="en-US" sz="800" spc="-1" strike="noStrike">
                <a:solidFill>
                  <a:srgbClr val="006666"/>
                </a:solidFill>
                <a:latin typeface="Times New Roman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04920" y="5791320"/>
            <a:ext cx="236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6666"/>
                </a:solidFill>
                <a:latin typeface="Arial"/>
              </a:rPr>
              <a:t>PowerPoint Presentation by Charlie Cook</a:t>
            </a:r>
            <a:br>
              <a:rPr sz="800"/>
            </a:br>
            <a:r>
              <a:rPr b="1" lang="en-US" sz="800" spc="-1" strike="noStrike">
                <a:solidFill>
                  <a:srgbClr val="006666"/>
                </a:solidFill>
                <a:latin typeface="Arial"/>
              </a:rPr>
              <a:t>The University of West Alabam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80000"/>
            <a:ext cx="51055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Strategic Management</a:t>
            </a:r>
            <a:br>
              <a:rPr sz="3200"/>
            </a:b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ompetitiveness and Globalization: Concepts and Cases</a:t>
            </a:r>
            <a:r>
              <a:rPr b="1" i="1" lang="en-US" sz="2400" spc="-1" strike="noStrike">
                <a:solidFill>
                  <a:srgbClr val="006666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09920" y="60958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ichael A. Hitt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. Duane Ireland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obert E. Hoskis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629400" y="560700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66"/>
                </a:solidFill>
                <a:latin typeface="Arial"/>
              </a:rPr>
              <a:t>Seventh e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3048120"/>
            <a:ext cx="2133720" cy="137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TEGI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NAGEMEN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PU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ct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pct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2.pct"/><Relationship Id="rId2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6.pct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ct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8120" y="2057400"/>
            <a:ext cx="5943600" cy="149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CHAPTER 1</a:t>
            </a:r>
            <a:br>
              <a:rPr sz="2800"/>
            </a:br>
            <a:r>
              <a:rPr b="0" i="1" lang="en-US" sz="3600" spc="-1" strike="noStrike">
                <a:solidFill>
                  <a:srgbClr val="000000"/>
                </a:solidFill>
                <a:latin typeface="Tahoma"/>
              </a:rPr>
              <a:t>Strategic Management and Strategic Competitiveness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Global Economy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The Global Economy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Goods, people, skills, and ideas move freely across geographic border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ovement is relatively unfettered by artificial constrain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xpansion into global arena complicates a firm’s competitive environment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rt-term: Where is the fastest growth likely to occu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ng-term: Where will sustainable growth occu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E2E611-9EB1-461C-914C-E40B4B7DB0F7}" type="slidenum">
              <a:t>10</a:t>
            </a:fld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Global Economy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The March of Globalization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creased economic interdependence among countries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  <a:ea typeface="Arial"/>
              </a:rPr>
              <a:t>—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flow of goods and services, financial capital, and knowledge across country border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er performance level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—q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ality, cost, productivity, product introduction time, and operational effici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creased range of opportunities for companies competing in the 21st-century competitive landscap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ability of foreignnes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—the risks of participating outside of a firm’s domestic country in the global econom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amount of time required for firms to learn how to compete in markets that are new to th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CA9304-502C-40AA-BE52-5BF555B7E65B}" type="slidenum">
              <a:t>11</a:t>
            </a:fld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Technology and Technological Chang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Technology Diffusion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speed at which new technologies become availabl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Disruptive Technologie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echnologies that destroy the value of existing technology and create new market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Perpetual Innovation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rapidity and consistency with which new, information-intensive technologies replace older on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B462F3-5C8B-42C3-AAAA-526249E97D17}" type="slidenum">
              <a:t>12</a:t>
            </a:fld>
          </a:p>
        </p:txBody>
      </p:sp>
    </p:spTree>
  </p:cSld>
  <p:transition>
    <p:random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Technological Chang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The Information Age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ability to effectively and efficiently access and use information has become an important source of competitive advantag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echnology includes personal computers, cellular phones, artificial intelligence, virtual reality, massive databases, electronic networks, internet trad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6248520" y="4419720"/>
            <a:ext cx="1892160" cy="1724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B297CE-A8D4-4960-986D-F88DC99F9CE0}" type="slidenum">
              <a:t>13</a:t>
            </a:fld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Technological Change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Increasing Knowledge Intensity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Knowledge as a critical organizational resource for creating an intangible competitive advantag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00"/>
                </a:solidFill>
                <a:latin typeface="Arial"/>
              </a:rPr>
              <a:t>Strategic flexibility: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 the set of capabilities used to respond to various demands and opportunities in dynamic and uncertain competitive environment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00"/>
                </a:solidFill>
                <a:latin typeface="Arial"/>
              </a:rPr>
              <a:t>Organizational slack: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 slack resources that allow the firm flexibility to respond to environmental chang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Organizational capacity to learn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CD018E-DB61-4718-9D71-EFFFEEF3BFAC}" type="slidenum">
              <a:t>14</a:t>
            </a:fld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/O Model of Above-Average Return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Dominance of the External Environment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industry in which a firm competes has a stronger influence on the firm’s performance than do the choices managers make inside their organization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Industry Properties Determining Performance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conomies of scal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arriers to market entr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iversification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roduct differentiation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egree of concentration of firms in the industr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5791D3-D4DB-4866-9F8C-1ED713A8764C}" type="slidenum">
              <a:t>15</a:t>
            </a:fld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Four Assumptions of the I/O Model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82840" y="1486080"/>
            <a:ext cx="6975360" cy="7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External environment imposes pressures and constraints that determine strategies leading to above-average returns.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549360" y="1459080"/>
            <a:ext cx="838080" cy="761760"/>
            <a:chOff x="549360" y="1459080"/>
            <a:chExt cx="838080" cy="761760"/>
          </a:xfrm>
        </p:grpSpPr>
        <p:sp>
          <p:nvSpPr>
            <p:cNvPr id="138" name=""/>
            <p:cNvSpPr/>
            <p:nvPr/>
          </p:nvSpPr>
          <p:spPr>
            <a:xfrm>
              <a:off x="549360" y="1459080"/>
              <a:ext cx="838080" cy="7617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303a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89320" y="1528200"/>
              <a:ext cx="758160" cy="623160"/>
            </a:xfrm>
            <a:prstGeom prst="rect">
              <a:avLst/>
            </a:prstGeom>
            <a:gradFill rotWithShape="0">
              <a:gsLst>
                <a:gs pos="0">
                  <a:srgbClr val="303a3b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549360" y="2705040"/>
            <a:ext cx="838080" cy="762120"/>
            <a:chOff x="549360" y="2705040"/>
            <a:chExt cx="838080" cy="762120"/>
          </a:xfrm>
        </p:grpSpPr>
        <p:sp>
          <p:nvSpPr>
            <p:cNvPr id="141" name=""/>
            <p:cNvSpPr/>
            <p:nvPr/>
          </p:nvSpPr>
          <p:spPr>
            <a:xfrm>
              <a:off x="549360" y="2705040"/>
              <a:ext cx="838080" cy="7621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303a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89320" y="2774160"/>
              <a:ext cx="758160" cy="623520"/>
            </a:xfrm>
            <a:prstGeom prst="rect">
              <a:avLst/>
            </a:prstGeom>
            <a:gradFill rotWithShape="0">
              <a:gsLst>
                <a:gs pos="0">
                  <a:srgbClr val="303a3b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1539720" y="2743200"/>
            <a:ext cx="7147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Most firms competing in an industry control similar strategically relevant resources and pursue similar strateg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539720" y="3867120"/>
            <a:ext cx="609624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Resources used to implement strategies are highly mobile across fir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549360" y="3832200"/>
            <a:ext cx="838080" cy="762120"/>
            <a:chOff x="549360" y="3832200"/>
            <a:chExt cx="838080" cy="762120"/>
          </a:xfrm>
        </p:grpSpPr>
        <p:sp>
          <p:nvSpPr>
            <p:cNvPr id="146" name=""/>
            <p:cNvSpPr/>
            <p:nvPr/>
          </p:nvSpPr>
          <p:spPr>
            <a:xfrm>
              <a:off x="549360" y="3832200"/>
              <a:ext cx="838080" cy="7621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303a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89320" y="3901320"/>
              <a:ext cx="758160" cy="623520"/>
            </a:xfrm>
            <a:prstGeom prst="rect">
              <a:avLst/>
            </a:prstGeom>
            <a:gradFill rotWithShape="0">
              <a:gsLst>
                <a:gs pos="0">
                  <a:srgbClr val="303a3b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549360" y="5105520"/>
            <a:ext cx="838080" cy="761760"/>
            <a:chOff x="549360" y="5105520"/>
            <a:chExt cx="838080" cy="761760"/>
          </a:xfrm>
        </p:grpSpPr>
        <p:sp>
          <p:nvSpPr>
            <p:cNvPr id="149" name=""/>
            <p:cNvSpPr/>
            <p:nvPr/>
          </p:nvSpPr>
          <p:spPr>
            <a:xfrm>
              <a:off x="549360" y="5105520"/>
              <a:ext cx="838080" cy="7617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303a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89320" y="5174640"/>
              <a:ext cx="758160" cy="623160"/>
            </a:xfrm>
            <a:prstGeom prst="rect">
              <a:avLst/>
            </a:prstGeom>
            <a:gradFill rotWithShape="0">
              <a:gsLst>
                <a:gs pos="0">
                  <a:srgbClr val="303a3b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1539720" y="5029200"/>
            <a:ext cx="68580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Organizational decision makers are assumed to be rational and committed to acting in the firm’s best interests (profit-maximizing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A51B82-1FB9-4A1A-8630-BD78C2969B02}" type="slidenum">
              <a:t>16</a:t>
            </a:fld>
          </a:p>
        </p:txBody>
      </p:sp>
    </p:spTree>
  </p:cSld>
  <p:transition>
    <p:random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500"/>
                            </p:stCondLst>
                            <p:childTnLst>
                              <p:par>
                                <p:cTn id="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500"/>
                            </p:stCondLst>
                            <p:childTnLst>
                              <p:par>
                                <p:cTn id="1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2155680" cy="13716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55200"/>
            <a:ext cx="19051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cc3300"/>
                </a:solidFill>
                <a:latin typeface="Arial"/>
              </a:rPr>
              <a:t>1.2</a:t>
            </a:r>
            <a:r>
              <a:rPr b="1" i="1" lang="en-US" sz="1200" spc="-1" strike="noStrike">
                <a:solidFill>
                  <a:srgbClr val="cc3300"/>
                </a:solidFill>
                <a:latin typeface="Tahoma"/>
              </a:rPr>
              <a:t> </a:t>
            </a:r>
            <a:br>
              <a:rPr sz="1200"/>
            </a:br>
            <a:br>
              <a:rPr sz="12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he I/O Model of Above-Average Returns</a:t>
            </a:r>
            <a:endParaRPr b="0" lang="en-US" sz="14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54" name=""/>
          <p:cNvSpPr/>
          <p:nvPr/>
        </p:nvSpPr>
        <p:spPr>
          <a:xfrm>
            <a:off x="685800" y="684360"/>
            <a:ext cx="0" cy="479160"/>
          </a:xfrm>
          <a:prstGeom prst="line">
            <a:avLst/>
          </a:prstGeom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57200" y="990720"/>
            <a:ext cx="1828800" cy="0"/>
          </a:xfrm>
          <a:prstGeom prst="line">
            <a:avLst/>
          </a:prstGeom>
          <a:ln w="572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2743200" y="380880"/>
            <a:ext cx="4781520" cy="6096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5E507C-D4B7-4158-8B13-227406CBAA16}" type="slidenum">
              <a:t>17</a:t>
            </a:fld>
          </a:p>
        </p:txBody>
      </p:sp>
    </p:spTree>
  </p:cSld>
  <p:transition>
    <p:random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"/>
          <p:cNvGrpSpPr/>
          <p:nvPr/>
        </p:nvGrpSpPr>
        <p:grpSpPr>
          <a:xfrm>
            <a:off x="586440" y="1833480"/>
            <a:ext cx="3842280" cy="4340160"/>
            <a:chOff x="586440" y="1833480"/>
            <a:chExt cx="3842280" cy="4340160"/>
          </a:xfrm>
        </p:grpSpPr>
        <p:sp>
          <p:nvSpPr>
            <p:cNvPr id="158" name=""/>
            <p:cNvSpPr/>
            <p:nvPr/>
          </p:nvSpPr>
          <p:spPr>
            <a:xfrm>
              <a:off x="609480" y="2152800"/>
              <a:ext cx="3687840" cy="3687480"/>
            </a:xfrm>
            <a:prstGeom prst="ellipse">
              <a:avLst/>
            </a:prstGeom>
            <a:solidFill>
              <a:srgbClr val="33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997280" y="2205000"/>
              <a:ext cx="912240" cy="368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cc"/>
                  </a:solidFill>
                  <a:latin typeface="Tahoma"/>
                </a:rPr>
                <a:t>Glob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573200" y="5349960"/>
              <a:ext cx="1762560" cy="368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Technologic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 rot="17976600">
              <a:off x="3161160" y="4602960"/>
              <a:ext cx="1271880" cy="368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Econom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rot="3531600">
              <a:off x="2964960" y="3099240"/>
              <a:ext cx="1721520" cy="368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Demograph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 rot="3576600">
              <a:off x="360720" y="4550040"/>
              <a:ext cx="1678680" cy="368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Sociocultur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 rot="17993400">
              <a:off x="290880" y="3016080"/>
              <a:ext cx="1814400" cy="368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Political/Leg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136520" y="2894040"/>
              <a:ext cx="2633760" cy="2278080"/>
            </a:xfrm>
            <a:prstGeom prst="hexagon">
              <a:avLst>
                <a:gd name="adj" fmla="val 28903"/>
                <a:gd name="vf" fmla="val 115470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621080" y="3024360"/>
              <a:ext cx="1665000" cy="6426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cc"/>
                  </a:solidFill>
                  <a:latin typeface="Tahoma"/>
                </a:rPr>
                <a:t>Industr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cc"/>
                  </a:solidFill>
                  <a:latin typeface="Tahoma"/>
                </a:rPr>
                <a:t>Environm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621080" y="4319640"/>
              <a:ext cx="1665000" cy="6426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cc"/>
                  </a:solidFill>
                  <a:latin typeface="Tahoma"/>
                </a:rPr>
                <a:t>Competit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cc"/>
                  </a:solidFill>
                  <a:latin typeface="Tahoma"/>
                </a:rPr>
                <a:t>Environm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911960" y="1833480"/>
              <a:ext cx="1081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Gener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621080" y="5805360"/>
              <a:ext cx="166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nvironm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328760" y="4284720"/>
              <a:ext cx="2249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/O Model of Above-Average Return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876560" y="1255320"/>
            <a:ext cx="3886200" cy="40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33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Strategy is dictated by the external environment of the firm</a:t>
            </a:r>
            <a:r>
              <a:rPr b="0" lang="en-US" sz="2400" spc="-1" strike="noStrike">
                <a:solidFill>
                  <a:srgbClr val="336699"/>
                </a:solidFill>
                <a:latin typeface="Arial"/>
                <a:ea typeface="Arial"/>
              </a:rPr>
              <a:t>—</a:t>
            </a:r>
            <a:r>
              <a:rPr b="0" i="1" lang="en-US" sz="2400" spc="-1" strike="noStrike">
                <a:solidFill>
                  <a:srgbClr val="336699"/>
                </a:solidFill>
                <a:latin typeface="Arial"/>
              </a:rPr>
              <a:t>what opportunities exist in these environments?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Firm develops internal skills required by external environment</a:t>
            </a:r>
            <a:r>
              <a:rPr b="0" lang="en-US" sz="2400" spc="-1" strike="noStrike">
                <a:solidFill>
                  <a:srgbClr val="336699"/>
                </a:solidFill>
                <a:latin typeface="Arial"/>
                <a:ea typeface="Arial"/>
              </a:rPr>
              <a:t>—</a:t>
            </a:r>
            <a:r>
              <a:rPr b="0" i="1" lang="en-US" sz="2400" spc="-1" strike="noStrike">
                <a:solidFill>
                  <a:srgbClr val="336699"/>
                </a:solidFill>
                <a:latin typeface="Arial"/>
              </a:rPr>
              <a:t>what can the firm do about the opportunities?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40160" y="1403280"/>
            <a:ext cx="366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xternal Environ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397400" y="1681200"/>
            <a:ext cx="507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3100320" y="1681200"/>
            <a:ext cx="1805040" cy="1379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2876040" y="1700280"/>
            <a:ext cx="2009880" cy="528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2903040" y="1681200"/>
            <a:ext cx="2001960" cy="2670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D24E60-3ED1-4A57-A52D-9749ECA919DD}" type="slidenum">
              <a:t>18</a:t>
            </a:fld>
          </a:p>
        </p:txBody>
      </p:sp>
    </p:spTree>
  </p:cSld>
  <p:transition>
    <p:random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000"/>
                            </p:stCondLst>
                            <p:childTnLst>
                              <p:par>
                                <p:cTn id="1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1500"/>
                            </p:stCondLst>
                            <p:childTnLst>
                              <p:par>
                                <p:cTn id="15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2000"/>
                            </p:stCondLst>
                            <p:childTnLst>
                              <p:par>
                                <p:cTn id="16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2500"/>
                            </p:stCondLst>
                            <p:childTnLst>
                              <p:par>
                                <p:cTn id="16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30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dustrial Organization Model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22680" y="1447920"/>
            <a:ext cx="407664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9960" indent="-399960">
              <a:buClr>
                <a:srgbClr val="33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Study the external environment, especially the industry environment: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28600">
              <a:spcBef>
                <a:spcPts val="499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Economies of scale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28600">
              <a:spcBef>
                <a:spcPts val="499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Barriers to market entry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28600">
              <a:spcBef>
                <a:spcPts val="499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Diversification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28600">
              <a:spcBef>
                <a:spcPts val="499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Product differentiation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28600">
              <a:spcBef>
                <a:spcPts val="499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Degree of concentration of firms in the industry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541440" y="1380960"/>
            <a:ext cx="3801960" cy="593640"/>
            <a:chOff x="541440" y="1380960"/>
            <a:chExt cx="3801960" cy="593640"/>
          </a:xfrm>
        </p:grpSpPr>
        <p:sp>
          <p:nvSpPr>
            <p:cNvPr id="181" name=""/>
            <p:cNvSpPr/>
            <p:nvPr/>
          </p:nvSpPr>
          <p:spPr>
            <a:xfrm>
              <a:off x="541440" y="138096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50000">
                  <a:srgbClr val="bbe0e3"/>
                </a:gs>
                <a:gs pos="100000">
                  <a:srgbClr val="43505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20640" y="1452240"/>
              <a:ext cx="3643560" cy="449280"/>
            </a:xfrm>
            <a:prstGeom prst="rect">
              <a:avLst/>
            </a:prstGeom>
            <a:gradFill rotWithShape="0">
              <a:gsLst>
                <a:gs pos="0">
                  <a:srgbClr val="7b9395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ahoma"/>
                </a:rPr>
                <a:t>The External Environ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FBA0E3-E147-45FF-9D97-DF84D48DCACE}" type="slidenum">
              <a:t>19</a:t>
            </a:fld>
          </a:p>
        </p:txBody>
      </p:sp>
    </p:spTree>
  </p:cSld>
  <p:transition>
    <p:random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500"/>
                            </p:stCondLst>
                            <p:childTnLst>
                              <p:par>
                                <p:cTn id="1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100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500"/>
                            </p:stCondLst>
                            <p:childTnLst>
                              <p:par>
                                <p:cTn id="1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5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2500"/>
                            </p:stCondLst>
                            <p:childTnLst>
                              <p:par>
                                <p:cTn id="2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3000"/>
                            </p:stCondLst>
                            <p:childTnLst>
                              <p:par>
                                <p:cTn id="2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500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560" y="185760"/>
            <a:ext cx="426708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WLED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O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JECTIVES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47840" y="1724040"/>
            <a:ext cx="82296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199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strategic competitiveness, strategy, competitive advantage, above-average returns, and the strategic management process.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533520" indent="-533520">
              <a:spcBef>
                <a:spcPts val="1199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the 21st-century competitive landscape and explain how globalization and technological changes shape it.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533520" indent="-533520">
              <a:spcBef>
                <a:spcPts val="1199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industrial organization (I/O) model to explain how firms can earn above-average returns.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533520" indent="-533520">
              <a:spcBef>
                <a:spcPts val="1199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resource-based model to explain how firms can earn above-average returns. 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99960" y="885960"/>
            <a:ext cx="832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udying this chapter should provide you with the strategic management knowledge needed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9C76E0-8099-49B6-BB31-2B1F095CAF4E}" type="slidenum">
              <a:t>2</a:t>
            </a:fld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dustrial Organization Model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602240" y="1981080"/>
            <a:ext cx="352584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Locate an attractive industry with a high potential for above-average returns.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952880" y="3429000"/>
            <a:ext cx="35053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Attractive industr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One whose structural characteristics suggest above-average retur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541440" y="1371600"/>
            <a:ext cx="3801960" cy="593640"/>
            <a:chOff x="541440" y="1371600"/>
            <a:chExt cx="3801960" cy="593640"/>
          </a:xfrm>
        </p:grpSpPr>
        <p:sp>
          <p:nvSpPr>
            <p:cNvPr id="187" name=""/>
            <p:cNvSpPr/>
            <p:nvPr/>
          </p:nvSpPr>
          <p:spPr>
            <a:xfrm>
              <a:off x="541440" y="137160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20640" y="144288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The External Environ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541440" y="1982880"/>
            <a:ext cx="3801960" cy="593640"/>
            <a:chOff x="541440" y="1982880"/>
            <a:chExt cx="3801960" cy="593640"/>
          </a:xfrm>
        </p:grpSpPr>
        <p:sp>
          <p:nvSpPr>
            <p:cNvPr id="190" name=""/>
            <p:cNvSpPr/>
            <p:nvPr/>
          </p:nvSpPr>
          <p:spPr>
            <a:xfrm>
              <a:off x="541440" y="19828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20640" y="20541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ahoma"/>
                </a:rPr>
                <a:t>Attractive Industr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F0917F-A980-4E5E-8B5F-72B4F399E278}" type="slidenum">
              <a:t>20</a:t>
            </a:fld>
          </a:p>
        </p:txBody>
      </p:sp>
    </p:spTree>
  </p:cSld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500"/>
                            </p:stCondLst>
                            <p:childTnLst>
                              <p:par>
                                <p:cTn id="2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1500"/>
                            </p:stCondLst>
                            <p:childTnLst>
                              <p:par>
                                <p:cTn id="2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dustrial Organization Model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2640" y="2592000"/>
            <a:ext cx="4114800" cy="11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3.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Identify the strategy called for by the attractive industry to earn above-average returns.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40280" y="3765600"/>
            <a:ext cx="3822840" cy="14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Strategy formulation: Selection of a strategy linked with above-average returns in a particular indust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541440" y="1390680"/>
            <a:ext cx="3801960" cy="593640"/>
            <a:chOff x="541440" y="1390680"/>
            <a:chExt cx="3801960" cy="593640"/>
          </a:xfrm>
        </p:grpSpPr>
        <p:sp>
          <p:nvSpPr>
            <p:cNvPr id="196" name=""/>
            <p:cNvSpPr/>
            <p:nvPr/>
          </p:nvSpPr>
          <p:spPr>
            <a:xfrm>
              <a:off x="541440" y="13906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20640" y="14619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The External Environ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" name=""/>
          <p:cNvGrpSpPr/>
          <p:nvPr/>
        </p:nvGrpSpPr>
        <p:grpSpPr>
          <a:xfrm>
            <a:off x="541440" y="2001960"/>
            <a:ext cx="3801960" cy="593640"/>
            <a:chOff x="541440" y="2001960"/>
            <a:chExt cx="3801960" cy="593640"/>
          </a:xfrm>
        </p:grpSpPr>
        <p:sp>
          <p:nvSpPr>
            <p:cNvPr id="199" name=""/>
            <p:cNvSpPr/>
            <p:nvPr/>
          </p:nvSpPr>
          <p:spPr>
            <a:xfrm>
              <a:off x="541440" y="200196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20640" y="207324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Attractive Industr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541440" y="2614680"/>
            <a:ext cx="3801960" cy="593640"/>
            <a:chOff x="541440" y="2614680"/>
            <a:chExt cx="3801960" cy="593640"/>
          </a:xfrm>
        </p:grpSpPr>
        <p:sp>
          <p:nvSpPr>
            <p:cNvPr id="202" name=""/>
            <p:cNvSpPr/>
            <p:nvPr/>
          </p:nvSpPr>
          <p:spPr>
            <a:xfrm>
              <a:off x="541440" y="26146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20640" y="26859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ahoma"/>
                </a:rPr>
                <a:t>Strategy Formul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0B0901-4C63-4679-AB55-80E946A05CB2}" type="slidenum">
              <a:t>21</a:t>
            </a:fld>
          </a:p>
        </p:txBody>
      </p:sp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3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500"/>
                            </p:stCondLst>
                            <p:childTnLst>
                              <p:par>
                                <p:cTn id="2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000"/>
                            </p:stCondLst>
                            <p:childTnLst>
                              <p:par>
                                <p:cTn id="2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dustrial Organization Model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602240" y="3201480"/>
            <a:ext cx="4075200" cy="11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5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4.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Develop or acquire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assets and skills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 needed to implement a chosen strategy.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952880" y="4343400"/>
            <a:ext cx="3733920" cy="11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Assets and skills: those assets and skills required to implement a chosen strateg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33520" y="1380960"/>
            <a:ext cx="3801960" cy="593640"/>
            <a:chOff x="533520" y="1380960"/>
            <a:chExt cx="3801960" cy="593640"/>
          </a:xfrm>
        </p:grpSpPr>
        <p:sp>
          <p:nvSpPr>
            <p:cNvPr id="208" name=""/>
            <p:cNvSpPr/>
            <p:nvPr/>
          </p:nvSpPr>
          <p:spPr>
            <a:xfrm>
              <a:off x="533520" y="138096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12720" y="145224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The External Environ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541440" y="1990800"/>
            <a:ext cx="3801960" cy="593640"/>
            <a:chOff x="541440" y="1990800"/>
            <a:chExt cx="3801960" cy="593640"/>
          </a:xfrm>
        </p:grpSpPr>
        <p:sp>
          <p:nvSpPr>
            <p:cNvPr id="211" name=""/>
            <p:cNvSpPr/>
            <p:nvPr/>
          </p:nvSpPr>
          <p:spPr>
            <a:xfrm>
              <a:off x="541440" y="199080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20640" y="206208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Attractive Industr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541440" y="2603520"/>
            <a:ext cx="3801960" cy="593640"/>
            <a:chOff x="541440" y="2603520"/>
            <a:chExt cx="3801960" cy="593640"/>
          </a:xfrm>
        </p:grpSpPr>
        <p:sp>
          <p:nvSpPr>
            <p:cNvPr id="214" name=""/>
            <p:cNvSpPr/>
            <p:nvPr/>
          </p:nvSpPr>
          <p:spPr>
            <a:xfrm>
              <a:off x="541440" y="260352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20640" y="267480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Strategy Formul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541440" y="3216240"/>
            <a:ext cx="3801960" cy="593640"/>
            <a:chOff x="541440" y="3216240"/>
            <a:chExt cx="3801960" cy="593640"/>
          </a:xfrm>
        </p:grpSpPr>
        <p:sp>
          <p:nvSpPr>
            <p:cNvPr id="217" name=""/>
            <p:cNvSpPr/>
            <p:nvPr/>
          </p:nvSpPr>
          <p:spPr>
            <a:xfrm>
              <a:off x="541440" y="321624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20640" y="328752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ahoma"/>
                </a:rPr>
                <a:t>Assets and Skil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F4CB93-031C-4951-B409-40C0BD734D25}" type="slidenum">
              <a:t>22</a:t>
            </a:fld>
          </a:p>
        </p:txBody>
      </p:sp>
    </p:spTree>
  </p:cSld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0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8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1000"/>
                            </p:stCondLst>
                            <p:childTnLst>
                              <p:par>
                                <p:cTn id="2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6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dustrial Organization Model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679640" y="3862440"/>
            <a:ext cx="3949560" cy="13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5. Use the firm’s strengths (its developed or acquired assets and skills) to implement the strategy.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043600" y="5181480"/>
            <a:ext cx="3871800" cy="13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Strategy implementation: select strategic actions linked with effective implementation of the chosen strateg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533520" y="1376280"/>
            <a:ext cx="3801960" cy="593640"/>
            <a:chOff x="533520" y="1376280"/>
            <a:chExt cx="3801960" cy="593640"/>
          </a:xfrm>
        </p:grpSpPr>
        <p:sp>
          <p:nvSpPr>
            <p:cNvPr id="223" name=""/>
            <p:cNvSpPr/>
            <p:nvPr/>
          </p:nvSpPr>
          <p:spPr>
            <a:xfrm>
              <a:off x="533520" y="13762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12720" y="14475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The External Environ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533520" y="1987560"/>
            <a:ext cx="3801960" cy="593640"/>
            <a:chOff x="533520" y="1987560"/>
            <a:chExt cx="3801960" cy="593640"/>
          </a:xfrm>
        </p:grpSpPr>
        <p:sp>
          <p:nvSpPr>
            <p:cNvPr id="226" name=""/>
            <p:cNvSpPr/>
            <p:nvPr/>
          </p:nvSpPr>
          <p:spPr>
            <a:xfrm>
              <a:off x="533520" y="198756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12720" y="205884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Attractive Industr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533520" y="2600280"/>
            <a:ext cx="3801960" cy="593640"/>
            <a:chOff x="533520" y="2600280"/>
            <a:chExt cx="3801960" cy="593640"/>
          </a:xfrm>
        </p:grpSpPr>
        <p:sp>
          <p:nvSpPr>
            <p:cNvPr id="229" name=""/>
            <p:cNvSpPr/>
            <p:nvPr/>
          </p:nvSpPr>
          <p:spPr>
            <a:xfrm>
              <a:off x="533520" y="26002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12720" y="26715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Strategy Formul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533520" y="3213000"/>
            <a:ext cx="3801960" cy="593640"/>
            <a:chOff x="533520" y="3213000"/>
            <a:chExt cx="3801960" cy="593640"/>
          </a:xfrm>
        </p:grpSpPr>
        <p:sp>
          <p:nvSpPr>
            <p:cNvPr id="232" name=""/>
            <p:cNvSpPr/>
            <p:nvPr/>
          </p:nvSpPr>
          <p:spPr>
            <a:xfrm>
              <a:off x="533520" y="321300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12720" y="328428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Assets and Skil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"/>
          <p:cNvGrpSpPr/>
          <p:nvPr/>
        </p:nvGrpSpPr>
        <p:grpSpPr>
          <a:xfrm>
            <a:off x="533520" y="3825720"/>
            <a:ext cx="3801960" cy="593640"/>
            <a:chOff x="533520" y="3825720"/>
            <a:chExt cx="3801960" cy="593640"/>
          </a:xfrm>
        </p:grpSpPr>
        <p:sp>
          <p:nvSpPr>
            <p:cNvPr id="235" name=""/>
            <p:cNvSpPr/>
            <p:nvPr/>
          </p:nvSpPr>
          <p:spPr>
            <a:xfrm>
              <a:off x="533520" y="382572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12720" y="389700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ahoma"/>
                </a:rPr>
                <a:t>Strategy Implement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2C3421-1E2A-4F34-B23C-402ED987D587}" type="slidenum">
              <a:t>23</a:t>
            </a:fld>
          </a:p>
        </p:txBody>
      </p:sp>
    </p:spTree>
  </p:cSld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0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3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500"/>
                            </p:stCondLst>
                            <p:childTnLst>
                              <p:par>
                                <p:cTn id="2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" dur="5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1000"/>
                            </p:stCondLst>
                            <p:childTnLst>
                              <p:par>
                                <p:cTn id="2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dustrial Organization (I/O) Model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533520" y="1371600"/>
            <a:ext cx="3801960" cy="593640"/>
            <a:chOff x="533520" y="1371600"/>
            <a:chExt cx="3801960" cy="593640"/>
          </a:xfrm>
        </p:grpSpPr>
        <p:sp>
          <p:nvSpPr>
            <p:cNvPr id="239" name=""/>
            <p:cNvSpPr/>
            <p:nvPr/>
          </p:nvSpPr>
          <p:spPr>
            <a:xfrm>
              <a:off x="533520" y="137160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12720" y="144288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The External Environ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533520" y="1982880"/>
            <a:ext cx="3801960" cy="593640"/>
            <a:chOff x="533520" y="1982880"/>
            <a:chExt cx="3801960" cy="593640"/>
          </a:xfrm>
        </p:grpSpPr>
        <p:sp>
          <p:nvSpPr>
            <p:cNvPr id="242" name=""/>
            <p:cNvSpPr/>
            <p:nvPr/>
          </p:nvSpPr>
          <p:spPr>
            <a:xfrm>
              <a:off x="533520" y="19828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12720" y="20541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Attractive Industr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533520" y="2595600"/>
            <a:ext cx="3801960" cy="593640"/>
            <a:chOff x="533520" y="2595600"/>
            <a:chExt cx="3801960" cy="593640"/>
          </a:xfrm>
        </p:grpSpPr>
        <p:sp>
          <p:nvSpPr>
            <p:cNvPr id="245" name=""/>
            <p:cNvSpPr/>
            <p:nvPr/>
          </p:nvSpPr>
          <p:spPr>
            <a:xfrm>
              <a:off x="533520" y="259560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12720" y="266688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Strategy Formul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533520" y="3208320"/>
            <a:ext cx="3801960" cy="593640"/>
            <a:chOff x="533520" y="3208320"/>
            <a:chExt cx="3801960" cy="593640"/>
          </a:xfrm>
        </p:grpSpPr>
        <p:sp>
          <p:nvSpPr>
            <p:cNvPr id="248" name=""/>
            <p:cNvSpPr/>
            <p:nvPr/>
          </p:nvSpPr>
          <p:spPr>
            <a:xfrm>
              <a:off x="533520" y="320832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12720" y="327960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Assets and Skil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"/>
          <p:cNvGrpSpPr/>
          <p:nvPr/>
        </p:nvGrpSpPr>
        <p:grpSpPr>
          <a:xfrm>
            <a:off x="533520" y="3821040"/>
            <a:ext cx="3801960" cy="593640"/>
            <a:chOff x="533520" y="3821040"/>
            <a:chExt cx="3801960" cy="593640"/>
          </a:xfrm>
        </p:grpSpPr>
        <p:sp>
          <p:nvSpPr>
            <p:cNvPr id="251" name=""/>
            <p:cNvSpPr/>
            <p:nvPr/>
          </p:nvSpPr>
          <p:spPr>
            <a:xfrm>
              <a:off x="533520" y="382104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12720" y="389232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Strategy Implement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3" name=""/>
          <p:cNvSpPr/>
          <p:nvPr/>
        </p:nvSpPr>
        <p:spPr>
          <a:xfrm>
            <a:off x="5891040" y="3324240"/>
            <a:ext cx="177840" cy="747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329000" y="1631880"/>
            <a:ext cx="843120" cy="2473560"/>
          </a:xfrm>
          <a:custGeom>
            <a:avLst/>
            <a:gdLst>
              <a:gd name="textAreaLeft" fmla="*/ 0 w 843120"/>
              <a:gd name="textAreaRight" fmla="*/ 304560 w 843120"/>
              <a:gd name="textAreaTop" fmla="*/ 64440 h 2473560"/>
              <a:gd name="textAreaBottom" fmla="*/ 2409120 h 2473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365720" y="2867040"/>
            <a:ext cx="1861920" cy="1905120"/>
          </a:xfrm>
          <a:custGeom>
            <a:avLst/>
            <a:gdLst/>
            <a:ahLst/>
            <a:rect l="l" t="t" r="r" b="b"/>
            <a:pathLst>
              <a:path w="1056" h="1200">
                <a:moveTo>
                  <a:pt x="384" y="0"/>
                </a:moveTo>
                <a:lnTo>
                  <a:pt x="1056" y="0"/>
                </a:lnTo>
                <a:lnTo>
                  <a:pt x="1056" y="1200"/>
                </a:lnTo>
                <a:lnTo>
                  <a:pt x="0" y="1200"/>
                </a:lnTo>
              </a:path>
            </a:pathLst>
          </a:custGeom>
          <a:noFill/>
          <a:ln w="31680">
            <a:solidFill>
              <a:srgbClr val="000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64920" y="5181480"/>
            <a:ext cx="3725640" cy="76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Superior returns: earning above-average returns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533520" y="4433760"/>
            <a:ext cx="3801960" cy="593640"/>
            <a:chOff x="533520" y="4433760"/>
            <a:chExt cx="3801960" cy="593640"/>
          </a:xfrm>
        </p:grpSpPr>
        <p:sp>
          <p:nvSpPr>
            <p:cNvPr id="258" name=""/>
            <p:cNvSpPr/>
            <p:nvPr/>
          </p:nvSpPr>
          <p:spPr>
            <a:xfrm>
              <a:off x="533520" y="443376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12720" y="450504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ahoma"/>
                </a:rPr>
                <a:t>Superior Retur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5473800" y="1876320"/>
            <a:ext cx="1466640" cy="1793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019465-F950-4236-A15A-1B51041F339B}" type="slidenum">
              <a:t>24</a:t>
            </a:fld>
          </a:p>
        </p:txBody>
      </p:sp>
    </p:spTree>
  </p:cSld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0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8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500"/>
                            </p:stCondLst>
                            <p:childTnLst>
                              <p:par>
                                <p:cTn id="2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1000"/>
                            </p:stCondLst>
                            <p:childTnLst>
                              <p:par>
                                <p:cTn id="28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6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1500"/>
                            </p:stCondLst>
                            <p:childTnLst>
                              <p:par>
                                <p:cTn id="29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2" dur="5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Five Forces Model of Competition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Industry Profitability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industry’s rate of return on invested capital relative to its cost of capital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An industry’s profitability results from interaction among: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upplier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uyer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mpetitive rivalry among firms currently in the industr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roduct substitut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otential entrants to the industr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A1D0C3-7146-41D0-AEAD-0AC2FD214F7C}" type="slidenum">
              <a:t>25</a:t>
            </a:fld>
          </a:p>
        </p:txBody>
      </p:sp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Five Forces Model of Competition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47480" y="1142640"/>
            <a:ext cx="80866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Firms earn above-average returns by: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Arial"/>
              </a:rPr>
              <a:t>Cost leadership</a:t>
            </a:r>
            <a:endParaRPr b="0" lang="en-US" sz="28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ing standardized products or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Arial"/>
              </a:rPr>
              <a:t>Differentiation</a:t>
            </a:r>
            <a:endParaRPr b="0" lang="en-US" sz="28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ufacturing differentiated products for which customers are willing to pay a price prem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6483240" y="4267080"/>
            <a:ext cx="1744920" cy="2133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74FE11-D5F2-44F3-B871-2152FD1457B2}" type="slidenum">
              <a:t>26</a:t>
            </a:fld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 flipV="1">
            <a:off x="53352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The Resource-Based Model of Above-Average Return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47840" y="16761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Model Assumption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ach organization is a collection of unique resources and capabilities that provides the basis for its strategy and that is the primary source of its return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apabilities evolve and must be managed dynamically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ifferences in firms’ performances are due primarily to their unique resources and capabilities rather than structural characteristics of the industry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irms acquire different resources and develop unique capabiliti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EF417E-343C-4DEA-A0D8-61C86C037ED9}" type="slidenum">
              <a:t>27</a:t>
            </a:fld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434880" y="457200"/>
            <a:ext cx="2156040" cy="1828800"/>
          </a:xfrm>
          <a:prstGeom prst="rect">
            <a:avLst/>
          </a:prstGeom>
          <a:ln w="0">
            <a:noFill/>
          </a:ln>
        </p:spPr>
      </p:pic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19051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cc6600"/>
                </a:solidFill>
                <a:latin typeface="Arial"/>
              </a:rPr>
              <a:t>1.3</a:t>
            </a:r>
            <a:r>
              <a:rPr b="1" i="1" lang="en-US" sz="1200" spc="-1" strike="noStrike">
                <a:solidFill>
                  <a:srgbClr val="cc6600"/>
                </a:solidFill>
                <a:latin typeface="Tahoma"/>
              </a:rPr>
              <a:t> </a:t>
            </a:r>
            <a:br>
              <a:rPr sz="1200"/>
            </a:br>
            <a:br>
              <a:rPr sz="12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he Resource-Based Model of Above-Average Returns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71" name=""/>
          <p:cNvSpPr/>
          <p:nvPr/>
        </p:nvSpPr>
        <p:spPr>
          <a:xfrm>
            <a:off x="685800" y="684360"/>
            <a:ext cx="0" cy="479160"/>
          </a:xfrm>
          <a:prstGeom prst="line">
            <a:avLst/>
          </a:prstGeom>
          <a:ln w="284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57200" y="990720"/>
            <a:ext cx="1828800" cy="0"/>
          </a:xfrm>
          <a:prstGeom prst="line">
            <a:avLst/>
          </a:prstGeom>
          <a:ln w="572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2"/>
          <a:stretch/>
        </p:blipFill>
        <p:spPr>
          <a:xfrm>
            <a:off x="2971800" y="380880"/>
            <a:ext cx="4954680" cy="6034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DB7D9A-EF01-45A1-AE2A-D24D9DF90252}" type="slidenum">
              <a:t>28</a:t>
            </a:fld>
          </a:p>
        </p:txBody>
      </p:sp>
    </p:spTree>
  </p:cSld>
  <p:transition>
    <p:random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9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609480" y="4724280"/>
            <a:ext cx="3505320" cy="1371600"/>
          </a:xfrm>
          <a:prstGeom prst="ellipse">
            <a:avLst/>
          </a:prstGeom>
          <a:gradFill rotWithShape="0">
            <a:gsLst>
              <a:gs pos="0">
                <a:srgbClr val="996600"/>
              </a:gs>
              <a:gs pos="100000">
                <a:srgbClr val="462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source-Based Model of Above-Average Return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367160" y="1523880"/>
            <a:ext cx="4232160" cy="29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  <a:ea typeface="Times New Roman"/>
              </a:rPr>
              <a:t>1.</a:t>
            </a:r>
            <a:r>
              <a:rPr b="0" lang="en-US" sz="2400" spc="-1" strike="noStrike">
                <a:solidFill>
                  <a:srgbClr val="336699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336699"/>
                </a:solidFill>
                <a:latin typeface="Arial"/>
                <a:ea typeface="Times New Roman"/>
              </a:rPr>
              <a:t>Strategy is dictated by the firm’s unique resources and capabilities.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  <a:ea typeface="Times New Roman"/>
              </a:rPr>
              <a:t>2.</a:t>
            </a:r>
            <a:r>
              <a:rPr b="0" lang="en-US" sz="2400" spc="-1" strike="noStrike">
                <a:solidFill>
                  <a:srgbClr val="336699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336699"/>
                </a:solidFill>
                <a:latin typeface="Arial"/>
                <a:ea typeface="Times New Roman"/>
              </a:rPr>
              <a:t>Find an environment in which to exploit these assets (where are the best opportunities?)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837720" y="1981080"/>
            <a:ext cx="3048120" cy="3124440"/>
            <a:chOff x="837720" y="1981080"/>
            <a:chExt cx="3048120" cy="3124440"/>
          </a:xfrm>
        </p:grpSpPr>
        <p:sp>
          <p:nvSpPr>
            <p:cNvPr id="278" name=""/>
            <p:cNvSpPr/>
            <p:nvPr/>
          </p:nvSpPr>
          <p:spPr>
            <a:xfrm rot="5400000">
              <a:off x="799560" y="2018880"/>
              <a:ext cx="3124440" cy="3048120"/>
            </a:xfrm>
            <a:custGeom>
              <a:avLst/>
              <a:gdLst>
                <a:gd name="textAreaLeft" fmla="*/ 0 w 3124440"/>
                <a:gd name="textAreaRight" fmla="*/ 3124800 w 3124440"/>
                <a:gd name="textAreaTop" fmla="*/ 0 h 3048120"/>
                <a:gd name="textAreaBottom" fmla="*/ 3048480 h 3048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trategy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3300"/>
                  </a:solidFill>
                  <a:latin typeface="Arial"/>
                </a:rPr>
                <a:t>Competitive Advanta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219320" y="3938760"/>
              <a:ext cx="2286000" cy="337320"/>
            </a:xfrm>
            <a:prstGeom prst="rect">
              <a:avLst/>
            </a:prstGeom>
            <a:solidFill>
              <a:srgbClr val="cc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Core Competenci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362320" y="301320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362320" y="3565440"/>
              <a:ext cx="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219320" y="3394080"/>
              <a:ext cx="2286000" cy="337320"/>
            </a:xfrm>
            <a:prstGeom prst="rect">
              <a:avLst/>
            </a:prstGeom>
            <a:solidFill>
              <a:srgbClr val="33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Capabiliti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219320" y="2819520"/>
              <a:ext cx="2286000" cy="33732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Resourc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A53FFC-01BF-44A8-9B3B-A0EF6E8EEE8E}" type="slidenum">
              <a:t>29</a:t>
            </a:fld>
          </a:p>
        </p:txBody>
      </p:sp>
    </p:spTree>
  </p:cSld>
  <p:transition>
    <p:random/>
  </p:transition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0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6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000"/>
                            </p:stCondLst>
                            <p:childTnLst>
                              <p:par>
                                <p:cTn id="3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0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1500"/>
                            </p:stCondLst>
                            <p:childTnLst>
                              <p:par>
                                <p:cTn id="3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4" dur="50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500"/>
                            </p:stCondLst>
                            <p:childTnLst>
                              <p:par>
                                <p:cTn id="32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560" y="182520"/>
            <a:ext cx="518148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WLED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O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JECTIVES </a:t>
            </a: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(cont’d)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47840" y="1724040"/>
            <a:ext cx="8229600" cy="43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500"/>
              </a:spcBef>
              <a:buClr>
                <a:srgbClr val="003366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vision and mission and discuss their value.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533520" indent="-533520">
              <a:spcBef>
                <a:spcPts val="1500"/>
              </a:spcBef>
              <a:buClr>
                <a:srgbClr val="003366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stakeholders and describe their ability to influence organizations.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533520" indent="-533520">
              <a:spcBef>
                <a:spcPts val="1500"/>
              </a:spcBef>
              <a:buClr>
                <a:srgbClr val="003366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the work of strategic leaders. 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533520" indent="-533520">
              <a:spcBef>
                <a:spcPts val="1500"/>
              </a:spcBef>
              <a:buClr>
                <a:srgbClr val="003366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the strategic management process.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99960" y="885960"/>
            <a:ext cx="832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udying this chapter should provide you with the strategic management knowledge needed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68071A-A9D0-44C8-9174-74B44A25F5D2}" type="slidenum">
              <a:t>3</a:t>
            </a:fld>
          </a:p>
        </p:txBody>
      </p:sp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sources and Capabiliti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47480" y="1142640"/>
            <a:ext cx="40366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0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Resource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puts into a firm’s production process: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pital equi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kills of individual employ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t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na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lented manag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40400" y="1142640"/>
            <a:ext cx="40370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0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Capabilitie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apacity of a set of resources to perform in an integrative manner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apability should </a:t>
            </a:r>
            <a:r>
              <a:rPr b="0" i="1" lang="en-US" sz="2400" spc="-1" strike="noStrike">
                <a:solidFill>
                  <a:srgbClr val="cc3300"/>
                </a:solidFill>
                <a:latin typeface="Arial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e: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 simple that it is highly imita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 complex that it defies internal steering and contro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2D6E03-6EBC-48F8-8D7F-1753289F4A23}" type="slidenum">
              <a:t>30</a:t>
            </a:fld>
          </a:p>
        </p:txBody>
      </p:sp>
    </p:spTree>
  </p:cSld>
  <p:transition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source-Based Model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602240" y="1142640"/>
            <a:ext cx="4075200" cy="24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Identify the firm’s resources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  <a:ea typeface="Arial"/>
              </a:rPr>
              <a:t>—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strengths and weaknesses compared with competitors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grpSp>
        <p:nvGrpSpPr>
          <p:cNvPr id="289" name=""/>
          <p:cNvGrpSpPr/>
          <p:nvPr/>
        </p:nvGrpSpPr>
        <p:grpSpPr>
          <a:xfrm>
            <a:off x="541440" y="1300320"/>
            <a:ext cx="3801960" cy="593640"/>
            <a:chOff x="541440" y="1300320"/>
            <a:chExt cx="3801960" cy="593640"/>
          </a:xfrm>
        </p:grpSpPr>
        <p:sp>
          <p:nvSpPr>
            <p:cNvPr id="290" name=""/>
            <p:cNvSpPr/>
            <p:nvPr/>
          </p:nvSpPr>
          <p:spPr>
            <a:xfrm>
              <a:off x="541440" y="130032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20640" y="137160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ahoma"/>
                </a:rPr>
                <a:t>Resour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2" name=""/>
          <p:cNvSpPr/>
          <p:nvPr/>
        </p:nvSpPr>
        <p:spPr>
          <a:xfrm>
            <a:off x="762120" y="2057400"/>
            <a:ext cx="357660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Resources: inputs into a firm’s production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31D170-60A6-4A1E-AE07-ED7AA98E8E2B}" type="slidenum">
              <a:t>31</a:t>
            </a:fld>
          </a:p>
        </p:txBody>
      </p:sp>
    </p:spTree>
  </p:cSld>
  <p:transition>
    <p:random/>
  </p:transition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0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5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1000"/>
                            </p:stCondLst>
                            <p:childTnLst>
                              <p:par>
                                <p:cTn id="3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9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1500"/>
                            </p:stCondLst>
                            <p:childTnLst>
                              <p:par>
                                <p:cTn id="3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3" dur="50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source-Based Model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601880" y="1821960"/>
            <a:ext cx="393372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Determine the firm’s capabilities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  <a:ea typeface="Arial"/>
              </a:rPr>
              <a:t>—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what it can do better than its competitors.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grpSp>
        <p:nvGrpSpPr>
          <p:cNvPr id="295" name=""/>
          <p:cNvGrpSpPr/>
          <p:nvPr/>
        </p:nvGrpSpPr>
        <p:grpSpPr>
          <a:xfrm>
            <a:off x="541440" y="1295280"/>
            <a:ext cx="3801960" cy="593640"/>
            <a:chOff x="541440" y="1295280"/>
            <a:chExt cx="3801960" cy="593640"/>
          </a:xfrm>
        </p:grpSpPr>
        <p:sp>
          <p:nvSpPr>
            <p:cNvPr id="296" name=""/>
            <p:cNvSpPr/>
            <p:nvPr/>
          </p:nvSpPr>
          <p:spPr>
            <a:xfrm>
              <a:off x="541440" y="12952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20640" y="13665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Resour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541440" y="1906560"/>
            <a:ext cx="3801960" cy="593640"/>
            <a:chOff x="541440" y="1906560"/>
            <a:chExt cx="3801960" cy="593640"/>
          </a:xfrm>
        </p:grpSpPr>
        <p:sp>
          <p:nvSpPr>
            <p:cNvPr id="299" name=""/>
            <p:cNvSpPr/>
            <p:nvPr/>
          </p:nvSpPr>
          <p:spPr>
            <a:xfrm>
              <a:off x="541440" y="190656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20640" y="197784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ahoma"/>
                </a:rPr>
                <a:t>Capabil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609480" y="2630520"/>
            <a:ext cx="3881520" cy="15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Capability: capacity of an integrated set of resources to integratively perform a task or activ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78FC42-BD26-40AA-948F-EFD046BB6754}" type="slidenum">
              <a:t>32</a:t>
            </a:fld>
          </a:p>
        </p:txBody>
      </p:sp>
    </p:spTree>
  </p:cSld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0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0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500"/>
                            </p:stCondLst>
                            <p:childTnLst>
                              <p:par>
                                <p:cTn id="3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4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1000"/>
                            </p:stCondLst>
                            <p:childTnLst>
                              <p:par>
                                <p:cTn id="3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8" dur="500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source-Based Model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602240" y="2416320"/>
            <a:ext cx="3541680" cy="16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3.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Determine the potential of the firm’s resources and capabilities in terms of a competitive advantage.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grpSp>
        <p:nvGrpSpPr>
          <p:cNvPr id="304" name=""/>
          <p:cNvGrpSpPr/>
          <p:nvPr/>
        </p:nvGrpSpPr>
        <p:grpSpPr>
          <a:xfrm>
            <a:off x="541440" y="1295280"/>
            <a:ext cx="3801960" cy="593640"/>
            <a:chOff x="541440" y="1295280"/>
            <a:chExt cx="3801960" cy="593640"/>
          </a:xfrm>
        </p:grpSpPr>
        <p:sp>
          <p:nvSpPr>
            <p:cNvPr id="305" name=""/>
            <p:cNvSpPr/>
            <p:nvPr/>
          </p:nvSpPr>
          <p:spPr>
            <a:xfrm>
              <a:off x="541440" y="12952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20640" y="13665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Resour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7" name=""/>
          <p:cNvGrpSpPr/>
          <p:nvPr/>
        </p:nvGrpSpPr>
        <p:grpSpPr>
          <a:xfrm>
            <a:off x="541440" y="1906560"/>
            <a:ext cx="3801960" cy="593640"/>
            <a:chOff x="541440" y="1906560"/>
            <a:chExt cx="3801960" cy="593640"/>
          </a:xfrm>
        </p:grpSpPr>
        <p:sp>
          <p:nvSpPr>
            <p:cNvPr id="308" name=""/>
            <p:cNvSpPr/>
            <p:nvPr/>
          </p:nvSpPr>
          <p:spPr>
            <a:xfrm>
              <a:off x="541440" y="190656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20640" y="197784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Capabil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0" name=""/>
          <p:cNvGrpSpPr/>
          <p:nvPr/>
        </p:nvGrpSpPr>
        <p:grpSpPr>
          <a:xfrm>
            <a:off x="541440" y="2519280"/>
            <a:ext cx="3801960" cy="593640"/>
            <a:chOff x="541440" y="2519280"/>
            <a:chExt cx="3801960" cy="593640"/>
          </a:xfrm>
        </p:grpSpPr>
        <p:sp>
          <p:nvSpPr>
            <p:cNvPr id="311" name=""/>
            <p:cNvSpPr/>
            <p:nvPr/>
          </p:nvSpPr>
          <p:spPr>
            <a:xfrm>
              <a:off x="541440" y="25192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20640" y="25905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ahoma"/>
                </a:rPr>
                <a:t>Competitive Advantag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3" name=""/>
          <p:cNvSpPr/>
          <p:nvPr/>
        </p:nvSpPr>
        <p:spPr>
          <a:xfrm>
            <a:off x="685800" y="3200400"/>
            <a:ext cx="3429000" cy="12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Competitive advantage: </a:t>
            </a:r>
            <a:br>
              <a:rPr sz="2000"/>
            </a:b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ability of a firm to outperform its riva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33275E-5ADD-420D-9293-F658FA2742B4}" type="slidenum">
              <a:t>33</a:t>
            </a:fld>
          </a:p>
        </p:txBody>
      </p:sp>
    </p:spTree>
  </p:cSld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0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5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500"/>
                            </p:stCondLst>
                            <p:childTnLst>
                              <p:par>
                                <p:cTn id="3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9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1000"/>
                            </p:stCondLst>
                            <p:childTnLst>
                              <p:par>
                                <p:cTn id="3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3" dur="500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source-Based Model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62640" y="3154320"/>
            <a:ext cx="41148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4.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Locate an attractive industry.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541440" y="1295280"/>
            <a:ext cx="3801960" cy="593640"/>
            <a:chOff x="541440" y="1295280"/>
            <a:chExt cx="3801960" cy="593640"/>
          </a:xfrm>
        </p:grpSpPr>
        <p:sp>
          <p:nvSpPr>
            <p:cNvPr id="317" name=""/>
            <p:cNvSpPr/>
            <p:nvPr/>
          </p:nvSpPr>
          <p:spPr>
            <a:xfrm>
              <a:off x="541440" y="12952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20640" y="13665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Resour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9" name=""/>
          <p:cNvGrpSpPr/>
          <p:nvPr/>
        </p:nvGrpSpPr>
        <p:grpSpPr>
          <a:xfrm>
            <a:off x="541440" y="1906560"/>
            <a:ext cx="3801960" cy="593640"/>
            <a:chOff x="541440" y="1906560"/>
            <a:chExt cx="3801960" cy="593640"/>
          </a:xfrm>
        </p:grpSpPr>
        <p:sp>
          <p:nvSpPr>
            <p:cNvPr id="320" name=""/>
            <p:cNvSpPr/>
            <p:nvPr/>
          </p:nvSpPr>
          <p:spPr>
            <a:xfrm>
              <a:off x="541440" y="190656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20640" y="197784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Capabil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541440" y="2519280"/>
            <a:ext cx="3801960" cy="593640"/>
            <a:chOff x="541440" y="2519280"/>
            <a:chExt cx="3801960" cy="593640"/>
          </a:xfrm>
        </p:grpSpPr>
        <p:sp>
          <p:nvSpPr>
            <p:cNvPr id="323" name=""/>
            <p:cNvSpPr/>
            <p:nvPr/>
          </p:nvSpPr>
          <p:spPr>
            <a:xfrm>
              <a:off x="541440" y="25192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20640" y="25905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Competitive Advantag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541440" y="3132000"/>
            <a:ext cx="3801960" cy="593640"/>
            <a:chOff x="541440" y="3132000"/>
            <a:chExt cx="3801960" cy="593640"/>
          </a:xfrm>
        </p:grpSpPr>
        <p:sp>
          <p:nvSpPr>
            <p:cNvPr id="326" name=""/>
            <p:cNvSpPr/>
            <p:nvPr/>
          </p:nvSpPr>
          <p:spPr>
            <a:xfrm>
              <a:off x="541440" y="313200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620640" y="320328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ahoma"/>
                </a:rPr>
                <a:t>Attractive Industr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8" name=""/>
          <p:cNvSpPr/>
          <p:nvPr/>
        </p:nvSpPr>
        <p:spPr>
          <a:xfrm>
            <a:off x="533520" y="3809880"/>
            <a:ext cx="3881160" cy="20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Attractive industry: an industry with opportunities that can be exploited by the firm’s resources and capabilit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655D7C-BE01-4940-85FA-66C3CEB215DA}" type="slidenum">
              <a:t>34</a:t>
            </a:fld>
          </a:p>
        </p:txBody>
      </p:sp>
    </p:spTree>
  </p:cSld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0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0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500"/>
                            </p:stCondLst>
                            <p:childTnLst>
                              <p:par>
                                <p:cTn id="3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4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1000"/>
                            </p:stCondLst>
                            <p:childTnLst>
                              <p:par>
                                <p:cTn id="3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source-Based Model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679640" y="3862440"/>
            <a:ext cx="3776760" cy="22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5.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Select a strategy that best allows the firm to utilize its resources and capabilities relative to opportunities in the external environment.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grpSp>
        <p:nvGrpSpPr>
          <p:cNvPr id="331" name=""/>
          <p:cNvGrpSpPr/>
          <p:nvPr/>
        </p:nvGrpSpPr>
        <p:grpSpPr>
          <a:xfrm>
            <a:off x="541440" y="1295280"/>
            <a:ext cx="3801960" cy="593640"/>
            <a:chOff x="541440" y="1295280"/>
            <a:chExt cx="3801960" cy="593640"/>
          </a:xfrm>
        </p:grpSpPr>
        <p:sp>
          <p:nvSpPr>
            <p:cNvPr id="332" name=""/>
            <p:cNvSpPr/>
            <p:nvPr/>
          </p:nvSpPr>
          <p:spPr>
            <a:xfrm>
              <a:off x="541440" y="12952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20640" y="13665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Resour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4" name=""/>
          <p:cNvGrpSpPr/>
          <p:nvPr/>
        </p:nvGrpSpPr>
        <p:grpSpPr>
          <a:xfrm>
            <a:off x="541440" y="1906560"/>
            <a:ext cx="3801960" cy="593640"/>
            <a:chOff x="541440" y="1906560"/>
            <a:chExt cx="3801960" cy="593640"/>
          </a:xfrm>
        </p:grpSpPr>
        <p:sp>
          <p:nvSpPr>
            <p:cNvPr id="335" name=""/>
            <p:cNvSpPr/>
            <p:nvPr/>
          </p:nvSpPr>
          <p:spPr>
            <a:xfrm>
              <a:off x="541440" y="190656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620640" y="197784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Capabil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7" name=""/>
          <p:cNvGrpSpPr/>
          <p:nvPr/>
        </p:nvGrpSpPr>
        <p:grpSpPr>
          <a:xfrm>
            <a:off x="541440" y="2519280"/>
            <a:ext cx="3801960" cy="593640"/>
            <a:chOff x="541440" y="2519280"/>
            <a:chExt cx="3801960" cy="593640"/>
          </a:xfrm>
        </p:grpSpPr>
        <p:sp>
          <p:nvSpPr>
            <p:cNvPr id="338" name=""/>
            <p:cNvSpPr/>
            <p:nvPr/>
          </p:nvSpPr>
          <p:spPr>
            <a:xfrm>
              <a:off x="541440" y="25192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0640" y="25905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Competitive Advantag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0" name=""/>
          <p:cNvGrpSpPr/>
          <p:nvPr/>
        </p:nvGrpSpPr>
        <p:grpSpPr>
          <a:xfrm>
            <a:off x="541440" y="3132000"/>
            <a:ext cx="3801960" cy="593640"/>
            <a:chOff x="541440" y="3132000"/>
            <a:chExt cx="3801960" cy="593640"/>
          </a:xfrm>
        </p:grpSpPr>
        <p:sp>
          <p:nvSpPr>
            <p:cNvPr id="341" name=""/>
            <p:cNvSpPr/>
            <p:nvPr/>
          </p:nvSpPr>
          <p:spPr>
            <a:xfrm>
              <a:off x="541440" y="313200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20640" y="320328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Attractive Industr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3" name=""/>
          <p:cNvGrpSpPr/>
          <p:nvPr/>
        </p:nvGrpSpPr>
        <p:grpSpPr>
          <a:xfrm>
            <a:off x="541440" y="3745080"/>
            <a:ext cx="3801960" cy="1131480"/>
            <a:chOff x="541440" y="3745080"/>
            <a:chExt cx="3801960" cy="1131480"/>
          </a:xfrm>
        </p:grpSpPr>
        <p:sp>
          <p:nvSpPr>
            <p:cNvPr id="344" name=""/>
            <p:cNvSpPr/>
            <p:nvPr/>
          </p:nvSpPr>
          <p:spPr>
            <a:xfrm>
              <a:off x="541440" y="3745080"/>
              <a:ext cx="3801960" cy="113148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620640" y="3880800"/>
              <a:ext cx="3642840" cy="8560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ahoma"/>
                </a:rPr>
                <a:t>Strategy Formulation </a:t>
              </a:r>
              <a:br>
                <a:rPr sz="2000"/>
              </a:br>
              <a:r>
                <a:rPr b="1" lang="en-US" sz="2000" spc="-1" strike="noStrike">
                  <a:solidFill>
                    <a:srgbClr val="ffffcc"/>
                  </a:solidFill>
                  <a:latin typeface="Tahoma"/>
                </a:rPr>
                <a:t>and Implement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6" name=""/>
          <p:cNvSpPr/>
          <p:nvPr/>
        </p:nvSpPr>
        <p:spPr>
          <a:xfrm>
            <a:off x="838080" y="4890960"/>
            <a:ext cx="3119400" cy="13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Strategy formulation and implementation: strategic actions taken to earn above average retur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8EA29B-0FE6-44EC-8124-80E0BD362568}" type="slidenum">
              <a:t>35</a:t>
            </a:fld>
          </a:p>
        </p:txBody>
      </p:sp>
    </p:spTree>
  </p:cSld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0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500"/>
                            </p:stCondLst>
                            <p:childTnLst>
                              <p:par>
                                <p:cTn id="3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9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1000"/>
                            </p:stCondLst>
                            <p:childTnLst>
                              <p:par>
                                <p:cTn id="4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3" dur="500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source-Based Model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grpSp>
        <p:nvGrpSpPr>
          <p:cNvPr id="348" name=""/>
          <p:cNvGrpSpPr/>
          <p:nvPr/>
        </p:nvGrpSpPr>
        <p:grpSpPr>
          <a:xfrm>
            <a:off x="533520" y="1295280"/>
            <a:ext cx="3801960" cy="593640"/>
            <a:chOff x="533520" y="1295280"/>
            <a:chExt cx="3801960" cy="593640"/>
          </a:xfrm>
        </p:grpSpPr>
        <p:sp>
          <p:nvSpPr>
            <p:cNvPr id="349" name=""/>
            <p:cNvSpPr/>
            <p:nvPr/>
          </p:nvSpPr>
          <p:spPr>
            <a:xfrm>
              <a:off x="533520" y="12952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12720" y="13665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Resour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1" name=""/>
          <p:cNvGrpSpPr/>
          <p:nvPr/>
        </p:nvGrpSpPr>
        <p:grpSpPr>
          <a:xfrm>
            <a:off x="533520" y="1906560"/>
            <a:ext cx="3801960" cy="593640"/>
            <a:chOff x="533520" y="1906560"/>
            <a:chExt cx="3801960" cy="593640"/>
          </a:xfrm>
        </p:grpSpPr>
        <p:sp>
          <p:nvSpPr>
            <p:cNvPr id="352" name=""/>
            <p:cNvSpPr/>
            <p:nvPr/>
          </p:nvSpPr>
          <p:spPr>
            <a:xfrm>
              <a:off x="533520" y="190656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12720" y="197784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Capabil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4" name=""/>
          <p:cNvGrpSpPr/>
          <p:nvPr/>
        </p:nvGrpSpPr>
        <p:grpSpPr>
          <a:xfrm>
            <a:off x="533520" y="2519280"/>
            <a:ext cx="3801960" cy="593640"/>
            <a:chOff x="533520" y="2519280"/>
            <a:chExt cx="3801960" cy="593640"/>
          </a:xfrm>
        </p:grpSpPr>
        <p:sp>
          <p:nvSpPr>
            <p:cNvPr id="355" name=""/>
            <p:cNvSpPr/>
            <p:nvPr/>
          </p:nvSpPr>
          <p:spPr>
            <a:xfrm>
              <a:off x="533520" y="25192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12720" y="25905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Competitive Advantag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7" name=""/>
          <p:cNvGrpSpPr/>
          <p:nvPr/>
        </p:nvGrpSpPr>
        <p:grpSpPr>
          <a:xfrm>
            <a:off x="533520" y="3132000"/>
            <a:ext cx="3801960" cy="593640"/>
            <a:chOff x="533520" y="3132000"/>
            <a:chExt cx="3801960" cy="593640"/>
          </a:xfrm>
        </p:grpSpPr>
        <p:sp>
          <p:nvSpPr>
            <p:cNvPr id="358" name=""/>
            <p:cNvSpPr/>
            <p:nvPr/>
          </p:nvSpPr>
          <p:spPr>
            <a:xfrm>
              <a:off x="533520" y="313200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12720" y="320328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Attractive Industr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0" name=""/>
          <p:cNvGrpSpPr/>
          <p:nvPr/>
        </p:nvGrpSpPr>
        <p:grpSpPr>
          <a:xfrm>
            <a:off x="533520" y="3745080"/>
            <a:ext cx="3801960" cy="1053720"/>
            <a:chOff x="533520" y="3745080"/>
            <a:chExt cx="3801960" cy="1053720"/>
          </a:xfrm>
        </p:grpSpPr>
        <p:sp>
          <p:nvSpPr>
            <p:cNvPr id="361" name=""/>
            <p:cNvSpPr/>
            <p:nvPr/>
          </p:nvSpPr>
          <p:spPr>
            <a:xfrm>
              <a:off x="533520" y="3745080"/>
              <a:ext cx="3801960" cy="10537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12720" y="3871440"/>
              <a:ext cx="3642840" cy="79740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Strategy Formulation</a:t>
              </a:r>
              <a:br>
                <a:rPr sz="2000"/>
              </a:b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and Implement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3" name=""/>
          <p:cNvGrpSpPr/>
          <p:nvPr/>
        </p:nvGrpSpPr>
        <p:grpSpPr>
          <a:xfrm>
            <a:off x="533520" y="4813200"/>
            <a:ext cx="3801960" cy="593640"/>
            <a:chOff x="533520" y="4813200"/>
            <a:chExt cx="3801960" cy="593640"/>
          </a:xfrm>
        </p:grpSpPr>
        <p:sp>
          <p:nvSpPr>
            <p:cNvPr id="364" name=""/>
            <p:cNvSpPr/>
            <p:nvPr/>
          </p:nvSpPr>
          <p:spPr>
            <a:xfrm>
              <a:off x="533520" y="481320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12720" y="488448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ahoma"/>
                </a:rPr>
                <a:t>Superior Retur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5891040" y="3305160"/>
            <a:ext cx="177840" cy="747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5883120" y="3246480"/>
            <a:ext cx="177840" cy="747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4321080" y="1554120"/>
            <a:ext cx="843120" cy="2473200"/>
          </a:xfrm>
          <a:custGeom>
            <a:avLst/>
            <a:gdLst>
              <a:gd name="textAreaLeft" fmla="*/ 0 w 843120"/>
              <a:gd name="textAreaRight" fmla="*/ 304560 w 843120"/>
              <a:gd name="textAreaTop" fmla="*/ 64440 h 2473200"/>
              <a:gd name="textAreaBottom" fmla="*/ 2408760 h 2473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357800" y="2789280"/>
            <a:ext cx="1861920" cy="2314440"/>
          </a:xfrm>
          <a:custGeom>
            <a:avLst/>
            <a:gdLst/>
            <a:ahLst/>
            <a:rect l="l" t="t" r="r" b="b"/>
            <a:pathLst>
              <a:path w="1056" h="1200">
                <a:moveTo>
                  <a:pt x="384" y="0"/>
                </a:moveTo>
                <a:lnTo>
                  <a:pt x="1056" y="0"/>
                </a:lnTo>
                <a:lnTo>
                  <a:pt x="1056" y="1200"/>
                </a:lnTo>
                <a:lnTo>
                  <a:pt x="0" y="1200"/>
                </a:lnTo>
              </a:path>
            </a:pathLst>
          </a:custGeom>
          <a:noFill/>
          <a:ln w="31680">
            <a:solidFill>
              <a:srgbClr val="000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838080" y="5484960"/>
            <a:ext cx="3341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Superior returns: earning above-average retu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1"/>
          <a:stretch/>
        </p:blipFill>
        <p:spPr>
          <a:xfrm>
            <a:off x="5473800" y="1876320"/>
            <a:ext cx="1466640" cy="1793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A1E14C-C5CE-4FDC-94FB-60B225A99A54}" type="slidenum">
              <a:t>36</a:t>
            </a:fld>
          </a:p>
        </p:txBody>
      </p:sp>
    </p:spTree>
  </p:cSld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0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0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500"/>
                            </p:stCondLst>
                            <p:childTnLst>
                              <p:par>
                                <p:cTn id="41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4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7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1000"/>
                            </p:stCondLst>
                            <p:childTnLst>
                              <p:par>
                                <p:cTn id="41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1" dur="500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 flipV="1">
            <a:off x="53352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533160" y="519120"/>
            <a:ext cx="80010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Tahoma"/>
              </a:rPr>
              <a:t>Criteria for Resources and Capabilities That Become Core Competencies</a:t>
            </a:r>
            <a:endParaRPr b="0" lang="en-US" sz="2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74" name=""/>
          <p:cNvSpPr/>
          <p:nvPr/>
        </p:nvSpPr>
        <p:spPr>
          <a:xfrm>
            <a:off x="3276720" y="3022560"/>
            <a:ext cx="2590560" cy="16257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re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mpeten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5" name=""/>
          <p:cNvGrpSpPr/>
          <p:nvPr/>
        </p:nvGrpSpPr>
        <p:grpSpPr>
          <a:xfrm>
            <a:off x="685800" y="1905120"/>
            <a:ext cx="7772400" cy="3886200"/>
            <a:chOff x="685800" y="1905120"/>
            <a:chExt cx="7772400" cy="3886200"/>
          </a:xfrm>
        </p:grpSpPr>
        <p:sp>
          <p:nvSpPr>
            <p:cNvPr id="376" name=""/>
            <p:cNvSpPr/>
            <p:nvPr/>
          </p:nvSpPr>
          <p:spPr>
            <a:xfrm>
              <a:off x="2590920" y="2654640"/>
              <a:ext cx="68580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 flipH="1">
              <a:off x="5866920" y="2654640"/>
              <a:ext cx="68580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 flipV="1">
              <a:off x="2590920" y="4647960"/>
              <a:ext cx="68580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 flipH="1" flipV="1">
              <a:off x="5866920" y="4647960"/>
              <a:ext cx="68580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85800" y="1905120"/>
              <a:ext cx="2819520" cy="990720"/>
            </a:xfrm>
            <a:prstGeom prst="ellipse">
              <a:avLst/>
            </a:prstGeom>
            <a:solidFill>
              <a:srgbClr val="3366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Valuab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638680" y="1905120"/>
              <a:ext cx="2819520" cy="990720"/>
            </a:xfrm>
            <a:prstGeom prst="ellipse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Ra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5638680" y="4800960"/>
              <a:ext cx="2819520" cy="990360"/>
            </a:xfrm>
            <a:prstGeom prst="ellipse">
              <a:avLst/>
            </a:prstGeom>
            <a:solidFill>
              <a:srgbClr val="cc66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stly to Imitat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685800" y="4800960"/>
              <a:ext cx="2819520" cy="99036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Nonsubstitutab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6DFD1D-2602-4554-96AB-CDFDDC34ADC4}" type="slidenum">
              <a:t>37</a:t>
            </a:fld>
          </a:p>
        </p:txBody>
      </p:sp>
    </p:spTree>
  </p:cSld>
  <p:transition>
    <p:random/>
  </p:transition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fill="hold">
                      <p:stCondLst>
                        <p:cond delay="0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8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500"/>
                            </p:stCondLst>
                            <p:childTnLst>
                              <p:par>
                                <p:cTn id="43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2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 flipV="1">
            <a:off x="53352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001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How Resources and Capabilities Provide Competitive Advantag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3417840" y="5102280"/>
            <a:ext cx="5267520" cy="10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firm is organized appropriately to obtain the full benefits of the resources in order to realize a competitive advantage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555920" y="2027160"/>
            <a:ext cx="17524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Valu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3421080" y="2065320"/>
            <a:ext cx="5330880" cy="10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the firm to exploit opportunities or neutralize threats in its external enviro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771560" y="3063960"/>
            <a:ext cx="1536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3417840" y="3111480"/>
            <a:ext cx="511668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essed by few, if any, current and potential competi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38280" y="4078440"/>
            <a:ext cx="26701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stly to imi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3417840" y="4102200"/>
            <a:ext cx="524196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en other firms cannot obtain them or must obtain them at a much higher c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71680" y="5059440"/>
            <a:ext cx="273672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onsubstitu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17BE5A-C62D-422C-9158-7FFBA8BD6E73}" type="slidenum">
              <a:t>38</a:t>
            </a:fld>
          </a:p>
        </p:txBody>
      </p:sp>
    </p:spTree>
  </p:cSld>
  <p:transition>
    <p:random/>
  </p:transition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0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9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500"/>
                            </p:stCondLst>
                            <p:childTnLst>
                              <p:par>
                                <p:cTn id="4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8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3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500"/>
                            </p:stCondLst>
                            <p:childTnLst>
                              <p:par>
                                <p:cTn id="4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2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500"/>
                            </p:stCondLst>
                            <p:childTnLst>
                              <p:par>
                                <p:cTn id="4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6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1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500"/>
                            </p:stCondLst>
                            <p:childTnLst>
                              <p:par>
                                <p:cTn id="4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5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re Competenci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When the four key criteria of resources and capabilities are met, they become core competencies. 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290520" indent="-290520">
              <a:spcBef>
                <a:spcPts val="17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Managerial competencies are especially important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290520" indent="-290520">
              <a:spcBef>
                <a:spcPts val="17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Core competencies serve as a source of competitive advantage, create value, and provide the opportunity for above-average returns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B04E68-0EB8-4088-8651-77C14E1683C3}" type="slidenum">
              <a:t>39</a:t>
            </a:fld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mportant Definition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trategic Competitivenes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When a firm successfully formulates and implements a value-creating strategy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trategy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n integrated and coordinated set of commitments and actions designed to exploit core competencies and gain a competitive advantag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Competitive Advantage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When a firm implements a strategy that its competitors are unable to duplicate or find too costly to try to imitat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13B940-3A13-4ABE-AB3A-CF416908169F}" type="slidenum">
              <a:t>4</a:t>
            </a:fld>
          </a:p>
        </p:txBody>
      </p:sp>
    </p:spTree>
  </p:cSld>
  <p:transition>
    <p:random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Why Two Models?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412416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70000" indent="-2700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Industrial Organization (I/O) Mode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ocuses on the environment outside the firm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38240" y="1142640"/>
            <a:ext cx="403884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Resource-Based Mode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ocuses on the inside of the firm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85800" y="373392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6699"/>
                </a:solidFill>
                <a:latin typeface="Arial"/>
              </a:rPr>
              <a:t>Successful strategy formulation and implementation actions result only when the firm properly uses both mode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94B71A-78DC-4D6F-AD7D-B94FC0896A86}" type="slidenum">
              <a:t>40</a:t>
            </a:fld>
          </a:p>
        </p:txBody>
      </p:sp>
    </p:spTree>
  </p:cSld>
  <p:transition>
    <p:random/>
  </p:transition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fill="hold">
                      <p:stCondLst>
                        <p:cond delay="0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2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500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500"/>
                            </p:stCondLst>
                            <p:childTnLst>
                              <p:par>
                                <p:cTn id="4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1" dur="500"/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6" dur="500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500"/>
                            </p:stCondLst>
                            <p:childTnLst>
                              <p:par>
                                <p:cTn id="4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0" dur="500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5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Vision and Mission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Vision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 enduring picture of what the firm wants to be and, in broad terms, what it wants to ultimately achiev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tches and challenges people and evokes emotions and drea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Effective vision statements are: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eveloped by a host of people from across the organization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learly tied to external and internal environmental condition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nsistent with strategic leaders’ decisions and action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92D5FD-1F08-4158-B08F-B6FEFF7F2EEC}" type="slidenum">
              <a:t>41</a:t>
            </a:fld>
          </a:p>
        </p:txBody>
      </p:sp>
    </p:spTree>
  </p:cSld>
  <p:transition>
    <p:random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Vision and Mission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Mission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pecifies the business or businesses in which the firm intends to compete and the customers it intends to serv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s more concrete than the firm’s vision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s more effective when it fosters strong ethical standard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Above-average returns are the fruits of the firm’s efforts to achieve its vision and mission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3DBFB8-D68B-4A4E-A89A-884A25F30DD1}" type="slidenum">
              <a:t>42</a:t>
            </a:fld>
          </a:p>
        </p:txBody>
      </p:sp>
    </p:spTree>
  </p:cSld>
  <p:transition>
    <p:random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akeholder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876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Individuals and groups who can affect, and are affected by, the strategic outcomes achieved and who have enforceable claims on a firm’s performance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laims on the firm’s performance are enforced by the stakeholder’s ability to withhold participation essential to the firm’s survival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more critical and valued a stakeholder’s participation, the greater a firm’s dependency on it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nagers must find ways to either accommodate or insulate the organization from the demands of stakeholders controlling critical resourc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5BAB69-7EC7-4A0D-AF12-BFE2AC903AF5}" type="slidenum">
              <a:t>43</a:t>
            </a:fld>
          </a:p>
        </p:txBody>
      </p:sp>
    </p:spTree>
  </p:cSld>
  <p:transition>
    <p:random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akeholder Involvement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Two issues affect the extent of stakeholder involvement in the firm: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divide return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keep stakeholder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volved?</a:t>
            </a:r>
            <a:endParaRPr b="0" lang="en-US" sz="28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increas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turns so everyon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s more to share?</a:t>
            </a:r>
            <a:endParaRPr b="0" lang="en-US" sz="28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408" name="" descr=""/>
          <p:cNvPicPr/>
          <p:nvPr/>
        </p:nvPicPr>
        <p:blipFill>
          <a:blip r:embed="rId1"/>
          <a:stretch/>
        </p:blipFill>
        <p:spPr>
          <a:xfrm>
            <a:off x="4889520" y="2590920"/>
            <a:ext cx="3568680" cy="2663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770451-0F1B-4DB7-9325-85DD93AE2B1F}" type="slidenum">
              <a:t>44</a:t>
            </a:fld>
          </a:p>
        </p:txBody>
      </p:sp>
    </p:spTree>
  </p:cSld>
  <p:transition>
    <p:random/>
  </p:transition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0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2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500"/>
                            </p:stCondLst>
                            <p:childTnLst>
                              <p:par>
                                <p:cTn id="5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6" dur="500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1" dur="500"/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6" dur="500"/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09120" y="417600"/>
            <a:ext cx="8001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8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800" spc="-1" strike="noStrike">
                <a:solidFill>
                  <a:srgbClr val="cc6600"/>
                </a:solidFill>
                <a:latin typeface="Arial"/>
              </a:rPr>
              <a:t>1.4</a:t>
            </a:r>
            <a:r>
              <a:rPr b="1" i="1" lang="en-US" sz="18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Three Stakeholder Groups</a:t>
            </a:r>
            <a:endParaRPr b="0" lang="en-US" sz="20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410" name=""/>
          <p:cNvSpPr/>
          <p:nvPr/>
        </p:nvSpPr>
        <p:spPr>
          <a:xfrm>
            <a:off x="457200" y="380880"/>
            <a:ext cx="8229600" cy="46692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1" name=""/>
          <p:cNvGrpSpPr/>
          <p:nvPr/>
        </p:nvGrpSpPr>
        <p:grpSpPr>
          <a:xfrm>
            <a:off x="457200" y="485640"/>
            <a:ext cx="1828800" cy="479520"/>
            <a:chOff x="457200" y="485640"/>
            <a:chExt cx="1828800" cy="479520"/>
          </a:xfrm>
        </p:grpSpPr>
        <p:sp>
          <p:nvSpPr>
            <p:cNvPr id="412" name=""/>
            <p:cNvSpPr/>
            <p:nvPr/>
          </p:nvSpPr>
          <p:spPr>
            <a:xfrm>
              <a:off x="990720" y="485640"/>
              <a:ext cx="0" cy="479520"/>
            </a:xfrm>
            <a:prstGeom prst="line">
              <a:avLst/>
            </a:prstGeom>
            <a:ln w="2844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457200" y="79200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776240" y="1228680"/>
            <a:ext cx="5691240" cy="5110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E061E2-C35D-4A75-AECE-1618C4243BF3}" type="slidenum">
              <a:t>45</a:t>
            </a:fld>
          </a:p>
        </p:txBody>
      </p:sp>
    </p:spTree>
  </p:cSld>
  <p:transition>
    <p:random/>
  </p:transition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fill="hold">
                      <p:stCondLst>
                        <p:cond delay="0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6" dur="1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1000"/>
                            </p:stCondLst>
                            <p:childTnLst>
                              <p:par>
                                <p:cTn id="5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0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1500"/>
                            </p:stCondLst>
                            <p:childTnLst>
                              <p:par>
                                <p:cTn id="5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4" dur="1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4589640" y="1371600"/>
            <a:ext cx="394488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ital Market Stakehol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300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ahoma"/>
                <a:ea typeface="Times New Roman"/>
              </a:rPr>
              <a:t>Shareholders</a:t>
            </a:r>
            <a:br>
              <a:rPr sz="2400"/>
            </a:br>
            <a:r>
              <a:rPr b="0" lang="en-US" sz="2400" spc="-1" strike="noStrike">
                <a:solidFill>
                  <a:srgbClr val="cc3300"/>
                </a:solidFill>
                <a:latin typeface="Tahoma"/>
                <a:ea typeface="Times New Roman"/>
              </a:rPr>
              <a:t>Major suppliers of cap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77880" indent="-231840"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Ban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77880" indent="-231840"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Private len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77880" indent="-231840"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Venture capita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akeholder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grpSp>
        <p:nvGrpSpPr>
          <p:cNvPr id="417" name=""/>
          <p:cNvGrpSpPr/>
          <p:nvPr/>
        </p:nvGrpSpPr>
        <p:grpSpPr>
          <a:xfrm>
            <a:off x="533520" y="1371600"/>
            <a:ext cx="3639960" cy="1098360"/>
            <a:chOff x="533520" y="1371600"/>
            <a:chExt cx="3639960" cy="1098360"/>
          </a:xfrm>
        </p:grpSpPr>
        <p:sp>
          <p:nvSpPr>
            <p:cNvPr id="418" name=""/>
            <p:cNvSpPr/>
            <p:nvPr/>
          </p:nvSpPr>
          <p:spPr>
            <a:xfrm>
              <a:off x="533520" y="1371600"/>
              <a:ext cx="3639960" cy="10983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191e1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620640" y="1452600"/>
              <a:ext cx="3465720" cy="938160"/>
            </a:xfrm>
            <a:prstGeom prst="rect">
              <a:avLst/>
            </a:prstGeom>
            <a:gradFill rotWithShape="0">
              <a:gsLst>
                <a:gs pos="0">
                  <a:srgbClr val="191e1f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Tahoma"/>
                </a:rPr>
                <a:t>Capital Market Stakeholde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5FEE0B-5F8B-4718-B244-1460816AC142}" type="slidenum">
              <a:t>46</a:t>
            </a:fld>
          </a:p>
        </p:txBody>
      </p:sp>
    </p:spTree>
  </p:cSld>
  <p:transition>
    <p:random/>
  </p:transition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fill="hold">
                      <p:stCondLst>
                        <p:cond delay="0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1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fill="hold">
                            <p:stCondLst>
                              <p:cond delay="500"/>
                            </p:stCondLst>
                            <p:childTnLst>
                              <p:par>
                                <p:cTn id="55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5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1000"/>
                            </p:stCondLst>
                            <p:childTnLst>
                              <p:par>
                                <p:cTn id="5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9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1500"/>
                            </p:stCondLst>
                            <p:childTnLst>
                              <p:par>
                                <p:cTn id="5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3" dur="500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9" dur="500"/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2" dur="500"/>
                                        <p:tgtEl>
                                          <p:spTgt spid="4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5" dur="500"/>
                                        <p:tgtEl>
                                          <p:spTgt spid="4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xit" presetID="18" presetSubtype="9">
                                  <p:stCondLst>
                                    <p:cond delay="0"/>
                                  </p:stCondLst>
                                  <p:childTnLst>
                                    <p:animEffect filter="strips(upLeft)" transition="out">
                                      <p:cBhvr additive="repl">
                                        <p:cTn id="579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apital Market Stakeholder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hareholders and lenders expect the firm to preserve and enhance the wealth they have entrusted to it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Want the return on their investment (and, hence, their wealth) to be maximized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xpect returns to be commensurate with the degree of risk to the shareholder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Management must balance the interests of shareholders and lenders with its concerns for the firm’s future competitive ability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352AC7-53AF-4BA5-A818-3E1EC846613C}" type="slidenum">
              <a:t>47</a:t>
            </a:fld>
          </a:p>
        </p:txBody>
      </p:sp>
    </p:spTree>
  </p:cSld>
  <p:transition>
    <p:random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akeholder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grpSp>
        <p:nvGrpSpPr>
          <p:cNvPr id="423" name=""/>
          <p:cNvGrpSpPr/>
          <p:nvPr/>
        </p:nvGrpSpPr>
        <p:grpSpPr>
          <a:xfrm>
            <a:off x="533520" y="1295280"/>
            <a:ext cx="3639960" cy="1098360"/>
            <a:chOff x="533520" y="1295280"/>
            <a:chExt cx="3639960" cy="1098360"/>
          </a:xfrm>
        </p:grpSpPr>
        <p:sp>
          <p:nvSpPr>
            <p:cNvPr id="424" name=""/>
            <p:cNvSpPr/>
            <p:nvPr/>
          </p:nvSpPr>
          <p:spPr>
            <a:xfrm>
              <a:off x="533520" y="1295280"/>
              <a:ext cx="3639960" cy="10983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191e1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620640" y="1376280"/>
              <a:ext cx="3465720" cy="938160"/>
            </a:xfrm>
            <a:prstGeom prst="rect">
              <a:avLst/>
            </a:prstGeom>
            <a:gradFill rotWithShape="0">
              <a:gsLst>
                <a:gs pos="0">
                  <a:srgbClr val="191e1f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ahoma"/>
                </a:rPr>
                <a:t>Capital Market Stakeholde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6" name=""/>
          <p:cNvGrpSpPr/>
          <p:nvPr/>
        </p:nvGrpSpPr>
        <p:grpSpPr>
          <a:xfrm>
            <a:off x="557280" y="2454120"/>
            <a:ext cx="3639960" cy="1098360"/>
            <a:chOff x="557280" y="2454120"/>
            <a:chExt cx="3639960" cy="1098360"/>
          </a:xfrm>
        </p:grpSpPr>
        <p:sp>
          <p:nvSpPr>
            <p:cNvPr id="427" name=""/>
            <p:cNvSpPr/>
            <p:nvPr/>
          </p:nvSpPr>
          <p:spPr>
            <a:xfrm>
              <a:off x="557280" y="2454120"/>
              <a:ext cx="3639960" cy="10983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191e1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644400" y="2535120"/>
              <a:ext cx="3465720" cy="938160"/>
            </a:xfrm>
            <a:prstGeom prst="rect">
              <a:avLst/>
            </a:prstGeom>
            <a:gradFill rotWithShape="0">
              <a:gsLst>
                <a:gs pos="0">
                  <a:srgbClr val="191e1f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Tahoma"/>
                </a:rPr>
                <a:t>Product Market Stakeholde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9" name=""/>
          <p:cNvSpPr/>
          <p:nvPr/>
        </p:nvSpPr>
        <p:spPr>
          <a:xfrm>
            <a:off x="4589640" y="2441520"/>
            <a:ext cx="409716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t Market Stakehol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222480"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Custom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222480"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Suppl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222480"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Host commun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222480"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Un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AA23F7-0015-411A-9337-A01B8F905C26}" type="slidenum">
              <a:t>48</a:t>
            </a:fld>
          </a:p>
        </p:txBody>
      </p:sp>
    </p:spTree>
  </p:cSld>
  <p:transition>
    <p:random/>
  </p:transition>
  <p:timing>
    <p:tnLst>
      <p:par>
        <p:cTn id="581" dur="indefinite" restart="never" nodeType="tmRoot">
          <p:childTnLst>
            <p:seq>
              <p:cTn id="582" dur="indefinite" nodeType="mainSeq">
                <p:childTnLst>
                  <p:par>
                    <p:cTn id="583" fill="hold">
                      <p:stCondLst>
                        <p:cond delay="0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7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500"/>
                            </p:stCondLst>
                            <p:childTnLst>
                              <p:par>
                                <p:cTn id="58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1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1000"/>
                            </p:stCondLst>
                            <p:childTnLst>
                              <p:par>
                                <p:cTn id="5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5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1500"/>
                            </p:stCondLst>
                            <p:childTnLst>
                              <p:par>
                                <p:cTn id="5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9" dur="500"/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2000"/>
                            </p:stCondLst>
                            <p:childTnLst>
                              <p:par>
                                <p:cTn id="6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3" dur="500"/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fill="hold">
                            <p:stCondLst>
                              <p:cond delay="2500"/>
                            </p:stCondLst>
                            <p:childTnLst>
                              <p:par>
                                <p:cTn id="6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7" dur="500"/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fill="hold">
                            <p:stCondLst>
                              <p:cond delay="3000"/>
                            </p:stCondLst>
                            <p:childTnLst>
                              <p:par>
                                <p:cTn id="6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1" dur="500"/>
                                        <p:tgtEl>
                                          <p:spTgt spid="4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fill="hold">
                            <p:stCondLst>
                              <p:cond delay="3500"/>
                            </p:stCondLst>
                            <p:childTnLst>
                              <p:par>
                                <p:cTn id="6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5" dur="500"/>
                                        <p:tgtEl>
                                          <p:spTgt spid="4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xit" presetID="18" presetSubtype="9">
                                  <p:stCondLst>
                                    <p:cond delay="0"/>
                                  </p:stCondLst>
                                  <p:childTnLst>
                                    <p:animEffect filter="strips(upLeft)" transition="out">
                                      <p:cBhvr additive="repl">
                                        <p:cTn id="619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Product Market Stakeholder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Customer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emand reliable products at low pric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upplier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eek loyal customers willing to pay highest sustainable prices for goods and servic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Host communitie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Want companies willing to be long-term employers and providers of tax revenues while minimizing demands on public support servic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Union official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Want secure jobs and desirable working condition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EA0AB6-AF31-40DC-BF3C-2BFACC500D99}" type="slidenum">
              <a:t>49</a:t>
            </a:fld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mportant Definition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23440" y="1142640"/>
            <a:ext cx="8001000" cy="49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3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Risk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n investor’s uncertainty about the economic gains or losses that will result from a particular investment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3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Average Return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Returns equal to those an investor expects to earn from other investments with a similar amount of risk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3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Above-average Return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Returns in excess of what an investor expects to earn from other investments with a similar amount of risk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3F6630-EC34-472D-B0F4-F67B157A5B79}" type="slidenum">
              <a:t>5</a:t>
            </a:fld>
          </a:p>
        </p:txBody>
      </p:sp>
    </p:spTree>
  </p:cSld>
  <p:transition>
    <p:random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akeholder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547560" y="1306440"/>
            <a:ext cx="3639960" cy="1098360"/>
            <a:chOff x="547560" y="1306440"/>
            <a:chExt cx="3639960" cy="1098360"/>
          </a:xfrm>
        </p:grpSpPr>
        <p:sp>
          <p:nvSpPr>
            <p:cNvPr id="434" name=""/>
            <p:cNvSpPr/>
            <p:nvPr/>
          </p:nvSpPr>
          <p:spPr>
            <a:xfrm>
              <a:off x="547560" y="1306440"/>
              <a:ext cx="3639960" cy="10983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191e1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34680" y="1387440"/>
              <a:ext cx="3465720" cy="938160"/>
            </a:xfrm>
            <a:prstGeom prst="rect">
              <a:avLst/>
            </a:prstGeom>
            <a:gradFill rotWithShape="0">
              <a:gsLst>
                <a:gs pos="0">
                  <a:srgbClr val="191e1f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ahoma"/>
                </a:rPr>
                <a:t>Capital Market Stakeholde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6" name=""/>
          <p:cNvGrpSpPr/>
          <p:nvPr/>
        </p:nvGrpSpPr>
        <p:grpSpPr>
          <a:xfrm>
            <a:off x="557280" y="2465280"/>
            <a:ext cx="3639960" cy="1098360"/>
            <a:chOff x="557280" y="2465280"/>
            <a:chExt cx="3639960" cy="1098360"/>
          </a:xfrm>
        </p:grpSpPr>
        <p:sp>
          <p:nvSpPr>
            <p:cNvPr id="437" name=""/>
            <p:cNvSpPr/>
            <p:nvPr/>
          </p:nvSpPr>
          <p:spPr>
            <a:xfrm>
              <a:off x="557280" y="2465280"/>
              <a:ext cx="3639960" cy="10983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191e1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644400" y="2546280"/>
              <a:ext cx="3465720" cy="938160"/>
            </a:xfrm>
            <a:prstGeom prst="rect">
              <a:avLst/>
            </a:prstGeom>
            <a:gradFill rotWithShape="0">
              <a:gsLst>
                <a:gs pos="0">
                  <a:srgbClr val="191e1f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ahoma"/>
                </a:rPr>
                <a:t>Product Market Stakeholde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9" name=""/>
          <p:cNvGrpSpPr/>
          <p:nvPr/>
        </p:nvGrpSpPr>
        <p:grpSpPr>
          <a:xfrm>
            <a:off x="541440" y="3625920"/>
            <a:ext cx="3639960" cy="1098360"/>
            <a:chOff x="541440" y="3625920"/>
            <a:chExt cx="3639960" cy="1098360"/>
          </a:xfrm>
        </p:grpSpPr>
        <p:sp>
          <p:nvSpPr>
            <p:cNvPr id="440" name=""/>
            <p:cNvSpPr/>
            <p:nvPr/>
          </p:nvSpPr>
          <p:spPr>
            <a:xfrm>
              <a:off x="541440" y="3625920"/>
              <a:ext cx="3639960" cy="10983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191e1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28560" y="3706920"/>
              <a:ext cx="3465720" cy="938160"/>
            </a:xfrm>
            <a:prstGeom prst="rect">
              <a:avLst/>
            </a:prstGeom>
            <a:gradFill rotWithShape="0">
              <a:gsLst>
                <a:gs pos="0">
                  <a:srgbClr val="191e1f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Tahoma"/>
                </a:rPr>
                <a:t>Organizational Stakeholde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2" name=""/>
          <p:cNvSpPr/>
          <p:nvPr/>
        </p:nvSpPr>
        <p:spPr>
          <a:xfrm>
            <a:off x="4589640" y="3797280"/>
            <a:ext cx="3504960" cy="21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ganizational Stakehol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30040" indent="22716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Employe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30040" indent="22716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Manag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30040" indent="22716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Nonmanag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01CEEA-8598-4E94-B273-AEA6E22FDDF0}" type="slidenum">
              <a:t>50</a:t>
            </a:fld>
          </a:p>
        </p:txBody>
      </p:sp>
    </p:spTree>
  </p:cSld>
  <p:transition>
    <p:random/>
  </p:transition>
  <p:timing>
    <p:tnLst>
      <p:par>
        <p:cTn id="621" dur="indefinite" restart="never" nodeType="tmRoot">
          <p:childTnLst>
            <p:seq>
              <p:cTn id="622" dur="indefinite" nodeType="mainSeq">
                <p:childTnLst>
                  <p:par>
                    <p:cTn id="623" fill="hold">
                      <p:stCondLst>
                        <p:cond delay="0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7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fill="hold">
                            <p:stCondLst>
                              <p:cond delay="500"/>
                            </p:stCondLst>
                            <p:childTnLst>
                              <p:par>
                                <p:cTn id="62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1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fill="hold">
                            <p:stCondLst>
                              <p:cond delay="1000"/>
                            </p:stCondLst>
                            <p:childTnLst>
                              <p:par>
                                <p:cTn id="63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5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1500"/>
                            </p:stCondLst>
                            <p:childTnLst>
                              <p:par>
                                <p:cTn id="6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9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fill="hold">
                            <p:stCondLst>
                              <p:cond delay="2000"/>
                            </p:stCondLst>
                            <p:childTnLst>
                              <p:par>
                                <p:cTn id="6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3" dur="500"/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6" dur="500"/>
                                        <p:tgtEl>
                                          <p:spTgt spid="4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9" dur="500"/>
                                        <p:tgtEl>
                                          <p:spTgt spid="4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2" dur="500"/>
                                        <p:tgtEl>
                                          <p:spTgt spid="4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xit" presetID="18" presetSubtype="9">
                                  <p:stCondLst>
                                    <p:cond delay="0"/>
                                  </p:stCondLst>
                                  <p:childTnLst>
                                    <p:animEffect filter="strips(upLeft)" transition="out">
                                      <p:cBhvr additive="repl">
                                        <p:cTn id="656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Organizational Stakeholder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47840" y="114300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Employees 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xpect a dynamic, stimulating and rewarding work environment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re satisfied by a company that is growing and actively developing their skill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445" name="" descr=""/>
          <p:cNvPicPr/>
          <p:nvPr/>
        </p:nvPicPr>
        <p:blipFill>
          <a:blip r:embed="rId1"/>
          <a:stretch/>
        </p:blipFill>
        <p:spPr>
          <a:xfrm>
            <a:off x="2708280" y="3646440"/>
            <a:ext cx="4073400" cy="2567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D13C5A-BE4D-46D5-A3BA-E3E05214FE0B}" type="slidenum">
              <a:t>51</a:t>
            </a:fld>
          </a:p>
        </p:txBody>
      </p:sp>
    </p:spTree>
  </p:cSld>
  <p:transition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rategic Leader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trategic Leader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eople located in different parts of the firm who are using the strategic management process to help the firm reach its vision and mission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Prerequisites for Effective Strategic Leadership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Hard work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orough analys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Honest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esire for accomplishment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mmon sens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448" name="" descr=""/>
          <p:cNvPicPr/>
          <p:nvPr/>
        </p:nvPicPr>
        <p:blipFill>
          <a:blip r:embed="rId1"/>
          <a:stretch/>
        </p:blipFill>
        <p:spPr>
          <a:xfrm>
            <a:off x="5791320" y="3733920"/>
            <a:ext cx="2023920" cy="2438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E29751-4804-4ABA-BFBE-4A83478A8E6A}" type="slidenum">
              <a:t>52</a:t>
            </a:fld>
          </a:p>
        </p:txBody>
      </p:sp>
    </p:spTree>
  </p:cSld>
  <p:transition>
    <p:random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rategic Leader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Organizational Culture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complex set of ideologies, symbols, and core values that are shared throughout the firm and that influence how the firm conducts busines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7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The Value of a Functional Organizational Culture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upports effective delegation of strategic responsibilit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rovides support for strategic leader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ncourages social energ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osters of respect for other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7A0E6F-CC1A-4D89-A866-9EC97DC9D248}" type="slidenum">
              <a:t>53</a:t>
            </a:fld>
          </a:p>
        </p:txBody>
      </p:sp>
    </p:spTree>
  </p:cSld>
  <p:transition>
    <p:random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Predicting Outcomes of Strategic Decisions: Profit Pool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4784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576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Profit Poo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total profits earned in an industry at all points along the value chain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576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Identifying the components of a profit pool: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efine the pool’s boundari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stimate the pool’s overall siz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stimate size of each value-chain activity in the pool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Reconcile the calculations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  <a:ea typeface="Arial"/>
              </a:rPr>
              <a:t>—which activity provides the most profit potential?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248C17-EEEE-4342-A189-6B44800A5F8E}" type="slidenum">
              <a:t>54</a:t>
            </a:fld>
          </a:p>
        </p:txBody>
      </p:sp>
    </p:spTree>
  </p:cSld>
  <p:transition>
    <p:random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rategic Management Proces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0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tudy the external and internal environments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290520" indent="-290520">
              <a:spcBef>
                <a:spcPts val="10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Identify marketplace opportunities and threats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290520" indent="-290520">
              <a:spcBef>
                <a:spcPts val="10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Determine how to use core competencies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290520" indent="-290520">
              <a:spcBef>
                <a:spcPts val="10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Use strategic intent to leverage resources, capabilities and core competencies and win competitive battles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290520" indent="-290520">
              <a:spcBef>
                <a:spcPts val="10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Integrate formulation and implementation of strategies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290520" indent="-290520">
              <a:spcBef>
                <a:spcPts val="10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eek feedback to improve strategies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CAA780-A5A3-4D23-A9A3-D20531BDF71B}" type="slidenum">
              <a:t>55</a:t>
            </a:fld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mportant Definition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trategic Management Proces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full set of commitments, decisions, and actions required for a firm to achieve strategic competitiveness and earn above-average return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3886200" y="3402000"/>
            <a:ext cx="4338720" cy="2735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B42B83-66D1-4F02-A14E-B4BDA648D1B4}" type="slidenum">
              <a:t>6</a:t>
            </a:fld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066680" y="603360"/>
            <a:ext cx="6248520" cy="57862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6462720" y="488880"/>
            <a:ext cx="1919160" cy="141624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781320" y="655560"/>
            <a:ext cx="175284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cc6600"/>
                </a:solidFill>
                <a:latin typeface="Arial"/>
              </a:rPr>
              <a:t>1.1</a:t>
            </a:r>
            <a:r>
              <a:rPr b="1" i="1" lang="en-US" sz="1200" spc="-1" strike="noStrike">
                <a:solidFill>
                  <a:srgbClr val="cc6600"/>
                </a:solidFill>
                <a:latin typeface="Arial"/>
              </a:rPr>
              <a:t> </a:t>
            </a:r>
            <a:br>
              <a:rPr sz="1200"/>
            </a:br>
            <a:br>
              <a:rPr sz="12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he Strategic Management Process</a:t>
            </a:r>
            <a:endParaRPr b="0" lang="en-US" sz="14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6781680" y="684360"/>
            <a:ext cx="0" cy="479160"/>
          </a:xfrm>
          <a:prstGeom prst="line">
            <a:avLst/>
          </a:prstGeom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553080" y="990720"/>
            <a:ext cx="1828800" cy="0"/>
          </a:xfrm>
          <a:prstGeom prst="line">
            <a:avLst/>
          </a:prstGeom>
          <a:ln w="572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F73E52-E59A-48BE-A1D5-3836B54151FB}" type="slidenum">
              <a:t>7</a:t>
            </a:fld>
          </a:p>
        </p:txBody>
      </p:sp>
    </p:spTree>
  </p:cSld>
  <p:transition>
    <p:random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The 21st-Century Competitive Landscap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47840" y="12193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225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A Perilous Business World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Rapid changes in industry boundaries and market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nventional sources of competitive advantage losing effectivenes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normous investments required to compete globall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evere consequences for failur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225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Developing</a:t>
            </a: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 and Implementing Strategy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llows for planned actions rather than reaction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Helps coordinate business unit strateg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9FFADF-DF92-4463-9A01-DE2FC235C8FA}" type="slidenum">
              <a:t>8</a:t>
            </a:fld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 flipV="1">
            <a:off x="457200" y="3048120"/>
            <a:ext cx="4038480" cy="3047760"/>
          </a:xfrm>
          <a:custGeom>
            <a:avLst/>
            <a:gdLst>
              <a:gd name="textAreaLeft" fmla="*/ 969840 w 4038480"/>
              <a:gd name="textAreaRight" fmla="*/ 3068640 w 4038480"/>
              <a:gd name="textAreaTop" fmla="*/ 731880 h 3047760"/>
              <a:gd name="textAreaBottom" fmla="*/ 2315880 h 3047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5411" y="21600"/>
                </a:lnTo>
                <a:lnTo>
                  <a:pt x="6189" y="21600"/>
                </a:lnTo>
                <a:close/>
              </a:path>
            </a:pathLst>
          </a:custGeom>
          <a:gradFill rotWithShape="0">
            <a:gsLst>
              <a:gs pos="0">
                <a:srgbClr val="008080"/>
              </a:gs>
              <a:gs pos="100000">
                <a:srgbClr val="003b3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cc"/>
                </a:solidFill>
                <a:uFillTx/>
                <a:latin typeface="Arial"/>
              </a:rPr>
              <a:t>Dynamic</a:t>
            </a:r>
            <a:br>
              <a:rPr sz="2400"/>
            </a:br>
            <a:r>
              <a:rPr b="0" lang="en-US" sz="2400" spc="-1" strike="noStrike" u="sng">
                <a:solidFill>
                  <a:srgbClr val="ffffcc"/>
                </a:solidFill>
                <a:uFillTx/>
                <a:latin typeface="Arial"/>
              </a:rPr>
              <a:t>Global Economy</a:t>
            </a:r>
            <a:br>
              <a:rPr sz="24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apid technological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ange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rategic maneuvering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mong global and innovative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bat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The Competitive Landscap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19" name=""/>
          <p:cNvSpPr/>
          <p:nvPr/>
        </p:nvSpPr>
        <p:spPr>
          <a:xfrm>
            <a:off x="4191120" y="1219320"/>
            <a:ext cx="4495680" cy="11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Hypercompetition</a:t>
            </a:r>
            <a:br>
              <a:rPr sz="2800"/>
            </a:b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A condition of rapidly escalating competition based o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724280" y="2514600"/>
            <a:ext cx="38102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225360" indent="-225360">
              <a:spcBef>
                <a:spcPts val="1049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rice-quality positio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1049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mpetition to create new know-how and establish first-mover advant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1049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mpetition to protect or invade established product or geographic mark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212840" y="1219320"/>
            <a:ext cx="2444760" cy="2447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A0F04F-D5BB-42CD-97E8-C3F2D578AF0E}" type="slidenum">
              <a:t>9</a:t>
            </a:fld>
          </a:p>
        </p:txBody>
      </p:sp>
    </p:spTree>
  </p:cSld>
  <p:transition>
    <p:random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4T15:06:22Z</dcterms:created>
  <dc:creator>Charlie Cook, University of West Alabama</dc:creator>
  <dc:description/>
  <dc:language>en-US</dc:language>
  <cp:lastModifiedBy>Luis Zaviezo</cp:lastModifiedBy>
  <dcterms:modified xsi:type="dcterms:W3CDTF">2007-07-11T22:11:52Z</dcterms:modified>
  <cp:revision>54</cp:revision>
  <dc:subject>Chapter 1</dc:subject>
  <dc:title>Strategic Management 7e.</dc:title>
</cp:coreProperties>
</file>