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9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BD55D-2D5F-4446-84FD-E5F4BBBD763D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81FD-64DA-4CFF-828B-4F4B7D495027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8E6F1-4B6F-4771-A466-9E3ACEA6B4BE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B932C-C533-4289-A4A1-92C203A4C572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B097D-68E7-4F81-B51D-4E6B779885EB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MX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ABDBA-9502-4B3B-8ED6-D6B212D74F68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9B7F6-EAA7-4FC1-8ED2-0A5A4AF3A976}" type="slidenum">
              <a:rPr b="0" lang="es-MX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DB8B2-65E8-4BBC-A05C-28D0B2F719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62D4-BD16-4D2E-8DA8-6FAB4A6A4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95711-C80E-4855-8692-CBAE428DA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93D3-9ED6-465E-9DA7-A1A0923C8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F1F70-8CDC-4A17-8AC8-93658BC17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C6EA0-C208-4FCC-A1C9-E90747CE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96DCC-AABA-4E53-B042-B17BE7C3C6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867E2-F3E8-4E71-B4CF-8AF3E21DC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CF02D-06CE-4CE7-B967-B9E70C066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E9923-FFD1-41F5-984F-1E2F590DA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CBA1-5A76-49EC-AC01-A828ED9B2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D5A38-7FD8-49BC-8582-6755D9FD9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3E95B-5DB5-472D-8EF6-FE419AA61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7AD87-9185-4DAD-BEC5-22EEB6E81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43E2F-873A-47BC-BE07-EEFE761F3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67B47C-0097-4404-859C-B0331E9839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3AC78-D3DD-4F1B-A8A8-4B7DABBA6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3C9D71-400A-4A6A-9195-44D0AC36F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1FFED2-0071-4788-A135-5A5D419CD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E62A-19C8-4555-9503-F89C849A4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FC78A-48C2-4405-92EA-920ADEE6B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6EFF1D-5AA2-4722-BAEF-91E669265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F62-6A87-4927-A592-4DF1B2DE1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DF2347-21BF-471E-9671-C3C4BC771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F9166-B471-4C34-82AC-41ACC5502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FF5E3-2F6D-4562-807C-25039949D4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17F126-2262-4C35-94B7-157454DD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0E26D5-3751-4B28-B35F-02B83117D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2413E4-8D4B-4E80-B41D-F2F5F277B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E9FA3E-29F5-4E2F-BEAB-82BFD375E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F2F877-B691-4F32-AB32-17678DAED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6B779C-868F-4541-8BCB-9E6145556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BE9B7B-6D5C-408A-9D16-DD17DD16E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D97EC-6C00-4619-B52C-8D61736D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AE54FD-4C16-4F52-A4AF-0956EA93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A0966C-2395-4A86-963F-85FB6765C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CD2BDE-CA89-4128-B89F-D2385653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69CE3F-1654-40B3-8512-4E6F39A2B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F8E366-6604-44C4-BFBE-16DAF9118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0AB6F-32C0-40F9-9DBB-5E5E52ABB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59ADE4A-DB02-4349-9CFB-801214BA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FBE47F-CE30-406C-A869-2E09221339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EF1DC86-ED7A-4CEB-A41D-B039426D3E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4441-57BE-4EF2-BB13-D6FD183BC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D51DA-87C0-4C74-8206-B3239070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A881F-7BB3-4BF6-9722-22EEA9313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A97-C606-4DDA-A57D-925075E33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2F413-CF97-4C5B-9A98-FE0D43885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28EEB-01B4-4C7B-944C-D16BE83876A9}" type="slidenum"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15E20-D0B3-46FD-8263-2CB6834ECCBE}" type="slidenum"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0CE61-4CC5-4C7E-8112-6A5CDCBDA517}" type="slidenum">
              <a:rPr b="0" lang="es-MX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C4902-B8B1-4003-B9BA-C595E087FC40}" type="slidenum">
              <a:rPr b="0" lang="es-MX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Title 1" descr=""/>
          <p:cNvPicPr/>
          <p:nvPr/>
        </p:nvPicPr>
        <p:blipFill>
          <a:blip r:embed="rId1"/>
          <a:stretch/>
        </p:blipFill>
        <p:spPr>
          <a:xfrm>
            <a:off x="530280" y="1365120"/>
            <a:ext cx="8418600" cy="18957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DII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ffffff"/>
                </a:solidFill>
                <a:latin typeface="Constantia"/>
              </a:rPr>
              <a:t>5 NOVIEMBRE 2009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5" descr="http://pro.corbis.com/images/42-21548373.jpg?size=67&amp;uid=8C338461-4D1E-4083-987D-232F405CB4A2"/>
          <p:cNvPicPr/>
          <p:nvPr/>
        </p:nvPicPr>
        <p:blipFill>
          <a:blip r:embed="rId2"/>
          <a:stretch/>
        </p:blipFill>
        <p:spPr>
          <a:xfrm>
            <a:off x="500040" y="2643120"/>
            <a:ext cx="2833560" cy="36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GENDA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gentes Involuc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nsideraciones básic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spectos culturale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Opera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GENTES INVOLUCRADO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Proveedor / Clien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gente Adu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mpañía de Segur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Banc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duan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Transport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Etc.. Etc.. Etc.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9" name="Picture 5" descr="http://ops.fhwa.dot.gov/freight/intermodal/efmmanifest/images/limitedsc.png"/>
          <p:cNvPicPr/>
          <p:nvPr/>
        </p:nvPicPr>
        <p:blipFill>
          <a:blip r:embed="rId1"/>
          <a:stretch/>
        </p:blipFill>
        <p:spPr>
          <a:xfrm>
            <a:off x="3610080" y="3943440"/>
            <a:ext cx="5533920" cy="29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CONSIDERACIONES PREVIA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Normativa: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LC’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Tribun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Tiempos de viaj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Negociación agentes involucrad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Contingencia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Usos horarios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Descripción del produc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Persona de Contact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ASPECTOS CULTURALES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prender antes de negocia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Indi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China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Asesoría agencias de promoción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Constantia"/>
              </a:rPr>
              <a:t>Ferias, misiones, reuniones bilaterale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Constantia"/>
              </a:rPr>
              <a:t>Idioma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5000" spc="-1" strike="noStrike">
                <a:solidFill>
                  <a:srgbClr val="04617b"/>
                </a:solidFill>
                <a:latin typeface="Calibri"/>
              </a:rPr>
              <a:t>OPERACIÓ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215" name="Content Placeholder 3"/>
          <p:cNvGraphicFramePr/>
          <p:nvPr/>
        </p:nvGraphicFramePr>
        <p:xfrm>
          <a:off x="3338640" y="2097000"/>
          <a:ext cx="2465280" cy="4064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Content Placeholder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38640" y="2097000"/>
                    <a:ext cx="2465280" cy="406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6T13:54:18Z</dcterms:created>
  <dc:creator>Vixo</dc:creator>
  <dc:description/>
  <dc:language>en-US</dc:language>
  <cp:lastModifiedBy>Vixo</cp:lastModifiedBy>
  <dcterms:modified xsi:type="dcterms:W3CDTF">2009-11-05T19:38:35Z</dcterms:modified>
  <cp:revision>35</cp:revision>
  <dc:subject/>
  <dc:title>SITUACION JUDICIAL</dc:title>
</cp:coreProperties>
</file>