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328-CC9E-41B4-BB22-816246C2EC4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A63D-A39F-484F-A26E-6F59B1A89DB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C716-3061-4C43-B343-DF3C68BA5D5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4245-1CF9-4B30-914A-C2BBC90C228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BF0C-E17E-4901-86AB-A7EC4C2A08AC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0283-C3A5-4B1A-A0B6-34DD8CC13B4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521-5AFB-4EDF-AEEC-3C8233793D4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AC4-80A9-4433-B824-338A409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6F2-26FD-4B65-9DB2-09AF657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E90-7BE9-48D5-8013-6514BB85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8A1-F117-4191-9909-92E12F55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7A1C-CFC1-446F-889E-7616D903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117-54FC-4838-8FE2-CD81F9A3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91CA-53CA-49F6-B116-0B1456EB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0223-6364-4523-9EC1-76A07FBE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F6A9-6AA8-4B7F-9B4C-4EF91BB5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274D-CA37-40F1-9E77-D715EE65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538F-B8DD-4D6A-8725-CBA8569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CDA-C401-473A-A7D0-F247E15B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1280-6366-4B89-942A-6E20571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40F7-2043-420C-B68F-DB5E79C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3D02-E0AA-48F3-BC76-95EB090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BDF5-F4A3-4BAD-BDDA-E453CBFA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7072-C898-4AFF-9DE3-6EEBCC71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07DC-47DF-4F57-84D4-0E30480A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F03A-95AF-4080-A58C-38287149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4CCE-063A-456A-847E-12C5F27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8217-2954-4F77-B55D-F767F866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138E-CD89-42F9-B92C-2C00601D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109-1B1D-4057-99CF-97CCA903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9540-401D-4FE6-9D00-9E9559FB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65F6-1253-4032-AD7E-807FFA5C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3CBAD-8861-4CCE-8F3F-2540978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C1D4-B147-4D57-B5D2-B205EC7B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F721B-1D73-4473-AC98-CF15070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3627-5937-41EE-A8C9-05E96BC2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2E79-3444-4E19-AEB5-94F117F8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F2F0-4C2D-4E4D-895E-A94DF77A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40DB1-2F64-428F-A5BA-3B943C1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6F53-B1B5-4347-B7FD-2908F79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E25-665F-451E-8532-1E96EF85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04C10-05D9-42CB-8D60-4AD99CDE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87F81-5126-415D-B758-64E14EFD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B276-40C9-4874-93CA-0FE31E9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2614-3FF7-45B8-A613-93B4CFF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3A22-BAA9-4CBC-8299-11DCBFB9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B39E-4A68-432F-8198-9E5D0F3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98F0-E81A-4A57-950D-728BB915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85E5-AFEC-454A-BE84-E9B50F45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1F41-5D9C-4677-8562-71A3A33C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C19-FDEB-467D-8BAD-299CE6C1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9D4-E072-42F1-B301-031A7A28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992-AD08-44F3-B17E-BF03ABE6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F2E-91BA-4AA4-9DB5-FAF2413A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9F0-723C-4B3E-A8A8-330C536E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21D-1FD3-48F7-9513-C404EE78FED4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7B23-72E9-44C8-831D-48B41BE8E3A8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6AC7-33E2-4B69-BCBC-EB937D75ED6E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16A-76F3-4AF4-BC91-0531E3209108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1860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D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5 NOVIEMBRE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http://pro.corbis.com/images/42-21548373.jpg?size=67&amp;uid=8C338461-4D1E-4083-987D-232F405CB4A2"/>
          <p:cNvPicPr/>
          <p:nvPr/>
        </p:nvPicPr>
        <p:blipFill>
          <a:blip r:embed="rId2"/>
          <a:stretch/>
        </p:blipFill>
        <p:spPr>
          <a:xfrm>
            <a:off x="500040" y="2643120"/>
            <a:ext cx="28335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sideraciones bás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pectos cultur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Oper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TES INVOLUCR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oveedor / Cl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 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mpañía de Segu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Ban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tc.. Etc..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http://ops.fhwa.dot.gov/freight/intermodal/efmmanifest/images/limitedsc.png"/>
          <p:cNvPicPr/>
          <p:nvPr/>
        </p:nvPicPr>
        <p:blipFill>
          <a:blip r:embed="rId1"/>
          <a:stretch/>
        </p:blipFill>
        <p:spPr>
          <a:xfrm>
            <a:off x="3610080" y="3943440"/>
            <a:ext cx="5533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ONSIDERACIONES PREV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ormativ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LC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iempos de via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egociación 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tinge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Usos hor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escripción del produ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ersona de Conta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SPECTOS CULTUR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prender antes de negoci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esoría agencias de promo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Ferias, misiones, reuniones bilater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Idi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OPER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Content Placeholder 3"/>
          <p:cNvGraphicFramePr/>
          <p:nvPr/>
        </p:nvGraphicFramePr>
        <p:xfrm>
          <a:off x="3338640" y="2097000"/>
          <a:ext cx="24652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2097000"/>
                    <a:ext cx="24652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3:54:18Z</dcterms:created>
  <dc:creator>Vixo</dc:creator>
  <dc:description/>
  <dc:language>en-US</dc:language>
  <cp:lastModifiedBy>Vixo</cp:lastModifiedBy>
  <dcterms:modified xsi:type="dcterms:W3CDTF">2009-11-05T19:38:35Z</dcterms:modified>
  <cp:revision>35</cp:revision>
  <dc:subject/>
  <dc:title>SITUACION JUDICIAL</dc:title>
</cp:coreProperties>
</file>