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012-14AA-4928-8DD9-1A559921B1B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709-D800-45FE-B9DE-267F05EF5B9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8AC5-44B8-4763-94E4-5CBB1982601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E73-0CF6-47F7-9599-91CEBDB4CF1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F31D-A7FF-49AE-A40D-AB5263E5576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B3B-86AE-45AB-B423-ECAC89D6C29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27B8-E5D0-4DD4-B201-3101246DB9E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995-14D5-4671-9214-77465037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AAE-7D6B-4E32-AA87-03FAC0D6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F85-F771-40F7-B308-E19A6295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AE4-AB90-4209-8849-B7C92F7F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A65-16E6-44CC-811F-9F529BDC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7D72-F9DD-406D-B2BD-FE9D82B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FE43-D7A6-4B51-BAA5-F77EA45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6FBF-BCA9-496A-9932-3196D3F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053-058E-46E9-AA8C-5241C8F8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8BF4-7CE8-47FC-A594-6BB69753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D43D-1045-46B6-BFC5-A59CFA0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554-FA4D-442F-B8FD-86C6D92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CAB-9113-4DFA-B0A0-012A36F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C3A7-E79B-48AE-A203-D438A04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8C4F-AE67-48FF-A49A-A43050A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CD34-06BC-4696-8369-2F6C33F3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8F4-4B24-4CF3-9A1E-F137A293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BF7C-8E0E-4FE1-AC76-852EC9F9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FFAB-5D71-4AAA-BC82-349ADBE5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D57F-2866-4792-9BE1-9E30A2E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9745-B128-48B0-83EA-84D1FE3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2281-DC83-4A0D-9429-2BD2A12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C43-4539-4A1D-B6C0-7A3755B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CA5B-F0A1-4869-AAE6-3B4DA38F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03A3-C3DA-4B5D-9B9C-B43AEB7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F41C-1F35-45C1-BD50-F45DC0A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7495-0D27-462C-9808-B2FC2E4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41FA-4228-40F4-A913-AAC52BBF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170B-D6D8-46DC-A529-E4A384A3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5457-6F33-461A-A31F-02F83D0C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C1ED-70EC-4221-B190-033548C3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C345-394F-4617-812E-839FA24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0018-745D-4FB9-B88F-11302C3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6F1-F845-4E9E-8065-CD4C3AA0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F4F1-7F64-4ABA-9B4F-919BA65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875B-880E-4899-B4E5-FE6017E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0089-E555-42D6-9314-9FB04D0C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78F8-D987-4F70-807E-87042C1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0EDA-9669-4300-AA62-41C6D3BA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CDAC-F97F-473D-B8AB-79B217F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9BB2-C6A0-47B6-A8B6-E7E6891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D5A4-02B1-4CFA-B00A-B1C07C61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6BCB-BA87-41E4-9134-E0819B0E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9C2-F33D-4242-8368-451E87B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CF8-67D0-4098-9AEC-A6C46E6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D58-02F2-4093-B67A-7A45556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514-B20A-4073-A03D-A9C951A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386-A1F9-426A-B712-0EB7874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DFC5-09CB-4890-BF1E-E72BB83E100A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C256-0FD5-4D28-A42D-D1976161AE9F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A00-0A43-4879-8487-32039098A3DE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0751-C179-4A6C-A431-5D3B4EED7870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860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D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5 NOVIEMBRE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pro.corbis.com/images/42-21548373.jpg?size=67&amp;uid=8C338461-4D1E-4083-987D-232F405CB4A2"/>
          <p:cNvPicPr/>
          <p:nvPr/>
        </p:nvPicPr>
        <p:blipFill>
          <a:blip r:embed="rId2"/>
          <a:stretch/>
        </p:blipFill>
        <p:spPr>
          <a:xfrm>
            <a:off x="500040" y="2643120"/>
            <a:ext cx="28335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sideraciones bás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pectos cultur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Ope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TES INVOLUCR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oveedor / Cl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 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mpañía de Segu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B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tc.. Etc..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http://ops.fhwa.dot.gov/freight/intermodal/efmmanifest/images/limitedsc.png"/>
          <p:cNvPicPr/>
          <p:nvPr/>
        </p:nvPicPr>
        <p:blipFill>
          <a:blip r:embed="rId1"/>
          <a:stretch/>
        </p:blipFill>
        <p:spPr>
          <a:xfrm>
            <a:off x="3610080" y="3943440"/>
            <a:ext cx="5533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ONSIDERACIONES PREV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ormativ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LC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iempos de vi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egociación 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ting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Usos hor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escripción del produ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ersona de Cont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SPECTOS CULTUR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prender antes de negoci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esoría agencias de promo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Ferias, misiones, reuniones bilater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di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OPER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Content Placeholder 3"/>
          <p:cNvGraphicFramePr/>
          <p:nvPr/>
        </p:nvGraphicFramePr>
        <p:xfrm>
          <a:off x="3338640" y="2097000"/>
          <a:ext cx="24652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2097000"/>
                    <a:ext cx="24652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54:18Z</dcterms:created>
  <dc:creator>Vixo</dc:creator>
  <dc:description/>
  <dc:language>en-US</dc:language>
  <cp:lastModifiedBy>Vixo</cp:lastModifiedBy>
  <dcterms:modified xsi:type="dcterms:W3CDTF">2009-11-05T19:38:35Z</dcterms:modified>
  <cp:revision>35</cp:revision>
  <dc:subject/>
  <dc:title>SITUACION JUDICIAL</dc:title>
</cp:coreProperties>
</file>