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80EE-09A4-412B-B7AE-875A5682C19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1E70-49FE-4B93-9C71-810A7AF35EE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8504-84F7-46C0-8E77-B94E3AE6DA2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0F2F-5714-49E5-A343-2B66F1C51597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DC6C-FD50-4CA0-B252-4DAD573DE9E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488D-A4D3-43FA-8F78-C2167B0300D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ED5B-65B6-4E3B-B6BC-CA60F28427B9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0BE-3B4D-4204-9765-EE37BB43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7D41-C4FA-472C-B02A-32A67582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2E0-C7C2-4548-B891-491DC429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4F61-9A6F-44E6-BC69-6D2CB95F8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4088-9DB2-4F67-BC23-51E13E70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65A9-0556-45E6-B3F3-982C2DD7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4F92-2577-4A70-B777-EC774186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98D4-926B-47AA-AD06-EED527A3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02F9-88F0-45F7-AEE3-0CF9E939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4CFC-5EBF-44BE-A55F-9DCD0041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D805-959A-46CF-B9E1-11276E47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7AF5-8E4A-4807-9606-7908515C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05FD-9647-4280-8EB1-BEBE2937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0ED5-54A4-4E7D-8C3F-FA5C9901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7453-E73C-43F3-B8FA-E4754522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A9D7-F674-4764-AFA8-ECCACC27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FC59-4339-49FF-A5CC-7BEA4C13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9F8B-3297-4DB2-8433-F65AB835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C5FC-B2EC-48F6-8955-B087C2E0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5D8E0-F9BE-4184-AE37-E9054ACE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641B6-0F71-4AC0-A8BA-A1BDABC5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DB0D4-2E4D-4880-95E9-A8D5D868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F39-EF29-4D6F-A32B-ED64CDC6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090C6-8EDF-40D3-B701-E9DB1B89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A969B-2D37-4E3C-90C9-63E25536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258A0-90E4-44C4-8F7E-039773CD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EF03-91C3-4BC0-9D1C-BBE3964C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7E3CA-56CB-462F-A07A-5C073EB4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05C64-028C-44F6-8C57-2E1F5B5FE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A52C5-74DE-4214-AB32-BA99EF56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BA28F-D505-444E-9834-A58292F5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93F9D-86E5-4FAF-AA05-7DB51218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CEE56-9CCA-4E26-97C3-827C52EB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BDB-D3DC-4B12-A3AD-054D2555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76C20-C53C-4E3B-80A3-E1D2A44B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38889-A02E-4C04-A8E3-FC1B48D9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8ED10-C75F-4468-B53F-A7A1C802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496B-B8EA-49AB-9B98-26B7EAB2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4C233-E4DD-459A-B0A1-0673C03D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48991-BB3D-472F-9C44-3DE7A9B0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75DCA-DA1C-4944-B33A-A8361AE0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670C2-4C93-42C6-96BB-CA6F0B6C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64D3F-92BA-4DDA-A5F8-DF78E99A2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7DC-7AE3-4FE7-ADCF-3E5F82F8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7520-7D33-4473-B08E-5FEBFDE8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21E-0503-4E3F-B458-8618D83A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3C1D-7EFA-4C84-A89E-A0B2523A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F54-BA2A-470C-ADA5-22D013AA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0BB7-62B5-4732-B4E3-D5E517CC71DD}" type="slidenum"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8044-55A4-4C61-B95F-7B89DFC6E8BD}" type="slidenum"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B324-4F2D-4E12-BD67-78C5C8F8153E}" type="slidenum"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38B2-3A2D-4564-9933-D6D3736E8AFC}" type="slidenum"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18600" cy="1895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nstantia"/>
              </a:rPr>
              <a:t>DI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nstantia"/>
              </a:rPr>
              <a:t>5 NOVIEMBRE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http://pro.corbis.com/images/42-21548373.jpg?size=67&amp;uid=8C338461-4D1E-4083-987D-232F405CB4A2"/>
          <p:cNvPicPr/>
          <p:nvPr/>
        </p:nvPicPr>
        <p:blipFill>
          <a:blip r:embed="rId2"/>
          <a:stretch/>
        </p:blipFill>
        <p:spPr>
          <a:xfrm>
            <a:off x="500040" y="2643120"/>
            <a:ext cx="283356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gentes Involucr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Consideraciones bás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spectos cultur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Oper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GENTES INVOLUCRA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Proveedor / Cli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gente Adu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Compañía de Segur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Ban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du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Transpor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Etc.. Etc.. Etc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5" descr="http://ops.fhwa.dot.gov/freight/intermodal/efmmanifest/images/limitedsc.png"/>
          <p:cNvPicPr/>
          <p:nvPr/>
        </p:nvPicPr>
        <p:blipFill>
          <a:blip r:embed="rId1"/>
          <a:stretch/>
        </p:blipFill>
        <p:spPr>
          <a:xfrm>
            <a:off x="3610080" y="3943440"/>
            <a:ext cx="5533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CONSIDERACIONES PREV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Normativa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TLC’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Tribun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Tiempos de viaj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Negociación agentes involucr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Contingenc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Usos hor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Descripción del produc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Persona de Contac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SPECTOS CULTUR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prender antes de negoci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sesoría agencias de promo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Ferias, misiones, reuniones bilater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Idio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OPER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5" name="Content Placeholder 3"/>
          <p:cNvGraphicFramePr/>
          <p:nvPr/>
        </p:nvGraphicFramePr>
        <p:xfrm>
          <a:off x="3338640" y="2097000"/>
          <a:ext cx="24652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2097000"/>
                    <a:ext cx="24652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3:54:18Z</dcterms:created>
  <dc:creator>Vixo</dc:creator>
  <dc:description/>
  <dc:language>en-US</dc:language>
  <cp:lastModifiedBy>Vixo</cp:lastModifiedBy>
  <dcterms:modified xsi:type="dcterms:W3CDTF">2009-11-05T19:38:35Z</dcterms:modified>
  <cp:revision>35</cp:revision>
  <dc:subject/>
  <dc:title>SITUACION JUDICIAL</dc:title>
</cp:coreProperties>
</file>