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9FD3-1424-418D-84C1-2FFBCB1B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832B-A3DC-4BA4-B153-25C2F821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42C-1CEE-4260-B3A5-E784A22D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B673-BB28-4BDA-A96B-8923F18B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DD7-0DB9-42D0-A988-6F279E7F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8EB4-F25C-4807-8CD0-66ACC3A3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4A81-51CF-41DF-A494-EEEC42B4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B8FA-0B42-4A13-A064-2694CA99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579-B224-4868-98C7-75B86358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4B0-8357-48D9-9CC4-DC4A07E8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D1B-8006-4FCA-9AF6-A6824F71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D1AE-C942-4F29-8E85-42E4D949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58DE-4B06-4555-A023-48CC68F41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alancamiento/Leverage de los Ban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el verdadero fin de estos Conduits siempre fue </a:t>
            </a:r>
            <a:r>
              <a:rPr b="0" lang="es-ES_tradnl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requerimientos de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novación financiera para eludir la regu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tengo activos de alta calidad en el balance sheet, un 8% debe ser mío (osea, $12,5 puedo conseguir con $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ner $ mía es altamente cost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cond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dit enhancement pide un poco 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quidity enhancement pide mucho menos 0,8% =&gt; con 1 peso mío puedo tener $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total, me permite mayor le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resultado, los Bancos han usado los cond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la crisis, los activos han vuelto a los Ban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sabía hasta qué magnitud ello golpearía a los Ban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structura compleja hacía que no se sabía a quién golpea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cline in Asset Backed Commercial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44600" y="1600200"/>
            <a:ext cx="6454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n Largests Conduits Administrators by Size </a:t>
            </a:r>
            <a:br>
              <a:rPr sz="28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$ Amounts in Billions, January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2022480"/>
          <a:ext cx="8229600" cy="3638520"/>
        </p:xfrm>
        <a:graphic>
          <a:graphicData uri="http://schemas.openxmlformats.org/drawingml/2006/table">
            <a:tbl>
              <a:tblPr/>
              <a:tblGrid>
                <a:gridCol w="1606680"/>
                <a:gridCol w="906480"/>
                <a:gridCol w="1199880"/>
                <a:gridCol w="303480"/>
                <a:gridCol w="979200"/>
                <a:gridCol w="868680"/>
                <a:gridCol w="1153800"/>
                <a:gridCol w="12114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u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minist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/As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/Equ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ti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N Amr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 of Ame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B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PMorgan C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S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8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cieté Génér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utsche 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c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stL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6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lación ABCP y Precio 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33560" y="1600200"/>
            <a:ext cx="7076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Risk Weighted Assets son las ponderaciones que se les dan a los activos según Riesgo (Bas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entras los activos totales de los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ucho, ponderados por riesgo lo hicieron de menor man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ación en el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 activos totales y activos ponderados =&gt; acumulación de activos con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ncos aumentaron sus transacciones e inversiones en AAA generados por ellos mismos en S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ncos acumularon activos a través de conduits, pero estos no los tomaban en cuenta en los Risk-weighted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en buena posición en teoría, 7-9% capital to risk weighted assets (norma era 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recimiento de Activos Totales y Activos Ponderados por Ries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265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amos como se comportan los pesos por ries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ctivo seguro =&gt; W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ctivo riesgoso =&gt; W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tonces si razón Total Assets/Risk Weighted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/RWA es alto =&gt; Banco Seg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/RWA es bajo =&gt; Banco con alto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lo tanto, uno esperaría que los bancos con alto A/RWA salieran bien de la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Stock Performance to Risk-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9800" y="1600200"/>
            <a:ext cx="532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se puede observar, pasa todo lo cont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ncos más seguros según Basel eran los más riesg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ncos más riesgosos eran los más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se explica es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zás fue solo mala s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zás los Bancos descubrieron como engañar el sistema y el shock hizo aquellos que hacían más trampas para evitar tener capital pagaran las cons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sta ahora es claro q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CAS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&gt; Crisis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, ¿por qué ha sido tan grave y han quebrado tantos banc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puesta: Alto nivel de apalancamiento (Debt/Asse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hadow Banking System (Instituciones Financieras que actuaban como Bancos) podía apalancarse mu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Bancos formales eran regulados, ¿cómo evadieron la regu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puesta: credit risk transfer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canismos para traspasar riesgo a inversion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, se usaron para arbitrar la regulación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u le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risis simplemente barrió con su liquidez y v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principio, inversión en AAA para cumplir 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búrbuja, inversión AAA era la prefer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fácil de engañar y reguladores no se dieron cu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enfocada en riesgo individual y no sist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te crisis sistémica, los Bancos esperan que los sal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4832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2015640"/>
                <a:gridCol w="2022480"/>
              </a:tblGrid>
              <a:tr h="7606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-Backed Securities' Exposure Concentrations (July 20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 of Instit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Buyer of AAA AB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u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V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dge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ey Market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Resumen, los Bancos evadieron la regulación para lograr altos niveles de apal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nivel de apalancamiento es típicamente procíc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booms, los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everage, prestando a 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busts, los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everage y no quieren pr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lu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rrar trampas para evadir 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dir un apalancamiento contracíc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s Clasificadoras de Riesg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 Rating A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Rol de Rating Agencies en la Cr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un rol central de las Rating Agencies al clasificar como bajo riesgo activos que no lo 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vel de Colateral dependía de la clasificación d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s-ES_tradnl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CAS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se hace evidente que las clasificadoras eran muy optim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án en revisión, ya que por su rol clave sus errores tienen graves con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ol de Rating A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Rating Agencies básicamente ofrecen su juicio sobre la credibilidad del crédito de un activo determi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AA, AA, A, BBB, BB (S&amp;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inversionistas siempre quieren saber la credibilidad/riesgo de los activ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ting Agencies son una fuente de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¡Pero no tiene porque ser la únic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embargo, actualmente juegan un rol central en los merc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ntenderlo, veamos la 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istoria Rating A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icio a comienzos de siglo 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909 Moody, 1916 Poor, 1922 Standard Statistics, 1924 F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: El inversionista paga por los 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1930 y 1936, los reguladores instauraron que los bonos en que invierten los bancos debieran ser clasificados por Rating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s décadas siguientes, reguladores de seguros hicieron lo m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1970s, modelo cambió a emisor paga por los ratings (“issuer pays”, fotocopiado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1975, la SEC estableció niveles de capital con cierto nivel de calificación, luego otros hicieron lo m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evitar una Rating Agencie instrumental, se creó la categoría NRSRO que incluía a Moody, S&amp;P y F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rent Nationally Recognized Statistical Rating Organizations (NRSROs) and Their Year of Designation by the Securities and Exchange Commission (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579920"/>
        </p:xfrm>
        <a:graphic>
          <a:graphicData uri="http://schemas.openxmlformats.org/drawingml/2006/table">
            <a:tbl>
              <a:tblPr/>
              <a:tblGrid>
                <a:gridCol w="4992840"/>
                <a:gridCol w="3236760"/>
              </a:tblGrid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NRS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 of Desig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ody'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&amp; Poor'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minon Bond Rating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.M. B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pan Credit Rating Ag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ing and Information, In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gan-J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ce Finan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lpo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ente: White (2006), S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33400" y="743040"/>
            <a:ext cx="56772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ssuer pays”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isor va a elegir la agencia que le de la mejor 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las agencias atraerán más clientes en la medida que den mejores clasif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a te premiaba por dar el mejor análisis y la clasificación más ju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de NRSRO quitaba incentivos a buscar otras fuentes de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tir en activo riesgoso, pero igual clasificado AAA es estrategia válida si quiero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or qué ahora fue un gran probl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ueva Ing. Financiera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mpleja, díficil de clasificar paqu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encia asesoraba a clientes sobre cómo lograr 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lejidad y Ra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814400"/>
            <a:ext cx="822960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bitraje de regulación de 2 man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ff-balance-sheet asset-backed commercial paper (ABCP) y structured investment vehicles (SIV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BCP daban posibilidades de liquidez y crédito a los inversionistas que lo pidier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alidad activos =&gt; inversionistas rescatan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querimientos de calidad eran menores para dichos mecanis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ff-sheets permitían un leverage 5 veces mayor que on-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agencias también son más lentas que el mercado en ajustar ra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 EN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presa sufre un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rcado reconoce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ting Agency reconoce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gencia clasifica mal ahora a una empresa, en la próxima emisión la empresa no la contrata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or pays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entivos al revés, inversionista quiere peor rating posible para la de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rsionistas que ya tienen deuda presionan para evitar downgrades y aumentar up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formación viaja más l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ibles solu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ssuer Pay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ciembre de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pueden clasificar Deuda que ellos ayudaron a estruct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permitir que analistas participen en la negociación de las tarif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recibir regalos de las empresas calific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nsparencia en construcción de r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r una calificación ci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mpresas envían a una central su de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ntral envía a una Rating Agency al a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abilidades dependen de calidad mostrada históricamente por la A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rifa según producto calif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s modelos: “hybrid” (ambos pagan), “advertiser pays”, “loss leader” (ratings gratis, pero otra info no), “joint venture” (varios inversionistas pagan por ra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empezaron acumular CDOs y CLOs AAA que tenían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equer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50% de todos los AAA asset-backed securities se quedaron en el sistema banc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í, bancos con hartos conduits e inversiones sin mayores requerimientos perdieron + y su acción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viamente hay 2 problemas básicos por lo que la regulación fue inadecu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focarse en 1 sola variable (capital to suitably risk-weighted assetes) genera g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co principal hasta ahora está en la regulación de instituciones individuales, en vez del riesgo agre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redit Risk Transfer y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Leve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ramente la crisis mostró que leverage imp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 el 2003 y 2007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everage efectivo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alidad de prést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estuvieron expuestos a que un shock importante los dejara sin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hock f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faults de préstamos subprime en el 2006 y 2007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C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hock =&gt; hay que deleverage =&gt; vender muchos activos riesgo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toparon con que muchos de sus activos en realidad resultaron ilíqu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228760"/>
            <a:ext cx="4038480" cy="3268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27852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redit Risk Transfer y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Leve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los bancos regulados pudieron hacer tanto lever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se acumuló tanto riesgo en el este sector regul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puesta: Credit-risk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erramienta para traspasar ries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o también para arbitrar 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BCP y SIV cond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umulación de activos AAA por ban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 tipo de instrumento usado para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le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añías armadas para tener diferentes activos financieros (como Fondos de Invers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ualmente tenían activos AAA o de alta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tienen empleados, ofi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 manejo es llevado por otra compañía (el banco o institución que armó el AB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ministrador invierte según lineamientos generales en ABCP o activos generados por el administrador o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característica especial es que dan la posibilidad a las firmas de devolver activos al creador del conduit (recou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ctivos de conduits producen pérdidas =&gt; cliente le pide al Banco que le recompre los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decir, activos off-sheet =&gt; activos on-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2 tipos de re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quidity enhancement: Quiero liquidar activo y no puedo por falta de liquidez =&gt; Banco me compra el 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dit enhancement: Si no me pagan lo que se supone =&gt; Banco me cubre las pérd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sea, al cliente le conviene inver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ne activos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tengo necesidad de liquidez o no me pagan, Banco me ay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21:28:47Z</dcterms:created>
  <dc:creator>WinuE</dc:creator>
  <dc:description/>
  <dc:language>en-US</dc:language>
  <cp:lastModifiedBy>WinuE</cp:lastModifiedBy>
  <dcterms:modified xsi:type="dcterms:W3CDTF">2009-08-23T22:49:37Z</dcterms:modified>
  <cp:revision>13</cp:revision>
  <dc:subject/>
  <dc:title>Apalancamiento/Leverage de los Bancos</dc:title>
</cp:coreProperties>
</file>