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B5A-5D8E-493E-891B-2F660A69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EF9-7F20-408C-A202-EDF9966E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481-BC4F-4801-8C3E-42688BD3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689-0514-4567-B5B2-E4AF70AC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80F-B65C-4D15-979D-0045F1E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239-EE77-4704-B8C4-C6661C9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734-9CA8-442E-801A-A6BD8957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53B-5FF1-408F-A06B-7182573F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BAA-8370-4403-8862-8FFA4F42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AFC-CB56-4C59-910E-0F6E280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69A-59C2-4D62-9F65-A23311A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4BD-A5D5-4836-B8CC-E656B46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0A2F-176A-42B4-8C51-E625A1D5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alancamiento/Leverage de los 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verdadero fin de estos Conduits siempre fu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equerimientos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novación financiera para eludir la 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tengo activos de alta calidad en el balance sheet, un 8% debe ser mío (osea, $12,5 puedo conseguir con $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er $ mía es altamente cost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dit enhancement pide un poc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ity enhancement pide mucho menos 0,8% =&gt; con 1 peso mío puedo tener $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tal, me permite mayor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, los Bancos han usado los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risis, los activos han vuelto a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abía hasta qué magnitud ello golpearía a los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ructura compleja hacía que no se sabía a quién golpe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cline in Asset Backed Commercial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 Largests Conduits Administrators by Size 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 Amounts in Billions, January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22480"/>
          <a:ext cx="8229600" cy="3638520"/>
        </p:xfrm>
        <a:graphic>
          <a:graphicData uri="http://schemas.openxmlformats.org/drawingml/2006/table">
            <a:tbl>
              <a:tblPr/>
              <a:tblGrid>
                <a:gridCol w="1606680"/>
                <a:gridCol w="906480"/>
                <a:gridCol w="1199880"/>
                <a:gridCol w="303480"/>
                <a:gridCol w="979200"/>
                <a:gridCol w="868680"/>
                <a:gridCol w="1153800"/>
                <a:gridCol w="1211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é Géné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ón ABCP y Precio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isk Weighted Assets son las ponderaciones que se les dan a los activos según Riesgo (Ba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los activos totales de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ucho, ponderados por riesgo lo hicieron de menor m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en e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activos totales y activos ponderados =&gt; acumulación de activos co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umentaron sus transacciones e inversiones en AAA generados por ellos mismos en S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cumularon activos a través de conduits, pero estos no los tomaban en cuenta en los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n buena posición en teoría, 7-9% capital to risk weighted assets (norma era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Activos Totales y Activos Ponderados por Ries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6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como se comportan los pesos po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segur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riesgos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onces si razón Total Assets/Risk Weight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alto =&gt; Banco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bajo =&gt; Banco con alto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uno esperaría que los bancos con alto A/RWA salieran bien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Stock Performance to Risk-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se puede observar, pasa todo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seguros según Basel eran los más riesg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riesgosos eran los más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explica 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fue solo mala s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los Bancos descubrieron como engañar el sistema y el shock hizo aquellos que hacían más trampas para evitar tener capital pagaran las 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ahora es claro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&gt;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, ¿por qué ha sido tan grave y han quebrado tantos ban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Alto nivel de apalancamiento (Debt/Asse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adow Banking System (Instituciones Financieras que actuaban como Bancos) podía apalancarse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Bancos formales eran regulados, ¿cómo evadieron la reg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credit risk transfer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para traspasar riesgo a 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se usaron para arbitrar la regulación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risis simplemente barrió con su liquidez y v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rincipio, inversión en AAA para cumpl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búrbuja, inversión AAA era la pref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ácil de engañar y reguladores no se diero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enfocada en riesgo individual y n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crisis sistémica, los Bancos esperan que los sa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5640"/>
                <a:gridCol w="2022480"/>
              </a:tblGrid>
              <a:tr h="76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-Backed Securities' Exposure Concentrations (July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I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uyer of AAA 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ey Marke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men, los Bancos evadieron la regulación para lograr altos niveles de apal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ivel de apalancamiento es típicamente pro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oom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, prestando 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ust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y no quieren pr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rar trampas para evad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un apalancamiento contracíc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s Clasificadoras de Riesg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l de Rating Agencies en la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un rol central de las Rating Agencies al clasificar como bajo riesgo activos que no lo 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 de Colateral dependía de la clasificación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se hace evidente que las clasificadoras eran muy opti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n en revisión, ya que por su rol clave sus errores tienen grave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ating Agencies básicamente ofrecen su juicio sobre la credibilidad del crédito de un activo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AA, AA, A, BBB, BB (S&amp;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siempre quieren saber la credibilidad/riesgo de los ac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g Agencies son una fuente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Pero no tiene porque ser la ún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actualmente juegan un rol central en los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ntenderlo, veamos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istoria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o a comienzos de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09 Moody, 1916 Poor, 1922 Standard Statistics, 1924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: El inversionista paga por los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30 y 1936, los reguladores instauraron que los bonos en que invierten los bancos debieran ser clasificados por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s décadas siguientes, reguladores de segu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1970s, modelo cambió a emisor paga por los ratings (“issuer pays”, fotocopiad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75, la SEC estableció niveles de capital con cierto nivel de calificación, luego ot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vitar una Rating Agencie instrumental, se creó la categoría NRSRO que incluía a Moody, S&amp;P y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rent Nationally Recognized Statistical Rating Organizations (NRSROs) and Their Year of Designation by the Securities and Exchange Commission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4992840"/>
                <a:gridCol w="3236760"/>
              </a:tblGrid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NRS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of Desig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&amp; Poo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on Bond Rating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M. 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 Credit Rating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 and Information,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an-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e 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White (2006), 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3400" y="743040"/>
            <a:ext cx="5677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or va a elegir la agencia que le de la mejor 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s agencias atraerán más clientes en la medida que den mejores clas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 te premiaba por dar el mejor análisis y la clasificación más 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de NRSRO quitaba incentivos a buscar otras fuentes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activo riesgoso, pero igual clasificado AAA es estrategia válida si quiero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ahora fue un gran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 Ing. Financie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leja, díficil de clasificar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cia asesoraba a clientes sobre cómo lograr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jidad y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bitraje de regulación de 2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-balance-sheet asset-backed commercial paper (ABCP) y structured investment vehicles (SIV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BCP daban posibilidades de liquidez y crédito a los inversionistas que lo pidie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activos =&gt; inversionistas rescatan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erimientos de calidad eran menores para dichos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f-sheets permitían un leverage 5 veces mayor que on-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gencias también son más lentas que el mercado en ajustar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EN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sufre un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rcado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ting Agency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gencia clasifica mal ahora a una empresa, en la próxima emisión la empresa no la contrata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or pays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ntivos al revés, inversionista quiere peor rating posible para 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s que ya tienen deuda presionan para evitar downgrades y aumentar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viaja más 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s 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ciembre d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ueden clasificar Deuda que ellos ayudaron a estruct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ermitir que analistas participen en la negociación de las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ibir regalos de las empresas cal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en construcción d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a calificación 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envían a una central su de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tral envía a una Rating Agency al 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abilidades dependen de calidad mostrada históricamente por la 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rifa según producto cal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modelos: “hybrid” (ambos pagan), “advertiser pays”, “loss leader” (ratings gratis, pero otra info no), “joint venture” (varios inversionistas pagan por ra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mpezaron acumular CDOs y CLOs AAA que tenía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% de todos los AAA asset-backed securities se quedaron en el sistema ban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bancos con hartos conduits e inversiones sin mayores requerimientos perdieron + y su acc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viamente hay 2 problemas básicos por lo que la regulación fue in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carse en 1 sola variable (capital to suitably risk-weighted assetes) genera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o principal hasta ahora está en la regulación de instituciones individuales, en vez del 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amente la crisis mostró que leverage i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el 2003 y 2007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efectivo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stuvieron expuestos a que un shock importante los dejara si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hock f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de préstamos subprime en el 2006 y 2007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ock =&gt; hay que deleverage =&gt; vender muchos activos riesg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oparon con que muchos de sus activos en realidad resultaron i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26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78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os bancos regulados pudieron hacer tanto le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acumuló tanto riesgo en el este sector regu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uesta: Credit-risk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ramienta para traspasa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también para arbitrar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P y SIV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umulación de activos AAA por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tipo de instrumento usado para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ñías armadas para tener diferentes activos financieros (como Fondos de Inver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lmente tenían activos AAA o de alt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tienen empleados,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manejo es llevado por otra compañía (el banco o institución que armó el AB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dor invierte según lineamientos generales en ABCP o activos generados por el administrador o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característica especial es que dan la posibilidad a las firmas de devolver activos al creador del conduit (re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s de conduits producen pérdidas =&gt; cliente le pide al Banco que le recompre l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cir, activos off-sheet =&gt; activos on-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2 tipos de 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quidity enhancement: Quiero liquidar activo y no puedo por falta de liquidez =&gt; Banco me compra 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dit enhancement: Si no me pagan lo que se supone =&gt; Banco me cubre las 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sea, al cliente le convien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activos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engo necesidad de liquidez o no me pagan, Banco m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1:28:47Z</dcterms:created>
  <dc:creator>WinuE</dc:creator>
  <dc:description/>
  <dc:language>en-US</dc:language>
  <cp:lastModifiedBy>WinuE</cp:lastModifiedBy>
  <dcterms:modified xsi:type="dcterms:W3CDTF">2009-08-23T22:49:37Z</dcterms:modified>
  <cp:revision>13</cp:revision>
  <dc:subject/>
  <dc:title>Apalancamiento/Leverage de los Bancos</dc:title>
</cp:coreProperties>
</file>