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B72-FF2E-498E-B091-FCBD296D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3BE-918A-44B3-B4CB-4378770C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7B3-76D2-4530-9EA7-03C748F4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B57-537B-4E11-A96A-620FFC70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AE4-E474-4BB3-A17F-16F68B43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F5F-76F4-4463-8DA9-BB2CD4EC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EA8-A628-4C63-BD8D-C5E167E5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65E-0A97-4308-8F36-A2059196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D1C-F141-4F27-AFE4-1779F84E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DD2-8A83-4063-9839-9312A03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935-BB97-4CA2-81DF-0CE906A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07A-C07B-4CCE-BEEE-FFF104C0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BDBC-6627-476E-A910-EFD094DD5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alancamiento/Leverage de los Ban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l verdadero fin de estos Conduits siempre fu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equerimientos d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novación financiera para eludir la 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tengo activos de alta calidad en el balance sheet, un 8% debe ser mío (osea, $12,5 puedo conseguir con $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ner $ mía es altamente cost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dit enhancement pide un poco 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quidity enhancement pide mucho menos 0,8% =&gt; con 1 peso mío puedo tener $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otal, me permite mayor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, los Bancos han usado los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crisis, los activos han vuelto a los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sabía hasta qué magnitud ello golpearía a los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ructura compleja hacía que no se sabía a quién golpe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cline in Asset Backed Commercial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44600" y="1600200"/>
            <a:ext cx="645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 Largests Conduits Administrators by Size </a:t>
            </a:r>
            <a:br>
              <a:rPr sz="28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$ Amounts in Billions, January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022480"/>
          <a:ext cx="8229600" cy="3638520"/>
        </p:xfrm>
        <a:graphic>
          <a:graphicData uri="http://schemas.openxmlformats.org/drawingml/2006/table">
            <a:tbl>
              <a:tblPr/>
              <a:tblGrid>
                <a:gridCol w="1606680"/>
                <a:gridCol w="906480"/>
                <a:gridCol w="1199880"/>
                <a:gridCol w="303480"/>
                <a:gridCol w="979200"/>
                <a:gridCol w="868680"/>
                <a:gridCol w="1153800"/>
                <a:gridCol w="1211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As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 C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eté Géné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lación ABCP y Precio 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33560" y="1600200"/>
            <a:ext cx="707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Risk Weighted Assets son las ponderaciones que se les dan a los activos según Riesgo (Ba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entras los activos totales de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ucho, ponderados por riesgo lo hicieron de menor ma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ación en el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activos totales y activos ponderados =&gt; acumulación de activos co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umentaron sus transacciones e inversiones en AAA generados por ellos mismos en S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cumularon activos a través de conduits, pero estos no los tomaban en cuenta en los Risk-weight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n buena posición en teoría, 7-9% capital to risk weighted assets (norma era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cimiento de Activos Totales y Activos Ponderados por Ries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26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amos como se comportan los pesos po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segur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riesgos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onces si razón Total Assets/Risk Weighted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alto =&gt; Banco 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bajo =&gt; Banco con alto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uno esperaría que los bancos con alto A/RWA salieran bien de la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Stock Performance to Risk-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9800" y="1600200"/>
            <a:ext cx="532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se puede observar, pasa todo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seguros según Basel eran los más riesg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riesgosos eran los más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e explica 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fue solo mala s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los Bancos descubrieron como engañar el sistema y el shock hizo aquellos que hacían más trampas para evitar tener capital pagaran las cons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ahora es claro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&gt;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, ¿por qué ha sido tan grave y han quebrado tantos ban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Alto nivel de apalancamiento (Debt/Asse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adow Banking System (Instituciones Financieras que actuaban como Bancos) podía apalancarse m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Bancos formales eran regulados, ¿cómo evadieron la regu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credit risk transfer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canismos para traspasar riesgo a inversio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se usaron para arbitrar la regulación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u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risis simplemente barrió con su liquidez y v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principio, inversión en AAA para cumpl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búrbuja, inversión AAA era la prefe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ácil de engañar y reguladores no se diero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enfocada en riesgo individual y n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 crisis sistémica, los Bancos esperan que los sal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015640"/>
                <a:gridCol w="2022480"/>
              </a:tblGrid>
              <a:tr h="760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-Backed Securities' Exposure Concentrations (July 20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In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Buyer of AAA A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V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dge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ey Marke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sumen, los Bancos evadieron la regulación para lograr altos niveles de apal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nivel de apalancamiento es típicamente procíc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oom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, prestando a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ust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y no quieren pr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rrar trampas para evad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dir un apalancamiento contracíc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s Clasificadoras de Riesg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ol de Rating Agencies en la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un rol central de las Rating Agencies al clasificar como bajo riesgo activos que no lo 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 de Colateral dependía de la clasificación 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se hace evidente que las clasificadoras eran muy optim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n en revisión, ya que por su rol clave sus errores tienen grave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ating Agencies básicamente ofrecen su juicio sobre la credibilidad del crédito de un activo determ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AA, AA, A, BBB, BB (S&amp;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siempre quieren saber la credibilidad/riesgo de los ac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ting Agencies son una fuente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Pero no tiene porque ser la únic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actualmente juegan un rol central en los merc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ntenderlo, veamos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istoria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o a comienzos de siglo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09 Moody, 1916 Poor, 1922 Standard Statistics, 1924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: El inversionista paga por los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30 y 1936, los reguladores instauraron que los bonos en que invierten los bancos debieran ser clasificados por 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s décadas siguientes, reguladores de segu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1970s, modelo cambió a emisor paga por los ratings (“issuer pays”, fotocopiad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75, la SEC estableció niveles de capital con cierto nivel de calificación, luego ot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evitar una Rating Agencie instrumental, se creó la categoría NRSRO que incluía a Moody, S&amp;P y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rent Nationally Recognized Statistical Rating Organizations (NRSROs) and Their Year of Designation by the Securities and Exchange Commission (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4992840"/>
                <a:gridCol w="3236760"/>
              </a:tblGrid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NRS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 of Desig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ody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&amp; Poor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on Bond Rating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.M. B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 Credit Rating Ag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 and Information, I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an-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ce 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nte: White (2006), 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33400" y="743040"/>
            <a:ext cx="56772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”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or va a elegir la agencia que le de la mejor 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s agencias atraerán más clientes en la medida que den mejores clas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a te premiaba por dar el mejor análisis y la clasificación más j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de NRSRO quitaba incentivos a buscar otras fuentes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tir en activo riesgoso, pero igual clasificado AAA es estrategia válida si quiero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é ahora fue un gran probl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va Ing. Financie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leja, díficil de clasificar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cia asesoraba a clientes sobre cómo lograr 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lejidad y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bitraje de regulación de 2 man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f-balance-sheet asset-backed commercial paper (ABCP) y structured investment vehicles (SIV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BCP daban posibilidades de liquidez y crédito a los inversionistas que lo pidier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activos =&gt; inversionistas rescatan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erimientos de calidad eran menores para dichos mecani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f-sheets permitían un leverage 5 veces mayor que on-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gencias también son más lentas que el mercado en ajustar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EN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presa sufre un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rcado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ting Agency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gencia clasifica mal ahora a una empresa, en la próxima emisión la empresa no la contrata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or pays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ntivos al revés, inversionista quiere peor rating posible para la de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s que ya tienen deuda presionan para evitar downgrades y aumentar up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formación viaja más 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ibles solu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ciembre de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ueden clasificar Deuda que ellos ayudaron a estruct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ermitir que analistas participen en la negociación de las tari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recibir regalos de las empresas calific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arencia en construcción de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a calificación 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resas envían a una central su de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ntral envía a una Rating Agency al 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abilidades dependen de calidad mostrada históricamente por la A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rifa según producto cal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modelos: “hybrid” (ambos pagan), “advertiser pays”, “loss leader” (ratings gratis, pero otra info no), “joint venture” (varios inversionistas pagan por ra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mpezaron acumular CDOs y CLOs AAA que tenía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% de todos los AAA asset-backed securities se quedaron en el sistema banc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, bancos con hartos conduits e inversiones sin mayores requerimientos perdieron + y su acció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viamente hay 2 problemas básicos por lo que la regulación fue in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focarse en 1 sola variable (capital to suitably risk-weighted assetes) genera g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o principal hasta ahora está en la regulación de instituciones individuales, en vez del riesgo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amente la crisis mostró que leverage im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el 2003 y 2007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efectivo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de pré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stuvieron expuestos a que un shock importante los dejara si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hock f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de préstamos subprime en el 2006 y 2007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ock =&gt; hay que deleverage =&gt; vender muchos activos riesg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oparon con que muchos de sus activos en realidad resultaron i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28760"/>
            <a:ext cx="4038480" cy="326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785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los bancos regulados pudieron hacer tanto lever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se acumuló tanto riesgo en el este sector regul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uesta: Credit-risk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rramienta para traspasa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también para arbitrar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P y SIV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umulación de activos AAA por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tipo de instrumento usado para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le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ñías armadas para tener diferentes activos financieros (como Fondos de Invers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lmente tenían activos AAA o de alta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tienen empleados, of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manejo es llevado por otra compañía (el banco o institución que armó el AB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dor invierte según lineamientos generales en ABCP o activos generados por el administrador o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característica especial es que dan la posibilidad a las firmas de devolver activos al creador del conduit (recou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s de conduits producen pérdidas =&gt; cliente le pide al Banco que le recompre l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decir, activos off-sheet =&gt; activos on-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2 tipos de re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quidity enhancement: Quiero liquidar activo y no puedo por falta de liquidez =&gt; Banco me compra el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dit enhancement: Si no me pagan lo que se supone =&gt; Banco me cubre las 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sea, al cliente le conviene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activos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engo necesidad de liquidez o no me pagan, Banco me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21:28:47Z</dcterms:created>
  <dc:creator>WinuE</dc:creator>
  <dc:description/>
  <dc:language>en-US</dc:language>
  <cp:lastModifiedBy>WinuE</cp:lastModifiedBy>
  <dcterms:modified xsi:type="dcterms:W3CDTF">2009-08-23T22:49:37Z</dcterms:modified>
  <cp:revision>13</cp:revision>
  <dc:subject/>
  <dc:title>Apalancamiento/Leverage de los Bancos</dc:title>
</cp:coreProperties>
</file>