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7.jpeg" ContentType="image/jpe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A97B-94EC-4B99-ABC6-40ABF26C8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2042-1AE4-40DF-813F-E4508B636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8976-1EB4-450A-8A8E-06FE243B4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9A29-BB94-4136-9B5D-D8F610676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BF0E-8732-4289-B73A-058DF53A6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E8C5-DF7F-4861-B1DE-EA50604F5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F6FC-D0B3-4BD7-9C20-EEACD19D9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D4C4-CD21-47BA-A0A2-32EE0B45C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9DF7-519E-4BF4-8DE2-20786BCB9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CBA8-6D25-463F-8EA8-DCD4374A0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0438-B001-4FFE-9FBC-6738265C6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62B2-D7A4-41C1-B0A6-E85F6B806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38335-2D58-475C-896E-38F7790D9D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palancamiento/Leverage de los Ban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Bernardo La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ero el verdadero fin de estos Conduits siempre fue </a:t>
            </a:r>
            <a:r>
              <a:rPr b="0" lang="es-ES_tradnl" sz="32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requerimientos de ca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novación financiera para eludir la regul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 tengo activos de alta calidad en el balance sheet, un 8% debe ser mío (osea, $12,5 puedo conseguir con $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ner $ mía es altamente costo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Asset-Backed Comercial Paper Conduits (ABCP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Asset-Backed Comercial Paper Conduits (ABCP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 condu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redit enhancement pide un poco m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iquidity enhancement pide mucho menos 0,8% =&gt; con 1 peso mío puedo tener $1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total, me permite mayor le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o resultado, los Bancos han usado los condu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 la crisis, los activos han vuelto a los Ban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se sabía hasta qué magnitud ello golpearía a los Ban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estructura compleja hacía que no se sabía a quién golpear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Decline in Asset Backed Commercial Pap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344600" y="1600200"/>
            <a:ext cx="6454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en Largests Conduits Administrators by Size </a:t>
            </a:r>
            <a:br>
              <a:rPr sz="28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$ Amounts in Billions, January 200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57200" y="2022480"/>
          <a:ext cx="8229600" cy="3638520"/>
        </p:xfrm>
        <a:graphic>
          <a:graphicData uri="http://schemas.openxmlformats.org/drawingml/2006/table">
            <a:tbl>
              <a:tblPr/>
              <a:tblGrid>
                <a:gridCol w="1606680"/>
                <a:gridCol w="906480"/>
                <a:gridCol w="1199880"/>
                <a:gridCol w="303480"/>
                <a:gridCol w="979200"/>
                <a:gridCol w="868680"/>
                <a:gridCol w="1153800"/>
                <a:gridCol w="121140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dui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ministr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se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qu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/Ass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/Equ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itiban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,8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7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N Amr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nk of Amer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,4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B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,1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5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PMorgan Ch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,3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SB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,8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cieté Génér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,2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utsche Ban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,4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rcl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,9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1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estL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3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6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lación ABCP y Precio A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033560" y="1600200"/>
            <a:ext cx="7076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Bank Balance Sheets and Risk Weighted Asse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Risk Weighted Assets son las ponderaciones que se les dan a los activos según Riesgo (Bas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ientras los activos totales de los bancos 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mucho, ponderados por riesgo lo hicieron de menor man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mpliación en el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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tre activos totales y activos ponderados =&gt; acumulación de activos con 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ries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ancos aumentaron sus transacciones e inversiones en AAA generados por ellos mismos en SI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ancos acumularon activos a través de conduits, pero estos no los tomaban en cuenta en los Risk-weighted as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ancos en buena posición en teoría, 7-9% capital to risk weighted assets (norma era 4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recimiento de Activos Totales y Activos Ponderados por Ries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438280" y="1600200"/>
            <a:ext cx="4265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Veamos como se comportan los pesos por ries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activo seguro =&gt; W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activo riesgoso =&gt; W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tonces si razón Total Assets/Risk Weighted As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/RWA es alto =&gt; Banco Seg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/RWA es bajo =&gt; Banco con alto ries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or lo tanto, uno esperaría que los bancos con alto A/RWA salieran bien de la cr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Bank Balance Sheets and Risk Weighted Asse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2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7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2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Bank Stock Performance to Risk-Weighted Asse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909800" y="1600200"/>
            <a:ext cx="5324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Bank Balance Sheets and Risk Weighted Asse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o se puede observar, pasa todo lo contr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ancos más seguros según Basel eran los más riesgo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ancos más riesgosos eran los más segu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ómo se explica est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izás fue solo mala sue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izás los Bancos descubrieron como engañar el sistema y el shock hizo aquellos que hacían más trampas para evitar tener capital pagaran las consecue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9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4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9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4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9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4" dur="5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asta ahora es claro que 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CASA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=&gt; Crisis Financi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ero, ¿por qué ha sido tan grave y han quebrado tantos banc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spuesta: Alto nivel de apalancamiento (Debt/Asset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hadow Banking System (Instituciones Financieras que actuaban como Bancos) podía apalancarse muc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ero Bancos formales eran regulados, ¿cómo evadieron la regulació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spuesta: credit risk transfer mech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ecanismos para traspasar riesgo a inversioni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la práctica, se usaron para arbitrar la regulación y 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su le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crisis simplemente barrió con su liquidez y via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Bank Balance Sheets and Risk Weighted Asse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principio, inversión en AAA para cumplir regu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búrbuja, inversión AAA era la prefer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stema fácil de engañar y reguladores no se dieron cue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gulación enfocada en riesgo individual y no sistém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nte crisis sistémica, los Bancos esperan que los sal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648320" y="1600200"/>
          <a:ext cx="4038120" cy="4525560"/>
        </p:xfrm>
        <a:graphic>
          <a:graphicData uri="http://schemas.openxmlformats.org/drawingml/2006/table">
            <a:tbl>
              <a:tblPr/>
              <a:tblGrid>
                <a:gridCol w="2015640"/>
                <a:gridCol w="2022480"/>
              </a:tblGrid>
              <a:tr h="7606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set-Backed Securities' Exposure Concentrations (July 200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ype of Institu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Buyer of AAA AB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n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dui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V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edge Fu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ney Market Fu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redit Fu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1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su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 Resumen, los Bancos evadieron la regulación para lograr altos niveles de apalanc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nivel de apalancamiento es típicamente procícl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los booms, los Bancos 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leverage, prestando a to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los busts, los Bancos 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leverage y no quieren pres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olu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errar trampas para evadir regu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edir un apalancamiento contracícl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8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3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8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3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8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3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8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as Clasificadoras de Riesgo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o Rating Agenc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Bernardo La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Rol de Rating Agencies en la Cri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ay un rol central de las Rating Agencies al clasificar como bajo riesgo activos que no lo e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ivel de Colateral dependía de la clasificación d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l </a:t>
            </a:r>
            <a:r>
              <a:rPr b="0" lang="es-ES_tradnl" sz="32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CASA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, se hace evidente que las clasificadoras eran muy optimis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tán en revisión, ya que por su rol clave sus errores tienen graves consecuenc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5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0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5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0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ol de Rating Agenc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s Rating Agencies básicamente ofrecen su juicio sobre la credibilidad del crédito de un activo determin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AA, AA, A, BBB, BB (S&amp;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os inversionistas siempre quieren saber la credibilidad/riesgo de los activ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ating Agencies son una fuente de in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¡Pero no tiene porque ser la únic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n embargo, actualmente juegan un rol central en los mercados financi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ara entenderlo, veamos la histo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2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7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2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7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2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7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Historia Rating Agenc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icio a comienzos de siglo 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909 Moody, 1916 Poor, 1922 Standard Statistics, 1924 Fi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delo: El inversionista paga por los ra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1930 y 1936, los reguladores instauraron que los bonos en que invierten los bancos debieran ser clasificados por Rating Ag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las décadas siguientes, reguladores de seguros hicieron lo m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los 1970s, modelo cambió a emisor paga por los ratings (“issuer pays”, fotocopiador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1975, la SEC estableció niveles de capital con cierto nivel de calificación, luego otros hicieron lo m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ra evitar una Rating Agencie instrumental, se creó la categoría NRSRO que incluía a Moody, S&amp;P y Fi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4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9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4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9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4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9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4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9" dur="5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urrent Nationally Recognized Statistical Rating Organizations (NRSROs) and Their Year of Designation by the Securities and Exchange Commission (SE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457200" y="1600200"/>
          <a:ext cx="8229600" cy="4579920"/>
        </p:xfrm>
        <a:graphic>
          <a:graphicData uri="http://schemas.openxmlformats.org/drawingml/2006/table">
            <a:tbl>
              <a:tblPr/>
              <a:tblGrid>
                <a:gridCol w="4992840"/>
                <a:gridCol w="3236760"/>
              </a:tblGrid>
              <a:tr h="523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urrent NRSR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ar of Design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ody'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ndard &amp; Poor'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t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minon Bond Rating Servi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.M. Be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pan Credit Rating Agenc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ting and Information, In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gan-Jo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ce Financ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alpo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3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ente: White (2006), SE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733400" y="743040"/>
            <a:ext cx="567720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¿Qué falló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ssuer pays”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misor va a elegir la agencia que le de la mejor clasif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or lo tanto, las agencias atraerán más clientes en la medida que den mejores clasific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ada te premiaba por dar el mejor análisis y la clasificación más ju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gulación de NRSRO quitaba incentivos a buscar otras fuentes de in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vertir en activo riesgoso, pero igual clasificado AAA es estrategia válida si quiero 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ries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Por qué ahora fue un gran problem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ueva Ing. Financiera </a:t>
            </a:r>
            <a:r>
              <a:rPr b="0" lang="es-ES_tradnl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compleja, díficil de clasificar paque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gencia asesoraba a clientes sobre cómo lograr AA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6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1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6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1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6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1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6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1" dur="5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6" dur="50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plejidad y Rat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1814400"/>
            <a:ext cx="8229600" cy="40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rbitraje de regulación de 2 mane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ff-balance-sheet asset-backed commercial paper (ABCP) y structured investment vehicles (SIV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BCP daban posibilidades de liquidez y crédito a los inversionistas que lo pidiera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calidad activos =&gt; inversionistas rescatan ac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querimientos de calidad eran menores para dichos mecanis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ff-sheets permitían un leverage 5 veces mayor que on-she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¿Qué falló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agencias también son más lentas que el mercado en ajustar ra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ceso EN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mpresa sufre un camb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ercado reconoce camb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ating Agency reconoce camb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agencia clasifica mal ahora a una empresa, en la próxima emisión la empresa no la contratar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versor pays mod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centivos al revés, inversionista quiere peor rating posible para la deu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versionistas que ya tienen deuda presionan para evitar downgrades y aumentar upgr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información viaja más l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3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8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3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8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3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8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3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8" dur="5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3" dur="5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8" dur="500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osibles solu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ssuer Pays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iciembre del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o pueden clasificar Deuda que ellos ayudaron a estructur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o permitir que analistas participen en la negociación de las tarif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o recibir regalos de las empresas calific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ransparencia en construcción de ra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ener una calificación cie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mpresas envían a una central su deu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entral envía a una Rating Agency al az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babilidades dependen de calidad mostrada históricamente por la Ag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arifa según producto calific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tros modelos: “hybrid” (ambos pagan), “advertiser pays”, “loss leader” (ratings gratis, pero otra info no), “joint venture” (varios inversionistas pagan por ratin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5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0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5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0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5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0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5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0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5" dur="5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0" dur="500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5" dur="500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0" dur="5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ancos empezaron acumular CDOs y CLOs AAA que tenían 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requerimi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50% de todos los AAA asset-backed securities se quedaron en el sistema banc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sí, bancos con hartos conduits e inversiones sin mayores requerimientos perdieron + y su acción 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bviamente hay 2 problemas básicos por lo que la regulación fue inadecu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focarse en 1 sola variable (capital to suitably risk-weighted assetes) genera ga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oco principal hasta ahora está en la regulación de instituciones individuales, en vez del riesgo agreg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redit Risk Transfer y </a:t>
            </a:r>
            <a:br>
              <a:rPr sz="4000"/>
            </a:b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Bank Lever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laramente la crisis mostró que leverage impo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tre el 2003 y 2007 bancos 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leverage efectivo y 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calidad de présta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ancos estuvieron expuestos a que un shock importante los dejara sin ca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shock fue 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defaults de préstamos subprime en el 2006 y 2007 y 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CA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hock =&gt; hay que deleverage =&gt; vender muchos activos riesgo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toparon con que muchos de sus activos en realidad resultaron ilíqu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2228760"/>
            <a:ext cx="4038480" cy="32688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27852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redit Risk Transfer y </a:t>
            </a:r>
            <a:br>
              <a:rPr sz="4000"/>
            </a:b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Bank Lever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ómo los bancos regulados pudieron hacer tanto levera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ómo se acumuló tanto riesgo en el este sector regula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spuesta: Credit-risk trans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erramienta para traspasar ries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ero también para arbitrar regul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BCP y SIV condu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cumulación de activos AAA por ban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Asset-Backed Comercial Paper Conduits (ABCP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 un tipo de instrumento usado para </a:t>
            </a:r>
            <a:r>
              <a:rPr b="0" lang="es-ES_tradnl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le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pañías armadas para tener diferentes activos financieros (como Fondos de Inversió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sualmente tenían activos AAA o de alta ca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 tienen empleados, ofic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u manejo es llevado por otra compañía (el banco o institución que armó el ABC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dministrador invierte según lineamientos generales en ABCP o activos generados por el administrador o sus cl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Asset-Backed Comercial Paper Conduits (ABCP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u característica especial es que dan la posibilidad a las firmas de devolver activos al creador del conduit (recour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activos de conduits producen pérdidas =&gt; cliente le pide al Banco que le recompre los ac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decir, activos off-sheet =&gt; activos on-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ay 2 tipos de recou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iquidity enhancement: Quiero liquidar activo y no puedo por falta de liquidez =&gt; Banco me compra el ac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redit enhancement: Si no me pagan lo que se supone =&gt; Banco me cubre las pérdi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sea, al cliente le conviene invert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iene activos de alta c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 tengo necesidad de liquidez o no me pagan, Banco me ayu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7T21:28:47Z</dcterms:created>
  <dc:creator>WinuE</dc:creator>
  <dc:description/>
  <dc:language>en-US</dc:language>
  <cp:lastModifiedBy>WinuE</cp:lastModifiedBy>
  <dcterms:modified xsi:type="dcterms:W3CDTF">2009-08-23T22:49:37Z</dcterms:modified>
  <cp:revision>13</cp:revision>
  <dc:subject/>
  <dc:title>Apalancamiento/Leverage de los Bancos</dc:title>
</cp:coreProperties>
</file>