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5D2-9D03-4939-873D-D076466A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F18-B03E-4D9B-98C2-697C68E7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C7A-3EE7-4D25-90FF-FB2D8917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78E-CE2D-4D86-8B41-3FAE2C1E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0F5-F39C-4C72-9D37-372E49B7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C01-258B-48F2-A010-FFFB0344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234-D2BD-4C70-AEA5-539DC18B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68D-AD2E-4FE9-AA70-A27DC655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2B6-E076-4D79-B15B-AEE72970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AAB-A7C6-4592-8BEE-DD24D414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BCF-BDED-49AE-A104-2E988AD7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905-9BCD-45D4-BE0E-014EABEA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843C-8452-4610-810A-91C03AE75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alancamiento/Leverage de los Ban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l verdadero fin de estos Conduits siempre fu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requerimientos d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novación financiera para eludir la re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tengo activos de alta calidad en el balance sheet, un 8% debe ser mío (osea, $12,5 puedo conseguir con $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ner $ mía es altamente cost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dit enhancement pide un poco 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quidity enhancement pide mucho menos 0,8% =&gt; con 1 peso mío puedo tener $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otal, me permite mayor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, los Bancos han usado los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crisis, los activos han vuelto a los 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sabía hasta qué magnitud ello golpearía a los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tructura compleja hacía que no se sabía a quién golpea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cline in Asset Backed Commercial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44600" y="1600200"/>
            <a:ext cx="645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n Largests Conduits Administrators by Size </a:t>
            </a:r>
            <a:br>
              <a:rPr sz="28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$ Amounts in Billions, January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2022480"/>
          <a:ext cx="8229600" cy="3638520"/>
        </p:xfrm>
        <a:graphic>
          <a:graphicData uri="http://schemas.openxmlformats.org/drawingml/2006/table">
            <a:tbl>
              <a:tblPr/>
              <a:tblGrid>
                <a:gridCol w="1606680"/>
                <a:gridCol w="906480"/>
                <a:gridCol w="1199880"/>
                <a:gridCol w="303480"/>
                <a:gridCol w="979200"/>
                <a:gridCol w="868680"/>
                <a:gridCol w="1153800"/>
                <a:gridCol w="12114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/As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/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N Am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Morgan C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S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8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ieté Géné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e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c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lación ABCP y Precio 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33560" y="1600200"/>
            <a:ext cx="707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Risk Weighted Assets son las ponderaciones que se les dan a los activos según Riesgo (Ba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entras los activos totales de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ucho, ponderados por riesgo lo hicieron de menor ma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ación en el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activos totales y activos ponderados =&gt; acumulación de activos co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aumentaron sus transacciones e inversiones en AAA generados por ellos mismos en S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acumularon activos a través de conduits, pero estos no los tomaban en cuenta en los Risk-weighte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n buena posición en teoría, 7-9% capital to risk weighted assets (norma era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cimiento de Activos Totales y Activos Ponderados por Ries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26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amos como se comportan los pesos por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 seguro =&gt; W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 riesgoso =&gt; W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onces si razón Total Assets/Risk Weighted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/RWA es alto =&gt; Banco 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/RWA es bajo =&gt; Banco con alto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o tanto, uno esperaría que los bancos con alto A/RWA salieran bien de la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Stock Performance to Risk-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9800" y="1600200"/>
            <a:ext cx="532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se puede observar, pasa todo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ncos más seguros según Basel eran los más riesg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ncos más riesgosos eran los más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se explica es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zás fue solo mala s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zás los Bancos descubrieron como engañar el sistema y el shock hizo aquellos que hacían más trampas para evitar tener capital pagaran las cons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ahora es claro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&gt; Crisis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, ¿por qué ha sido tan grave y han quebrado tantos banc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: Alto nivel de apalancamiento (Debt/Asse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adow Banking System (Instituciones Financieras que actuaban como Bancos) podía apalancarse mu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Bancos formales eran regulados, ¿cómo evadieron la regu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: credit risk transfer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canismos para traspasar riesgo a inversio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se usaron para arbitrar la regulación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u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risis simplemente barrió con su liquidez y v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principio, inversión en AAA para cumplir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búrbuja, inversión AAA era la prefe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ácil de engañar y reguladores no se dieron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enfocada en riesgo individual y n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 crisis sistémica, los Bancos esperan que los sal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015640"/>
                <a:gridCol w="2022480"/>
              </a:tblGrid>
              <a:tr h="760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-Backed Securities' Exposure Concentrations (July 20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Instit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Buyer of AAA A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V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dge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ey Marke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Resumen, los Bancos evadieron la regulación para lograr altos niveles de apal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nivel de apalancamiento es típicamente procíc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booms,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, prestando a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busts,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 y no quieren pr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l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rrar trampas para evadir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dir un apalancamiento contracíc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s Clasificadoras de Riesg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ol de Rating Agencies en la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un rol central de las Rating Agencies al clasificar como bajo riesgo activos que no lo 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 de Colateral dependía de la clasificación 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s-ES_tradnl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se hace evidente que las clasificadoras eran muy optim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n en revisión, ya que por su rol clave sus errores tienen grave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ating Agencies básicamente ofrecen su juicio sobre la credibilidad del crédito de un activo determi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AA, AA, A, BBB, BB (S&amp;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inversionistas siempre quieren saber la credibilidad/riesgo de los act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ting Agencies son una fuente d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Pero no tiene porque ser la únic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, actualmente juegan un rol central en los merc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ntenderlo, veamos 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istoria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o a comienzos de siglo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09 Moody, 1916 Poor, 1922 Standard Statistics, 1924 F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: El inversionista paga por los 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1930 y 1936, los reguladores instauraron que los bonos en que invierten los bancos debieran ser clasificados por Rating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s décadas siguientes, reguladores de seguros hicieron lo 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1970s, modelo cambió a emisor paga por los ratings (“issuer pays”, fotocopiad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1975, la SEC estableció niveles de capital con cierto nivel de calificación, luego otros hicieron lo 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evitar una Rating Agencie instrumental, se creó la categoría NRSRO que incluía a Moody, S&amp;P y F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rent Nationally Recognized Statistical Rating Organizations (NRSROs) and Their Year of Designation by the Securities and Exchange Commission (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79920"/>
        </p:xfrm>
        <a:graphic>
          <a:graphicData uri="http://schemas.openxmlformats.org/drawingml/2006/table">
            <a:tbl>
              <a:tblPr/>
              <a:tblGrid>
                <a:gridCol w="4992840"/>
                <a:gridCol w="3236760"/>
              </a:tblGrid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NRS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 of Desig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ody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&amp; Poor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non Bond Rating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.M. B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 Credit Rating Ag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ng and Information, In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an-J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ce Fina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nte: White (2006), 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33400" y="743040"/>
            <a:ext cx="56772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suer pays”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or va a elegir la agencia que le de la mejor 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s agencias atraerán más clientes en la medida que den mejores clas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a te premiaba por dar el mejor análisis y la clasificación más j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de NRSRO quitaba incentivos a buscar otras fuentes d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tir en activo riesgoso, pero igual clasificado AAA es estrategia válida si quiero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r qué ahora fue un gran probl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eva Ing. Financiera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leja, díficil de clasificar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cia asesoraba a clientes sobre cómo lograr 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lejidad y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814400"/>
            <a:ext cx="82296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bitraje de regulación de 2 man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f-balance-sheet asset-backed commercial paper (ABCP) y structured investment vehicles (SIV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BCP daban posibilidades de liquidez y crédito a los inversionistas que lo pidier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lidad activos =&gt; inversionistas rescatan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erimientos de calidad eran menores para dichos mecanis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f-sheets permitían un leverage 5 veces mayor que on-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gencias también son más lentas que el mercado en ajustar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EN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presa sufre un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rcado reconoc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ting Agency reconoc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gencia clasifica mal ahora a una empresa, en la próxima emisión la empresa no la contrata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or pays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entivos al revés, inversionista quiere peor rating posible para la de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s que ya tienen deuda presionan para evitar downgrades y aumentar up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formación viaja más 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ibles solu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suer Pay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ciembre de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pueden clasificar Deuda que ellos ayudaron a estruct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permitir que analistas participen en la negociación de las tari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recibir regalos de las empresas calific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arencia en construcción de 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a calificación ci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resas envían a una central su de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ntral envía a una Rating Agency al 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abilidades dependen de calidad mostrada históricamente por la A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rifa según producto calif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modelos: “hybrid” (ambos pagan), “advertiser pays”, “loss leader” (ratings gratis, pero otra info no), “joint venture” (varios inversionistas pagan por ra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mpezaron acumular CDOs y CLOs AAA que tenía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er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0% de todos los AAA asset-backed securities se quedaron en el sistema banc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, bancos con hartos conduits e inversiones sin mayores requerimientos perdieron + y su acció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viamente hay 2 problemas básicos por lo que la regulación fue in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focarse en 1 sola variable (capital to suitably risk-weighted assetes) genera g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o principal hasta ahora está en la regulación de instituciones individuales, en vez del riesgo ag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dit Risk Transfer y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Le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amente la crisis mostró que leverage imp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el 2003 y 2007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 efectivo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lidad de pré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stuvieron expuestos a que un shock importante los dejara si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hock f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faults de préstamos subprime en el 2006 y 2007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ock =&gt; hay que deleverage =&gt; vender muchos activos riesg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oparon con que muchos de sus activos en realidad resultaron i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228760"/>
            <a:ext cx="4038480" cy="326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785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dit Risk Transfer y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Le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los bancos regulados pudieron hacer tanto lever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se acumuló tanto riesgo en el este sector regul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uesta: Credit-risk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rramienta para traspasar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 también para arbitrar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P y SIV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umulación de activos AAA por 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tipo de instrumento usado para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le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ñías armadas para tener diferentes activos financieros (como Fondos de Invers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lmente tenían activos AAA o de alta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tienen empleados, of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manejo es llevado por otra compañía (el banco o institución que armó el AB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dor invierte según lineamientos generales en ABCP o activos generados por el administrador o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característica especial es que dan la posibilidad a las firmas de devolver activos al creador del conduit (recou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s de conduits producen pérdidas =&gt; cliente le pide al Banco que le recompre l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decir, activos off-sheet =&gt; activos on-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2 tipos de re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quidity enhancement: Quiero liquidar activo y no puedo por falta de liquidez =&gt; Banco me compra el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dit enhancement: Si no me pagan lo que se supone =&gt; Banco me cubre las pér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sea, al cliente le conviene inve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ne activos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tengo necesidad de liquidez o no me pagan, Banco me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21:28:47Z</dcterms:created>
  <dc:creator>WinuE</dc:creator>
  <dc:description/>
  <dc:language>en-US</dc:language>
  <cp:lastModifiedBy>WinuE</cp:lastModifiedBy>
  <dcterms:modified xsi:type="dcterms:W3CDTF">2009-08-23T22:49:37Z</dcterms:modified>
  <cp:revision>13</cp:revision>
  <dc:subject/>
  <dc:title>Apalancamiento/Leverage de los Bancos</dc:title>
</cp:coreProperties>
</file>