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66D-EE49-445E-8C73-C714938B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776-12CB-42A9-8F33-D2993112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4FC-0AD0-47B4-8016-AF289FC99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55BC-E657-4FD2-B97F-6E70F7EC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39BC-36FC-4676-A710-26ACC9E9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C53-5FED-4850-9458-B5CB2687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7F48-F7F4-49B4-A79B-8447780B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BC18-4883-4D12-9B90-CD54BF51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CEB-6E22-441D-805B-2DE963BD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BC39-50E5-442D-A8B7-31F5BA0C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3912-BD95-4731-8592-B3697D5E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29AF-0294-4B70-8109-E1801F5B7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700C0-188B-46A7-A536-9CDB56B6C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palancamiento/Leverage de los Ban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ero el verdadero fin de estos Conduits siempre fu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requerimientos de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novación financiera para eludir la regu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tengo activos de alta calidad en el balance sheet, un 8% debe ser mío (osea, $12,5 puedo conseguir con $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ner $ mía es altamente cost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redit enhancement pide un poco 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quidity enhancement pide mucho menos 0,8% =&gt; con 1 peso mío puedo tener $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otal, me permite mayor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resultado, los Bancos han usado los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la crisis, los activos han vuelto a los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se sabía hasta qué magnitud ello golpearía a los Ban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estructura compleja hacía que no se sabía a quién golpea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3" dur="500"/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ecline in Asset Backed Commercial Pap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44600" y="1600200"/>
            <a:ext cx="6454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n Largests Conduits Administrators by Size </a:t>
            </a:r>
            <a:br>
              <a:rPr sz="2800"/>
            </a:b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$ Amounts in Billions, January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2022480"/>
          <a:ext cx="8229600" cy="3638520"/>
        </p:xfrm>
        <a:graphic>
          <a:graphicData uri="http://schemas.openxmlformats.org/drawingml/2006/table">
            <a:tbl>
              <a:tblPr/>
              <a:tblGrid>
                <a:gridCol w="1606680"/>
                <a:gridCol w="906480"/>
                <a:gridCol w="1199880"/>
                <a:gridCol w="303480"/>
                <a:gridCol w="979200"/>
                <a:gridCol w="868680"/>
                <a:gridCol w="1153800"/>
                <a:gridCol w="121140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ministr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/As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P/Equ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ti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8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7.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N Amr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 of Amer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B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5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PMorgan Ch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3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S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eté Généra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2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utsche B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cl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1,9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1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estL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3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6.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lación ABCP y Precio 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033560" y="1600200"/>
            <a:ext cx="70768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Risk Weighted Assets son las ponderaciones que se les dan a los activos según Riesgo (Bas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entras los activos totales de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mucho, ponderados por riesgo lo hicieron de menor man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ación en el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activos totales y activos ponderados =&gt; acumulación de activos co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aumentaron sus transacciones e inversiones en AAA generados por ellos mismos en S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ancos acumularon activos a través de conduits, pero estos no los tomaban en cuenta en los Risk-weighted as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n buena posición en teoría, 7-9% capital to risk weighted assets (norma era 4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cimiento de Activos Totales y Activos Ponderados por Ries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4265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amos como se comportan los pesos por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 seguro =&gt; W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 riesgoso =&gt; W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tonces si razón Total Assets/Risk Weighted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/RWA es alto =&gt; Banco Seg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/RWA es bajo =&gt; Banco con alto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 lo tanto, uno esperaría que los bancos con alto A/RWA salieran bien de la 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Stock Performance to Risk-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9800" y="1600200"/>
            <a:ext cx="53244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o se puede observar, pasa todo lo cont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s más seguros según Basel eran los más riesgo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ancos más riesgosos eran los más segu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se explica es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zás fue solo mala sue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Quizás los Bancos descubrieron como engañar el sistema y el shock hizo aquellos que hacían más trampas para evitar tener capital pagaran las consecu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sta ahora es claro q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&gt; Crisis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, ¿por qué ha sido tan grave y han quebrado tantos banc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: Alto nivel de apalancamiento (Debt/Asset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adow Banking System (Instituciones Financieras que actuaban como Bancos) podía apalancarse mu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ro Bancos formales eran regulados, ¿cómo evadieron la regu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puesta: credit risk transfer mech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canismos para traspasar riesgo a inversion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práctica, se usaron para arbitrar la regulación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u le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risis simplemente barrió con su liquidez y vi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Balance Sheets and Risk Weighted As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principio, inversión en AAA para cumplir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búrbuja, inversión AAA era la prefer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stema fácil de engañar y reguladores no se dieron cue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enfocada en riesgo individual y no sistém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te crisis sistémica, los Bancos esperan que los sal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64832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015640"/>
                <a:gridCol w="2022480"/>
              </a:tblGrid>
              <a:tr h="7606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t-Backed Securities' Exposure Concentrations (July 2008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ype of Instit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% Buyer of AAA AB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n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V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dge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ney Marke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edit Fun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th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6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6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Resumen, los Bancos evadieron la regulación para lograr altos niveles de apalanc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nivel de apalancamiento es típicamente procíc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booms,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, prestando a to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busts, los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 y no quieren pres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lu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rrar trampas para evadir reg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edir un apalancamiento contracíc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8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s Clasificadoras de Riesgo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ernardo L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ol de Rating Agencies en la Cri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y un rol central de las Rating Agencies al clasificar como bajo riesgo activos que no lo e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ivel de Colateral dependía de la clasificación d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s-ES_tradnl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se hace evidente que las clasificadoras eran muy optimi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n en revisión, ya que por su rol clave sus errores tienen graves consecu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0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ol de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Rating Agencies básicamente ofrecen su juicio sobre la credibilidad del crédito de un activo determ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AA, AA, A, BBB, BB (S&amp;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inversionistas siempre quieren saber la credibilidad/riesgo de los activ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ating Agencies son una fuente d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¡Pero no tiene porque ser la únic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, actualmente juegan un rol central en los merc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entenderlo, veamos la histo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2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Historia Rating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icio a comienzos de siglo 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1909 Moody, 1916 Poor, 1922 Standard Statistics, 1924 F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delo: El inversionista paga por los r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1930 y 1936, los reguladores instauraron que los bonos en que invierten los bancos debieran ser clasificados por Rating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s décadas siguientes, reguladores de seguros hicieron lo 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os 1970s, modelo cambió a emisor paga por los ratings (“issuer pays”, fotocopiad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1975, la SEC estableció niveles de capital con cierto nivel de calificación, luego otros hicieron lo m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a evitar una Rating Agencie instrumental, se creó la categoría NRSRO que incluía a Moody, S&amp;P y Fi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4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4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4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rrent Nationally Recognized Statistical Rating Organizations (NRSROs) and Their Year of Designation by the Securities and Exchange Commission (SE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79920"/>
        </p:xfrm>
        <a:graphic>
          <a:graphicData uri="http://schemas.openxmlformats.org/drawingml/2006/table">
            <a:tbl>
              <a:tblPr/>
              <a:tblGrid>
                <a:gridCol w="4992840"/>
                <a:gridCol w="3236760"/>
              </a:tblGrid>
              <a:tr h="523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urrent NRSR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ear of Design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ody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 &amp; Poor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t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minon Bond Rating Servi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.M. Be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pan Credit Rating Ag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ting and Information, In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gan-J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ce Fina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po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ente: White (2006), SE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733400" y="743040"/>
            <a:ext cx="56772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suer pays”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or va a elegir la agencia que le de la mejor 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lo tanto, las agencias atraerán más clientes en la medida que den mejores clasif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ada te premiaba por dar el mejor análisis y la clasificación más ju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gulación de NRSRO quitaba incentivos a buscar otras fuentes de in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tir en activo riesgoso, pero igual clasificado AAA es estrategia válida si quiero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ies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Por qué ahora fue un gran probl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ueva Ing. Financiera </a:t>
            </a:r>
            <a:r>
              <a:rPr b="0" lang="es-ES_tradnl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mpleja, díficil de clasificar paque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gencia asesoraba a clientes sobre cómo lograr 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1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1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6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1" dur="5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6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plejidad y Rat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814400"/>
            <a:ext cx="822960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rbitraje de regulación de 2 man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f-balance-sheet asset-backed commercial paper (ABCP) y structured investment vehicles (SIV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BCP daban posibilidades de liquidez y crédito a los inversionistas que lo pidier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lidad activos =&gt; inversionistas rescatan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querimientos de calidad eran menores para dichos mecanis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ff-sheets permitían un leverage 5 veces mayor que on-sh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¿Qué falló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agencias también son más lentas que el mercado en ajustar ra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ceso EN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presa sufre un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ercado reconoc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ting Agency reconoc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gencia clasifica mal ahora a una empresa, en la próxima emisión la empresa no la contratar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sor pays mod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centivos al revés, inversionista quiere peor rating posible para la de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versionistas que ya tienen deuda presionan para evitar downgrades y aumentar upg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nformación viaja más l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3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3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8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3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3" dur="500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8" dur="5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ibles solu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ssuer Pay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ciembre del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pueden clasificar Deuda que ellos ayudaron a estructu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permitir que analistas participen en la negociación de las tarif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recibir regalos de las empresas califica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ransparencia en construcción de ra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ner una calificación cie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resas envían a una central su de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entral envía a una Rating Agency al a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babilidades dependen de calidad mostrada históricamente por la A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rifa según producto calific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tros modelos: “hybrid” (ambos pagan), “advertiser pays”, “loss leader” (ratings gratis, pero otra info no), “joint venture” (varios inversionistas pagan por ra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5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0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5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0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mpezaron acumular CDOs y CLOs AAA que tenía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requerimi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50% de todos los AAA asset-backed securities se quedaron en el sistema banc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í, bancos con hartos conduits e inversiones sin mayores requerimientos perdieron + y su acció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bviamente hay 2 problemas básicos por lo que la regulación fue in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focarse en 1 sola variable (capital to suitably risk-weighted assetes) genera g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o principal hasta ahora está en la regulación de instituciones individuales, en vez del riesgo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dit Risk Transfer y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Le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ramente la crisis mostró que leverage impo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tre el 2003 y 2007 bancos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leverage efectivo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calidad de présta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Bancos estuvieron expuestos a que un shock importante los dejara si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shock fue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faults de préstamos subprime en el 2006 y 2007 y </a:t>
            </a:r>
            <a:r>
              <a:rPr b="0" lang="es-ES_tradnl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CA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hock =&gt; hay que deleverage =&gt; vender muchos activos riesgo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toparon con que muchos de sus activos en realidad resultaron ilíqu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228760"/>
            <a:ext cx="4038480" cy="3268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64000" y="1052640"/>
            <a:ext cx="327852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redit Risk Transfer y 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Bank Lever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los bancos regulados pudieron hacer tanto lever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Cómo se acumuló tanto riesgo en el este sector regula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puesta: Credit-risk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Herramienta para traspasar ries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ero también para arbitrar reg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P y SIV con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umulación de activos AAA por ban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un tipo de instrumento usado para 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le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pañías armadas para tener diferentes activos financieros (como Fondos de Invers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sualmente tenían activos AAA o de alta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o tienen empleados, ofic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manejo es llevado por otra compañía (el banco o institución que armó el AB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dor invierte según lineamientos generales en ABCP o activos generados por el administrador o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Asset-Backed Comercial Paper Conduits (ABCP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característica especial es que dan la posibilidad a las firmas de devolver activos al creador del conduit (recou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 activos de conduits producen pérdidas =&gt; cliente le pide al Banco que le recompre l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decir, activos off-sheet =&gt; activos on-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2 tipos de re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quidity enhancement: Quiero liquidar activo y no puedo por falta de liquidez =&gt; Banco me compra el a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edit enhancement: Si no me pagan lo que se supone =&gt; Banco me cubre las pérdi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sea, al cliente le conviene invert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ne activos de alt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tengo necesidad de liquidez o no me pagan, Banco me ay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21:28:47Z</dcterms:created>
  <dc:creator>WinuE</dc:creator>
  <dc:description/>
  <dc:language>en-US</dc:language>
  <cp:lastModifiedBy>WinuE</cp:lastModifiedBy>
  <dcterms:modified xsi:type="dcterms:W3CDTF">2009-08-23T22:49:37Z</dcterms:modified>
  <cp:revision>13</cp:revision>
  <dc:subject/>
  <dc:title>Apalancamiento/Leverage de los Bancos</dc:title>
</cp:coreProperties>
</file>