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15.png" ContentType="image/png"/>
  <Override PartName="/ppt/media/image10.jpeg" ContentType="image/jpeg"/>
  <Override PartName="/ppt/media/image8.jpeg" ContentType="image/jpeg"/>
  <Override PartName="/ppt/media/image13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media/image6.jpeg" ContentType="image/jpeg"/>
  <Override PartName="/ppt/media/image4.jpeg" ContentType="image/jpeg"/>
  <Override PartName="/ppt/media/image25.png" ContentType="image/png"/>
  <Override PartName="/ppt/media/image9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16.png" ContentType="image/png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334-2E0E-4114-B431-D1896130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E91-E340-48D5-B710-38DBA948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CE3-2195-4435-8143-FAE96800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432-7A05-4D5B-B477-72733378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C21-9076-4432-B39C-37A1CF16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59F-AEF8-40F4-921F-E7248840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7C0-85D4-488F-B69A-B6DB4178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AE3-21A7-4F16-BE88-3DAF16FA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6E4-3CC4-47A3-A7B0-9A1EA124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89C-E839-4635-9139-6937086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E6F-6534-4DE6-A2AE-C2259B97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134-A33D-4775-A096-368D8F0B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DFCB-021C-4DA9-BA57-346D353C5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A66-3DC4-4526-B0DD-94B72FCFB0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el fraude de inversión más grande de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s pérdidas se estiman en U$ 50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rnard Madoff era líder y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tional Association of Securities Dea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SDAQ stock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ondo supuestamente invertía en blue chips stocks (ingresos regulares y pocas deudas, confiables ante cr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ndo ofrecía alta rentabilidad y estable a una clientela exclu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934-C39B-4E36-BF0D-EF189A7BD2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87600" y="1447920"/>
            <a:ext cx="5968800" cy="350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C68-3300-4CA0-AB05-7E59A0CBE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desatarse la crisis, los inversionistas quisieron retirar su fondos =&gt;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(Securities and Exchange Commission) ha sido criticada por haber dejado pasar advertencias pre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1 Diciembre 2008 la SEC tomó acciones contra Madoff (congelan ac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2 Marzo 2009 Madoff confe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IPC (corporación de agentes del mercado) puso un fondo de ayuda con un máximo de U$500.000 por inversio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enado a 150 años, no podía creer que su estafa hubiera durado 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A4E-5057-4DD9-986A-2B5AF94EC4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62160"/>
            <a:ext cx="4038480" cy="432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1916280"/>
            <a:ext cx="4038480" cy="29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7D3-F913-4CD6-8BDD-606F2213E8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4800" y="1125360"/>
            <a:ext cx="3201840" cy="452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964040" y="1125360"/>
            <a:ext cx="3405240" cy="45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BA3-659E-4E49-AE2A-B9981BB857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raba en Latino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uestamente un grupo privado de compañías especialistas en manejo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ejaba sobre los U$ 8,5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ntro operativo en Antigua y 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dor “Sir” Robert Stan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inente financista, filántropo y sponsor de equipos depor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mbrado Sir por Antigua y Barbud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9640" y="4584600"/>
            <a:ext cx="1584360" cy="227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474-961D-4038-B017-1C7E874257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no podía actuar, Stanford tenía licencia en Antigua y Barbuda o no la tenía para algunas de sus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anford usó una excepción que permite la venta de activos no registrados a inversionistas acred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Stanford Group Company vendió U$ 8 bn. en certificados de déposito (C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Ds eran cobrables en dif. bancos a través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bert Stanford se apropió de U$ 1.6 bn a través de falsos préstam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ía 50.000 clientes en 150 países y duró 1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tomó acciones el 15 de febrero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25 de junio del 2009 comenzó el ju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5FC-0E4D-4821-95B1-F4B36E3A9A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233440"/>
            <a:ext cx="4038480" cy="2422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67160" y="1996920"/>
            <a:ext cx="2800440" cy="289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E48-AEF1-41FA-A41B-BC56479D02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216160"/>
            <a:ext cx="4038480" cy="252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48280" y="1281240"/>
            <a:ext cx="3238560" cy="44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A09-CD85-4429-A6F1-B5698A822C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7CC-F073-4097-940B-2089B1C91A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Últ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ión de Hipótesis de Mercados Efic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io está siempre OK =&gt; no hay búrbu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sible ganarle a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controlar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rbujas por Price-to-price Feedback (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ejemplos de altas ganancias =&gt; ¿Posibilidad de ganarle al merc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 entre Riesgo e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: Veo la distribución a partir de datos históricos y puedo controlar cuánto pierdo o g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rtidumbre: No sé la distribución pues cambia a cada rato =&gt; datos no sirven y no puedo controlar ganancias/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710-149A-45D2-83DF-8CE94273B0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ausas de la crisis son muchas y serán revisadas a través del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hay una manera estándar en que se dan las crisi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xpande el crédito (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° créditos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isitos) para invertir en el activo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ota l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arecen los créditos insolv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ata la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3A7-6A3A-41F9-9699-5F1439BAD1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icemos la actual crisis en dicho con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 inmobil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se genera? ¿En qué se pensaba? ¿Qué pudo haber generado 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umenta el crédito para comprar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é se hizo pa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crédito? ¿En qué planos se aumentó o facilitó el crédito? ¿Por qué era rentable hacer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un momento empiezan a caer el valor de las casas y de los activos relacionados con hipotec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Tendría consecuencias? ¿Era espe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bancos se encuentran con un alto % de paquetes de deuda en su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los bancos mantuvieron esos activos riesgosos en sus libros? ¿Por qué el impacto fue tan gra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E7A-4E73-4A21-838D-F7A1799BB5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CD7-8862-40F0-B5FD-F0007BADB9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emos primeramente la búrbuja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2349360"/>
          <a:ext cx="554040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554040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2FA-39C9-4E06-8C0A-DC348DE088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36760" y="1600200"/>
          <a:ext cx="62690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600200"/>
                    <a:ext cx="6269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DA0-AE6D-4610-9512-DFF00B54A6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E31-5E0A-4E2C-A9B6-055FFADDDB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2118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3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useprice/rent ratio respecto a la media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462-E5A4-45AF-9012-4ECEAF41BE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sten explicaciones para la existencia de la búrbuj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rational Exuberance (manías, animal spir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líticas Macro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quilibrios a nivel global China vs EE.U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s de Interés mu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 comienzos de los 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adow Banking System: Instituciones Financieras que actuaban como bancos pero sin sus regu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A82-DFAC-4AAC-A726-A00CBBB847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era: 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fiere al fenómeno por el cual todos comienzan a creer que algo siempre va a sub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hipótesis es que la gente comenzó a creer que los precios de las casas irían siempre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alg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ecio, entonces gente compra creyendo que eso indica que vendrán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el hecho de que ellos compren genera a su vez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B89-6997-41B5-9D19-050A35E4A3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muy parecido a proceso que revisamos anteriormente, aplicado a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78936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636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4869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i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8704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3284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37372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53737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365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24360" y="50864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74920" y="429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40784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ran 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2708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5084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is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292-7556-4B02-95D7-600F679232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esquemas Ponzi son una forma de estafa en donde se prometen ganancias que son sustentadas por la entrada de nuevos invers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797360"/>
            <a:ext cx="251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933720"/>
            <a:ext cx="2592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0360" y="5877000"/>
            <a:ext cx="1800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508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ndo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4653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8560" y="4149720"/>
            <a:ext cx="25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vos.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8748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3860640"/>
            <a:ext cx="2664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4076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ejos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7120" y="409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53080" y="458136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55897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602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797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724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+r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prome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544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120-5014-4DB0-BC9D-1598D3E296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iezan a aparecer libros de cómo el activo X (acciones o inmuebles) es la mejor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particular, la gente tiende a recordar cuánto pagó por su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90: Pagué 30.000.000 por la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08: La vendí en 98.000.000 mil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é 68 millon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en términos reales, se ganó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te tiene Money Ill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C8A-BE3D-4316-8E52-6DC99E5133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do salen libros =&gt;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ible búrbu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6165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blicado e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88D-A4A4-4643-BB2C-3F05A51D7E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búrbuja explicaría todas las posibles explicaciones de lo que pa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ticos habrían apoyado los préstamos subprime porque se ampliaba a las minorías la posibilidad de inversión en esta espectacular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habría pinchado la búrbuja porque en primer lugar no creía que había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esequilibrios macro se generaron porque nadie veía una búrb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regularizó los préstamos y los shadows banks porque no veía ninguna razón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ran parte, todo ello se debe a que se creyó que las nuevas tecnologías financieras realmente lograban controlar el riesgo de los préstamos sub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0D1-9256-4407-82A2-D829577C37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2da: Antecedentes Políticas Mac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estaba experimentando un alto crecimiento en las etapas prev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03280" y="2637000"/>
          <a:ext cx="6048360" cy="396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604836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403280" y="6524640"/>
            <a:ext cx="655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FMI (200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AEA-BA34-4CE0-A3CD-E528A8487A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mismo, habían bajas tasas de interés de corto y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es asiáticos y petroleros ahorraban, EE.UU. se endeud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lo habría contribuido a la generación de riesgo sisté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miraba con excesivo optimismo el fu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bajas tasas de bonos =&gt; atractivo diferentes activos, subestimando ries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olítica de los Bancos Centrales se enfocaban sólo en inf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 posibilidad de generación de riesgos sist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s búrbu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s de interés sólo sirven para controlar inflación, estabilidad financiera se deja a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í como tasas de interés no pincharían búrbujas, el bajarlas sí controlaría las posibles consecuencias de su est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risis ha generado un replanteamiento sobre el rol de los Bancos Centrales en el control de búrbujas y del apalancamiento (D/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CEC-F166-4413-99EA-AC66CB50F9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: Tasa de Inte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720" y="1600200"/>
            <a:ext cx="38340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tasas de interés estaban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muy baja post búrbuja punto-com pudo ayudar a crisis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demanda de países asiáticos y petroleros por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Centrales controlaban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955-6115-4E99-9965-C5A1A5AE56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líticas Macro: Global Imba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513160"/>
            <a:ext cx="4038480" cy="2700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íses asiáticos, en particular China, invertían fuertemente en activos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creía que los activos de EE.UU. eran más seguros y líquidos que el r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ía a China tener tipo de cambio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C60-686B-44CD-903A-9516E997535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cambio China-EE.U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020000" y="3284640"/>
            <a:ext cx="1297080" cy="795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67280" y="1700280"/>
            <a:ext cx="1295280" cy="988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38280" y="2131920"/>
            <a:ext cx="2313000" cy="930240"/>
          </a:xfrm>
          <a:custGeom>
            <a:avLst/>
            <a:gdLst/>
            <a:ahLst/>
            <a:rect l="l" t="t" r="r" b="b"/>
            <a:pathLst>
              <a:path w="1457" h="586">
                <a:moveTo>
                  <a:pt x="0" y="586"/>
                </a:moveTo>
                <a:cubicBezTo>
                  <a:pt x="105" y="516"/>
                  <a:pt x="385" y="266"/>
                  <a:pt x="628" y="168"/>
                </a:cubicBezTo>
                <a:cubicBezTo>
                  <a:pt x="871" y="70"/>
                  <a:pt x="1284" y="35"/>
                  <a:pt x="14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2060640"/>
            <a:ext cx="2305080" cy="107928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067280" y="2852640"/>
            <a:ext cx="1251000" cy="5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08720" y="306864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06520" y="3041640"/>
            <a:ext cx="161784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2041400">
            <a:off x="2339280" y="3860280"/>
            <a:ext cx="161748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12200">
            <a:off x="5508000" y="378900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067280" y="3932280"/>
            <a:ext cx="1251000" cy="50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74920" y="508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rtificados de que te D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7530600">
            <a:off x="6148080" y="4303440"/>
            <a:ext cx="1939680" cy="83196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924360" y="5516640"/>
            <a:ext cx="1584360" cy="1006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92400" y="4179960"/>
            <a:ext cx="2036520" cy="1082520"/>
          </a:xfrm>
          <a:custGeom>
            <a:avLst/>
            <a:gdLst/>
            <a:ahLst/>
            <a:rect l="l" t="t" r="r" b="b"/>
            <a:pathLst>
              <a:path w="1283" h="682">
                <a:moveTo>
                  <a:pt x="1283" y="682"/>
                </a:moveTo>
                <a:cubicBezTo>
                  <a:pt x="1153" y="641"/>
                  <a:pt x="716" y="551"/>
                  <a:pt x="502" y="437"/>
                </a:cubicBezTo>
                <a:cubicBezTo>
                  <a:pt x="288" y="323"/>
                  <a:pt x="105" y="9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1B5-514F-4D8D-B434-C99C4A76C3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cipal preocupación pre-crisis era que repentinamente los inversores iban a retirar todo su dinero de EE.UU. (México 9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anteriores ayudaron a generar el riesg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e bajas tasas de interés, mayor atractivo inversión en c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a demanda por r altas en EE.UU. =&gt; nuevos instrument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gualmente mayor culpable es la falta de regulación: creencia de que el sector privado podría manejar todo esto correc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ciones fund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Centrales deben preocuparse de las búrbujas y D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conozco cuáles son búrbujas y cuáles 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OK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de interés? ¿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manda activos de EEU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C8E-8CF0-46EF-8182-C1F920C873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rtage Origination and Securit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mos visto varias ex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, bajo supuesto de mercado Efi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búrbujas bajo ninguna circun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rcado debiera ser capaz de manejar desbalanc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emás todo se le llama a esta la “Crisis Sub-pr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se refiere ese nomb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ED1-3589-462E-955C-A3E18C5D6B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invierten I con la garantía de ganar r en un perí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dinero puede ser o no invertido, no tiene una rentabilidad r, pero reportan que 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inversionistas se retiran del fondo, obteniendo r que proviene del resto de los inversionistas y no de rentabilidades re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asa de ingreso de inversionistas necesaria para mantener el esquema va sub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en exponencialmente las liabilities (deu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oca el colapso cuando ya no hay inversionistas que entren debido a que ocupan ya todo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A6B-3B1C-41C5-902C-42AA8AD779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50216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Especialistas en cobros de 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673-F693-4568-B999-FBBBB33856F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ero aclarar algo fundamen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hile, la deuda reside en el individuo, por lo tanto, si vendo casa sigo endeu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E.UU., la deuda reside en el activo, por lo tanto, entrego casa a Banco y termino 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si mi casa vale menos que la deuda, ¡mejor se la entrego al Banc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3 tipos de pré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xed rate mortgages (FRMs): tasa f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justable rate mortgages (ARMs): tasa ajustable relacionada con un índice (Banco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ybrids: Primero a tasa fija, luego se aj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6B8-57E7-4163-98A2-1860564FA76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ellos se clasifican en 2 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ing loans: Estándares de Freddie Mac y Fannie Mae (loan limit, credit score, loan to value ratio, debt to income ratio), cuentan con garantía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mbo loans: igual pero sin loan limit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 y sin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HA/VA: Asegurados por una agencia estatal (FHA) y para gente que no podría acceder a préstamos. VA también asegurados y destinados a veteranos y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n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prime: Con poco puntaje y/o con altos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-A: &gt; riesgo prime, &lt; riesgo subprime, tienen todo OK salvo un menor credit score, o no cumplen un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L/HELOC: Similar a una tarjeta de crédito, te dan un cupo para pedir adel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615-72A5-4144-9F26-AED56888359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sponde a colocar varios préstamos en un solo paquete (Mortgage-backed securities (MBSs) de modo de diversificar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ueño del MBS tiene derecho a un % de los pagos hechos al porta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llateralized debt obligation (CDOs) es un portafolio con una estructura de prioridad de pago (se le paga a A primero, luego 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rcado hipotecario es &gt; $10 trillones y un 55% es securi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overment-sponsored enterprises (GSEs) compran y securitizaban hipotecas, pero también otras empresas comenzaron 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vamos a los h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1BC-CC28-41FF-BA08-BD6DFFB653C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jo la calidad de prést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04960" y="1463760"/>
          <a:ext cx="3551040" cy="232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1463760"/>
                    <a:ext cx="355104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788000" y="1461960"/>
          <a:ext cx="354636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461960"/>
                    <a:ext cx="35463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06400" y="3800520"/>
          <a:ext cx="3549600" cy="2325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6400" y="3800520"/>
                    <a:ext cx="354960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788000" y="3798720"/>
          <a:ext cx="3546360" cy="2327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798720"/>
                    <a:ext cx="354636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FC1-196B-4AE4-9A36-CC604744B92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atos Mercado Hipotec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95280" y="1916280"/>
          <a:ext cx="8229600" cy="4020840"/>
        </p:xfrm>
        <a:graphic>
          <a:graphicData uri="http://schemas.openxmlformats.org/drawingml/2006/table">
            <a:tbl>
              <a:tblPr/>
              <a:tblGrid>
                <a:gridCol w="579600"/>
                <a:gridCol w="831600"/>
                <a:gridCol w="831960"/>
                <a:gridCol w="831960"/>
                <a:gridCol w="906480"/>
                <a:gridCol w="831600"/>
                <a:gridCol w="831960"/>
                <a:gridCol w="831960"/>
                <a:gridCol w="920520"/>
                <a:gridCol w="8319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m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A/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-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Non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7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258920" y="1341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llones de Dó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595008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Inside Mortgage Fin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65D-2BBB-4412-8090-1740095A8D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ién originaba las Mortg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 concentración en los últimos 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3 pri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an 19.4% e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6.6% e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2008, Countrywide, Washington Mutual y Wachovi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Bank of America, JP Morgan Chase y Wells F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1721880"/>
                <a:gridCol w="932760"/>
                <a:gridCol w="1383480"/>
              </a:tblGrid>
              <a:tr h="49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w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lls F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se Home Fi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/CitiMortg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hington Mu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ential Cap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yM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 Tr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Top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EA4-0AD0-4A9C-9C1D-211756F2771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ubprime Origination and Securit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uritización permite transferir riesgo crediticio de los creadores del crédito a inversionistas capaces de manejar 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(y es un gran SI) los contratos entre creadores, securitizadores y inversores están OK =&gt;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curitización =&gt; mercado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3938760"/>
          <a:ext cx="8229600" cy="2579400"/>
        </p:xfrm>
        <a:graphic>
          <a:graphicData uri="http://schemas.openxmlformats.org/drawingml/2006/table">
            <a:tbl>
              <a:tblPr/>
              <a:tblGrid>
                <a:gridCol w="1309680"/>
                <a:gridCol w="1309680"/>
                <a:gridCol w="1309680"/>
                <a:gridCol w="1309680"/>
                <a:gridCol w="1549440"/>
                <a:gridCol w="1441440"/>
              </a:tblGrid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ones 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 M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ecurit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95280" y="4149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C94-BC58-486A-8BA6-17B426ACAA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ción de 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67520" cy="324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236-4090-4E9B-9D6A-F35B9A9AAA9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ién es quién en la Cri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229600" cy="4638600"/>
        </p:xfrm>
        <a:graphic>
          <a:graphicData uri="http://schemas.openxmlformats.org/drawingml/2006/table">
            <a:tbl>
              <a:tblPr/>
              <a:tblGrid>
                <a:gridCol w="1898640"/>
                <a:gridCol w="1108080"/>
                <a:gridCol w="1109520"/>
                <a:gridCol w="1108080"/>
                <a:gridCol w="993960"/>
                <a:gridCol w="2011320"/>
              </a:tblGrid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ok Runners of Worldwide CDO, 2004-2008 ($ Billones / % Merc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 (hasta Sept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rill Ly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/ 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/ 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1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ldman Sac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/ 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/ 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/ 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/ 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hman Br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2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r Stea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/ 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/ 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24C-2747-4DF7-A9C1-6BC2CF007E0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los que salen son pocos, puedo recurrir al fondo para pag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gual en algún punto, colapsa y provoca pérdidas para los inversion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esultar ganador o perdedor depende de si te retiraste antes del colap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ego de la sillita mu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r bailando mientras hay 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 el que se sienta justo antes de que termine la música (colap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te tratas de sentar después, pierdes porque no tienes silla (quedaste con c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CF6-30C2-4DF8-878F-1985F5C54D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origen, securitización, 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origino un préstamo, lo empaqueto y es comprado por aquél más capaz de lidiar ante un posible no-p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origino un préstamo y me deshago de él, por lo tanto no “skin in the game” =&gt; le doy préstamos a cualqu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una mejor calidad de préstamos =&gt; + clientes y más ingresos por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éstamo alcanzaba estaba 2-4 meses en el 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los primeros defaults se devolvían al or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6F3-C24E-47F9-ADDF-0B6FD859536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datory 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la premisa de una nueva tecnología, se comenzó a dar préstamos a gente no-a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s sofisticados para clientes no-sofis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 sofisticado el producto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informaban de créditos más simples y no pedían toda la doc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Ms: préstamos a tasa fija y de ahí 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/28: 2 años tasa fija baja, 28 ajuste base (LIBOR, Bonos del tesoro, etc.) + 6%; lo mismo 3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 es que después de 2 / 3 años se reprograme el cré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o conviene reprogramar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se basaban en que siempre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FAF-ACE3-430D-B69E-964D698043A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1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s problemas indican de que en algún momento habrían varios defaults de loans (INICIO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n embargo, securitización =&gt; diver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en teoría pequeño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a posibilidad es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queza de los hog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gente menos rica y menos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obstante, explica crisis real actual, no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que pasó es que modelo de securitización =&gt; traspasar riesgo, pero Bancos realizaron apuesta en el mercado inmobil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¡Banco es el lugar menos indicado para tener activos riesgos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760-3522-488B-8D69-C025ABAAC34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75280" y="45021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88000" y="52293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¡¡BANC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160-394B-4BB5-9571-7CC0E861B9B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eedores de Deuda Hipotecaria</a:t>
            </a:r>
            <a:br>
              <a:rPr sz="4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08, Billones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197000"/>
          <a:ext cx="9143640" cy="5587560"/>
        </p:xfrm>
        <a:graphic>
          <a:graphicData uri="http://schemas.openxmlformats.org/drawingml/2006/table">
            <a:tbl>
              <a:tblPr/>
              <a:tblGrid>
                <a:gridCol w="1719360"/>
                <a:gridCol w="928080"/>
                <a:gridCol w="929520"/>
                <a:gridCol w="927720"/>
                <a:gridCol w="928080"/>
                <a:gridCol w="927360"/>
                <a:gridCol w="928080"/>
                <a:gridCol w="927720"/>
                <a:gridCol w="927720"/>
              </a:tblGrid>
              <a:tr h="101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cy MB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agency A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Banks and Thrif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2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4,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SEs and FH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ker-deal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l Guaran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urance Compa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s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,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6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,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6CF-06CD-4A56-A9C7-37B1741E408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explicaciones de porque el sector financiero hizo 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lla de incentivos dentro de las firmas: Altas fees y éxito de tecnología financiera incentivaban apuestas en hipot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ble incentivo es que las firmas tenían una garantía estatal o implícita por ser muy grandes =&gt; Si resulta ganamos, si perdemos pierde 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firmas financieras no entendían qué era lo que estaban transando y hac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curitización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calidad de los 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lta de transparencia respecto a la calidad de los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bajar precios, firmas no entienden 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CCF-F89F-43F7-96B6-3B9C7B9C5A4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3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ceso de Securit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2C1-5117-465F-AD19-D81B29B63E7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 supuestament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aba al tenedor má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ó al tenedor meno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 es que la securitización fue muy compleja y poc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paquete con 81% AAA, se pasaba a uno de 91,93% 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crisis, la falta de transparencia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cuánto valen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quién tiene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confía en nadie, alta aversión al riesgo, falta de liqu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8F4-DE39-4D28-9EC0-6403515AE84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5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general, se muestran como una “oportunidad de negoc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frecen inversiones de divers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breconfianza de los inversionistas los lleva a caer (creen que realmente tienen una alta 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chas apuntan a grupos específicos, donde el estafador es un líder de dicha com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8B8-A5FD-4CA0-A2F8-94D683ED67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n variadas consecu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la confianza en los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las inversiones de cosas productivas a estas estafas; o de nacionales a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incurre en gasto fiscal si es que hay un salva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depósitos bancarios y crea préstamos incobrables si es que el préstamo se invirtió en Po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n los shocks, por su alta re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usan crisis socio-económica si hogares invirtieron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confianza en autoridades (políticas, reguladoras o legales) por fallar en detectar, prevenir o por apoyar las esquemas antes del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54C-25C4-4836-B4B3-DE77C16DDF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493560"/>
            <a:ext cx="8229600" cy="541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10E-7526-4103-B0C0-C4ABF563BE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emás, son muy difíciles de pre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muchas, no hay atribuciones de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ha sido capaz de detectar en etapas tempr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tecta cuando ya está madura, autoridades son renuentes a desarticul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onistas culparían a la autoridad de sus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se dejan, inversionistas culpan a autoridad por no haberla detectado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, creadores gastan en caridad y política, por lo que son mirados, y defendidos, como pilares de la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B01-B9E5-4578-B88F-40325D89FB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4:50Z</dcterms:created>
  <dc:creator>WinuE</dc:creator>
  <dc:description/>
  <dc:language>en-US</dc:language>
  <cp:lastModifiedBy>Bernardo</cp:lastModifiedBy>
  <dcterms:modified xsi:type="dcterms:W3CDTF">2009-08-11T19:30:46Z</dcterms:modified>
  <cp:revision>41</cp:revision>
  <dc:subject/>
  <dc:title>Causas de la Crisis</dc:title>
</cp:coreProperties>
</file>