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15.png" ContentType="image/png"/>
  <Override PartName="/ppt/media/image10.jpeg" ContentType="image/jpeg"/>
  <Override PartName="/ppt/media/image8.jpeg" ContentType="image/jpeg"/>
  <Override PartName="/ppt/media/image13.wmf" ContentType="image/x-wmf"/>
  <Override PartName="/ppt/media/image3.jpeg" ContentType="image/jpeg"/>
  <Override PartName="/ppt/media/image30.png" ContentType="image/png"/>
  <Override PartName="/ppt/media/image28.wmf" ContentType="image/x-wmf"/>
  <Override PartName="/ppt/media/image6.jpeg" ContentType="image/jpeg"/>
  <Override PartName="/ppt/media/image4.jpeg" ContentType="image/jpeg"/>
  <Override PartName="/ppt/media/image25.png" ContentType="image/png"/>
  <Override PartName="/ppt/media/image9.jpeg" ContentType="image/jpeg"/>
  <Override PartName="/ppt/media/image12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31.wmf" ContentType="image/x-wmf"/>
  <Override PartName="/ppt/media/image7.jpeg" ContentType="image/jpeg"/>
  <Override PartName="/ppt/media/image1.wmf" ContentType="image/x-wmf"/>
  <Override PartName="/ppt/media/image14.wmf" ContentType="image/x-wmf"/>
  <Override PartName="/ppt/media/image16.png" ContentType="image/png"/>
  <Override PartName="/ppt/media/image20.wmf" ContentType="image/x-wmf"/>
  <Override PartName="/ppt/media/image17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png" ContentType="image/png"/>
  <Override PartName="/ppt/media/image11.jpeg" ContentType="image/jpeg"/>
  <Override PartName="/ppt/media/image24.png" ContentType="image/png"/>
  <Override PartName="/ppt/media/image2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37C-BC50-4DA4-B699-81D9DF76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3FFA-8C95-4B71-809E-4B67B0A8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57EE-CF66-4FA9-BF82-7300317C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5FEC-2604-4FD9-8094-685E225B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CEB-02A9-4361-B1EA-5938E41A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991-8BC5-4846-9BF1-B08C7116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59A-2F51-421A-B26D-CE1DBD3A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82B-EE1A-4652-8CED-D4BD4ED3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431-1016-4965-B60F-12630DC0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FC1A-2341-4BE1-89D1-1BEBFEE6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BD27-7D61-444D-AC9A-21AB1284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D2E4-5F64-44D1-8BE1-EDBDBCA6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99D3-7604-4EB8-83AD-5F5F03450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EB5-8161-4A3B-AB2B-2421AA4544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so Mad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el fraude de inversión más grande de la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s pérdidas se estiman en U$ 50 b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rnard Madoff era líder y 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tional Association of Securities Dea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SDAQ stock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fondo supuestamente invertía en blue chips stocks (ingresos regulares y pocas deudas, confiables ante cri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ondo ofrecía alta rentabilidad y estable a una clientela exclu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692D-73D1-4B43-A7DE-D2439A5FB7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87600" y="1447920"/>
            <a:ext cx="5968800" cy="3504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29F-A3E9-4FB1-BB43-792128004E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so Mad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 desatarse la crisis, los inversionistas quisieron retirar su fondos =&gt; colap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 (Securities and Exchange Commission) ha sido criticada por haber dejado pasar advertencias prev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11 Diciembre 2008 la SEC tomó acciones contra Madoff (congelan acti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12 Marzo 2009 Madoff confes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IPC (corporación de agentes del mercado) puso un fondo de ayuda con un máximo de U$500.000 por inversion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enado a 150 años, no podía creer que su estafa hubiera durado ta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9F8B-59AB-4F12-BC15-65E0105C5D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262160"/>
            <a:ext cx="4038480" cy="4327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48320" y="1916280"/>
            <a:ext cx="4038480" cy="297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1C4E-60B4-45EC-A73F-90FC43E486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74800" y="1125360"/>
            <a:ext cx="3201840" cy="4526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964040" y="1125360"/>
            <a:ext cx="3405240" cy="4526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9C9F-EB7B-45EB-BC95-1E5A717ABE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ford Financial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peraba en Latinoamérica y el Ca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uestamente un grupo privado de compañías especialistas en manejo de inver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nejaba sobre los U$ 8,5 b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entro operativo en Antigua y Barb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undador “Sir” Robert Stan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minente financista, filántropo y sponsor de equipos depor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mbrado Sir por Antigua y Barbud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9640" y="4584600"/>
            <a:ext cx="1584360" cy="227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6994-B170-4FAE-918F-D5788065B6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ford Financial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 no podía actuar, Stanford tenía licencia en Antigua y Barbuda o no la tenía para algunas de sus pa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tanford usó una excepción que permite la venta de activos no registrados a inversionistas acredi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 través de Stanford Group Company vendió U$ 8 bn. en certificados de déposito (C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Ds eran cobrables en dif. bancos a través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obert Stanford se apropió de U$ 1.6 bn a través de falsos préstamos del Gru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ía 50.000 clientes en 150 países y duró 15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 tomó acciones el 15 de febrero del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25 de junio del 2009 comenzó el ju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9116-4D52-40A7-803A-4714BB858E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7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2233440"/>
            <a:ext cx="4038480" cy="2422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267160" y="1996920"/>
            <a:ext cx="2800440" cy="289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A94-0A5F-434C-AA09-120E40E199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2216160"/>
            <a:ext cx="4038480" cy="2529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48280" y="1281240"/>
            <a:ext cx="3238560" cy="44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10A-5803-43DC-AB44-51D0304B60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de la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DF9-B506-475D-9705-61FEA76E86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Última Cl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ión de Hipótesis de Mercados Efic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cio está siempre OK =&gt; no hay búrbu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sible ganarle a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si controlar ries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úrbujas por Price-to-price Feedback (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n ejemplos de altas ganancias =&gt; ¿Posibilidad de ganarle al merc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ferencia entre Riesgo e Incertidu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iesgo: Veo la distribución a partir de datos históricos y puedo controlar cuánto pierdo o g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ertidumbre: No sé la distribución pues cambia a cada rato =&gt; datos no sirven y no puedo controlar ganancias/pérd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96E-E67B-4FB3-9809-1AF8ED4141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de la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causas de la crisis son muchas y serán revisadas a través del cu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embargo, hay una manera estándar en que se dan las crisis financi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genera una búrb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expande el crédito (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n° créditos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equisitos) para invertir en el activo búrb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lota la búrbu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arecen los créditos insolv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sata la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3D24-CFBA-480C-968A-133FF38022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usas de la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alicemos la actual crisis en dicho conte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genera una búrbuja inmobili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Por qué se genera? ¿En qué se pensaba? ¿Qué pudo haber generado es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aumenta el crédito para comprar c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Qué se hizo para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l crédito? ¿En qué planos se aumentó o facilitó el crédito? ¿Por qué era rentable hacerl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un momento empiezan a caer el valor de las casas y de los activos relacionados con hipotec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Tendría consecuencias? ¿Era esperab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bancos se encuentran con un alto % de paquetes de deuda en sus lib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Por qué los bancos mantuvieron esos activos riesgosos en sus libros? ¿Por qué el impacto fue tan gran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020B-CEB9-4993-8F54-4E26EFA5E1F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blema princ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91C-4D37-4BA6-BA80-10D4F2E523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emos primeramente la búrbuja inmobili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92360" y="2349360"/>
          <a:ext cx="5540400" cy="384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349360"/>
                    <a:ext cx="554040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A78F-BAAA-48F7-ABA4-C39052FD5E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36760" y="1600200"/>
          <a:ext cx="626904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6760" y="1600200"/>
                    <a:ext cx="62690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F33-55F3-424E-BEF7-320297BD0C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EAA0-C040-4AAA-90B5-04AF0A5CD4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6211800" cy="3886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3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ouseprice/rent ratio respecto a la media Histó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016F-BE45-4CF4-AE72-6D64C28D9A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úrbuja Inmobili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isten explicaciones para la existencia de la búrbuja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rrational Exuberance (manías, animal spiri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líticas Macroeconóm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equilibrios a nivel global China vs EE.U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sas de Interés mu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 comienzos de los 0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hadow Banking System: Instituciones Financieras que actuaban como bancos pero sin sus regu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1478-B48C-457A-B38E-27A273BA27F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1era: 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fiere al fenómeno por el cual todos comienzan a creer que algo siempre va a sub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hipótesis es que la gente comenzó a creer que los precios de las casas irían siempre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algo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recio, entonces gente compra creyendo que eso indica que vendrán más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o el hecho de que ellos compren genera a su vez más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de pre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BA0A-D588-432C-B7E2-A06E7363BE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muy parecido a proceso que revisamos anteriormente, aplicado a ca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3789360"/>
            <a:ext cx="1584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16360" y="4726080"/>
            <a:ext cx="1584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4726080"/>
            <a:ext cx="1584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08360" y="3933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932360" y="486900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iqu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87044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nfia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1280" y="32846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a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537372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56000" y="537372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4365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924360" y="50864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74920" y="429372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56000" y="407844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ompran Ca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80000" y="270828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80000" y="5084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ist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02B-94E3-4B76-BA79-232A6EC19CA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s esquemas Ponzi son una forma de estafa en donde se prometen ganancias que son sustentadas por la entrada de nuevos inversion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797360"/>
            <a:ext cx="2519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3933720"/>
            <a:ext cx="259236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0360" y="5877000"/>
            <a:ext cx="180036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508464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ndo comú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87640" y="4653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8560" y="4149720"/>
            <a:ext cx="25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vos. Inversion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8748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0000" y="3860640"/>
            <a:ext cx="2664000" cy="7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4076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iejos Inversioni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07120" y="409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653080" y="458136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5589720"/>
            <a:ext cx="431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27640" y="602136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4797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472428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+r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promet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5445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ana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4A0-F4A3-43EE-8817-4AEEFED1C8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mpiezan a aparecer libros de cómo el activo X (acciones o inmuebles) es la mejor inve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particular, la gente tiende a recordar cuánto pagó por su 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990: Pagué 30.000.000 por la c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008: La vendí en 98.000.000 mil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é 68 millon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en términos reales, se ganó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te tiene Money Ill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157-39A6-4FFE-81E6-B3C97F703D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uando salen libros =&gt;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osible búrbu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27280" y="61657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ublicado el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1C1-D7F2-45B2-9383-16A4993C296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rrational Exub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búrbuja explicaría todas las posibles explicaciones de lo que pas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íticos habrían apoyado los préstamos subprime porque se ampliaba a las minorías la posibilidad de inversión en esta espectacular 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FED no habría pinchado la búrbuja porque en primer lugar no creía que había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esequilibrios macro se generaron porque nadie veía una búrbu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FED no regularizó los préstamos y los shadows banks porque no veía ninguna razón para hace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ran parte, todo ello se debe a que se creyó que las nuevas tecnologías financieras realmente lograban controlar el riesgo de los préstamos subp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5565-7CDD-45A3-A968-029BEF6CDF0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2da: Antecedentes Políticas Mac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mundo estaba experimentando un alto crecimiento en las etapas prev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03280" y="2637000"/>
          <a:ext cx="6048360" cy="396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637000"/>
                    <a:ext cx="604836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403280" y="6524640"/>
            <a:ext cx="655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uente: FMI (200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3F5-0BE1-48E5-9FAB-9CBC5924036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ntecedentes Políticas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mismo, habían bajas tasas de interés de corto y largo 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íses asiáticos y petroleros ahorraban, EE.UU. se endeuda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lo habría contribuido a la generación de riesgo sisté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miraba con excesivo optimismo el fut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s bajas tasas de bonos =&gt; atractivo diferentes activos, subestimando ries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política de los Bancos Centrales se enfocaban sólo en inf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se creía en la posibilidad de generación de riesgos sistém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se creía en las búrbu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s de interés sólo sirven para controlar inflación, estabilidad financiera se deja a la 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í como tasas de interés no pincharían búrbujas, el bajarlas sí controlaría las posibles consecuencias de su estall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risis ha generado un replanteamiento sobre el rol de los Bancos Centrales en el control de búrbujas y del apalancamiento (D/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E0B-264A-46C7-A301-6128237D04F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líticas Macro: Tasa de Inter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58720" y="1600200"/>
            <a:ext cx="383400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tasas de interés estaban b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sa muy baja post búrbuja punto-com pudo ayudar a crisis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ta demanda de países asiáticos y petroleros por bo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Centrales controlaban inf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CFBB-49A1-4F77-A7E6-8987D294846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olíticas Macro: Global Imbal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2513160"/>
            <a:ext cx="4038480" cy="27003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países asiáticos, en particular China, invertían fuertemente en activos de EE.U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creía que los activos de EE.UU. eran más seguros y líquidos que el r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mitía a China tener tipo de cambio 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F94C-12C3-4F05-A5CC-47ABA433D41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ercambio China-EE.U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1285920" cy="771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020000" y="3284640"/>
            <a:ext cx="1297080" cy="795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067280" y="1700280"/>
            <a:ext cx="1295280" cy="988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38280" y="2131920"/>
            <a:ext cx="2313000" cy="930240"/>
          </a:xfrm>
          <a:custGeom>
            <a:avLst/>
            <a:gdLst/>
            <a:ahLst/>
            <a:rect l="l" t="t" r="r" b="b"/>
            <a:pathLst>
              <a:path w="1457" h="586">
                <a:moveTo>
                  <a:pt x="0" y="586"/>
                </a:moveTo>
                <a:cubicBezTo>
                  <a:pt x="105" y="516"/>
                  <a:pt x="385" y="266"/>
                  <a:pt x="628" y="168"/>
                </a:cubicBezTo>
                <a:cubicBezTo>
                  <a:pt x="871" y="70"/>
                  <a:pt x="1284" y="35"/>
                  <a:pt x="145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51640" y="2060640"/>
            <a:ext cx="2305080" cy="1079280"/>
          </a:xfrm>
          <a:custGeom>
            <a:avLst/>
            <a:gdLst/>
            <a:ahLst/>
            <a:rect l="l" t="t" r="r" b="b"/>
            <a:pathLst>
              <a:path w="1452" h="680">
                <a:moveTo>
                  <a:pt x="0" y="0"/>
                </a:moveTo>
                <a:cubicBezTo>
                  <a:pt x="153" y="26"/>
                  <a:pt x="675" y="41"/>
                  <a:pt x="917" y="154"/>
                </a:cubicBezTo>
                <a:cubicBezTo>
                  <a:pt x="1159" y="267"/>
                  <a:pt x="1341" y="570"/>
                  <a:pt x="1452" y="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067280" y="2852640"/>
            <a:ext cx="1251000" cy="505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508720" y="3068640"/>
            <a:ext cx="1368360" cy="360360"/>
          </a:xfrm>
          <a:custGeom>
            <a:avLst/>
            <a:gdLst/>
            <a:ahLst/>
            <a:rect l="l" t="t" r="r" b="b"/>
            <a:pathLst>
              <a:path w="862" h="227">
                <a:moveTo>
                  <a:pt x="862" y="227"/>
                </a:moveTo>
                <a:cubicBezTo>
                  <a:pt x="729" y="155"/>
                  <a:pt x="597" y="83"/>
                  <a:pt x="453" y="45"/>
                </a:cubicBezTo>
                <a:cubicBezTo>
                  <a:pt x="309" y="7"/>
                  <a:pt x="154" y="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06520" y="3041640"/>
            <a:ext cx="1617840" cy="387360"/>
          </a:xfrm>
          <a:custGeom>
            <a:avLst/>
            <a:gdLst/>
            <a:ahLst/>
            <a:rect l="l" t="t" r="r" b="b"/>
            <a:pathLst>
              <a:path w="1019" h="244">
                <a:moveTo>
                  <a:pt x="1019" y="0"/>
                </a:moveTo>
                <a:cubicBezTo>
                  <a:pt x="807" y="7"/>
                  <a:pt x="599" y="4"/>
                  <a:pt x="429" y="45"/>
                </a:cubicBezTo>
                <a:cubicBezTo>
                  <a:pt x="259" y="86"/>
                  <a:pt x="89" y="203"/>
                  <a:pt x="0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2041400">
            <a:off x="2339280" y="3860280"/>
            <a:ext cx="1617480" cy="387360"/>
          </a:xfrm>
          <a:custGeom>
            <a:avLst/>
            <a:gdLst/>
            <a:ahLst/>
            <a:rect l="l" t="t" r="r" b="b"/>
            <a:pathLst>
              <a:path w="1019" h="244">
                <a:moveTo>
                  <a:pt x="1019" y="0"/>
                </a:moveTo>
                <a:cubicBezTo>
                  <a:pt x="807" y="7"/>
                  <a:pt x="599" y="4"/>
                  <a:pt x="429" y="45"/>
                </a:cubicBezTo>
                <a:cubicBezTo>
                  <a:pt x="259" y="86"/>
                  <a:pt x="89" y="203"/>
                  <a:pt x="0" y="2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12200">
            <a:off x="5508000" y="3789000"/>
            <a:ext cx="1368360" cy="360360"/>
          </a:xfrm>
          <a:custGeom>
            <a:avLst/>
            <a:gdLst/>
            <a:ahLst/>
            <a:rect l="l" t="t" r="r" b="b"/>
            <a:pathLst>
              <a:path w="862" h="227">
                <a:moveTo>
                  <a:pt x="862" y="227"/>
                </a:moveTo>
                <a:cubicBezTo>
                  <a:pt x="729" y="155"/>
                  <a:pt x="597" y="83"/>
                  <a:pt x="453" y="45"/>
                </a:cubicBezTo>
                <a:cubicBezTo>
                  <a:pt x="309" y="7"/>
                  <a:pt x="154" y="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4067280" y="3932280"/>
            <a:ext cx="1251000" cy="504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74920" y="5084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rtificados de que te De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7530600">
            <a:off x="6148080" y="4303440"/>
            <a:ext cx="1939680" cy="831960"/>
          </a:xfrm>
          <a:custGeom>
            <a:avLst/>
            <a:gdLst/>
            <a:ahLst/>
            <a:rect l="l" t="t" r="r" b="b"/>
            <a:pathLst>
              <a:path w="1452" h="680">
                <a:moveTo>
                  <a:pt x="0" y="0"/>
                </a:moveTo>
                <a:cubicBezTo>
                  <a:pt x="153" y="26"/>
                  <a:pt x="675" y="41"/>
                  <a:pt x="917" y="154"/>
                </a:cubicBezTo>
                <a:cubicBezTo>
                  <a:pt x="1159" y="267"/>
                  <a:pt x="1341" y="570"/>
                  <a:pt x="1452" y="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3924360" y="5516640"/>
            <a:ext cx="1584360" cy="1006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92400" y="4179960"/>
            <a:ext cx="2036520" cy="1082520"/>
          </a:xfrm>
          <a:custGeom>
            <a:avLst/>
            <a:gdLst/>
            <a:ahLst/>
            <a:rect l="l" t="t" r="r" b="b"/>
            <a:pathLst>
              <a:path w="1283" h="682">
                <a:moveTo>
                  <a:pt x="1283" y="682"/>
                </a:moveTo>
                <a:cubicBezTo>
                  <a:pt x="1153" y="641"/>
                  <a:pt x="716" y="551"/>
                  <a:pt x="502" y="437"/>
                </a:cubicBezTo>
                <a:cubicBezTo>
                  <a:pt x="288" y="323"/>
                  <a:pt x="105" y="9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0BAD-36BC-4CCB-9BD5-7400BD7024D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líticas Mac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ncipal preocupación pre-crisis era que repentinamente los inversores iban a retirar todo su dinero de EE.UU. (México 9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diciones anteriores ayudaron a generar el riesgo sist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te bajas tasas de interés, mayor atractivo inversión en c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ta demanda por r altas en EE.UU. =&gt; nuevos instrumentos financi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gualmente mayor culpable es la falta de regulación: creencia de que el sector privado podría manejar todo esto correc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ciones funda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ncos Centrales deben preocuparse de las búrbujas y D/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Cómo reconozco cuáles son búrbujas y cuáles 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OK si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asa de interés? ¿Si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asa =&gt;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manda activos de EEU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C58-6EC3-4039-8B49-82815407468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3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8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8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ortage Origination and Securit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mos visto varias ex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, bajo supuesto de mercado Efic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hay búrbujas bajo ninguna circuns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rcado debiera ser capaz de manejar desbalance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emás todo se le llama a esta la “Crisis Sub-prim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A qué se refiere ese nomb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1285-6311-4CD2-8491-AC451545C17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inversionistas invierten I con la garantía de ganar r en un perí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dinero puede ser o no invertido, no tiene una rentabilidad r, pero reportan que s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gunos inversionistas se retiran del fondo, obteniendo r que proviene del resto de los inversionistas y no de rentabilidades re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tasa de ingreso de inversionistas necesaria para mantener el esquema va subie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cen exponencialmente las liabilities (deud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voca el colapso cuando ya no hay inversionistas que entren debido a que ocupan ya todo el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0FB4-3F74-457B-B041-13B13B748F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de Nego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3120" y="2197080"/>
            <a:ext cx="180036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3120" y="3781440"/>
            <a:ext cx="1871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97120" y="3781440"/>
            <a:ext cx="194472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78560" y="3710160"/>
            <a:ext cx="194472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77840" y="23414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77840" y="3925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33480" y="18381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77840" y="45673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73480" y="3925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3080" y="3860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09840" y="45734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 de In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75280" y="4502160"/>
            <a:ext cx="309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sionista que mejor maneja riesgo hipotec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Especialistas en cobros de prést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38200" y="28465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29894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 da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4360" y="4076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11280" y="35672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curit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357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E66A-3E29-4264-AAA2-70D111D9745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 Mercado Hipotecario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ero aclarar algo fundament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Chile, la deuda reside en el individuo, por lo tanto, si vendo casa sigo endeu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E.UU., la deuda reside en el activo, por lo tanto, entrego casa a Banco y termino deu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lo tanto, si mi casa vale menos que la deuda, ¡mejor se la entrego al Banc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ay 3 tipos de prést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xed rate mortgages (FRMs): tasa f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justable rate mortgages (ARMs): tasa ajustable relacionada con un índice (Banco Centr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ybrids: Primero a tasa fija, luego se aj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124D-DDC1-4CC7-B984-A173029E834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2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7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2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Intro Mercado Hipotecario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ellos se clasifican en 2 categ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ime Mort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orming loans: Estándares de Freddie Mac y Fannie Mae (loan limit, credit score, loan to value ratio, debt to income ratio), cuentan con garantía del gobi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mbo loans: igual pero sin loan limit =&gt;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 y sin garant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HA/VA: Asegurados por una agencia estatal (FHA) y para gente que no podría acceder a préstamos. VA también asegurados y destinados a veteranos y milit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nprime Mortg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bprime: Con poco puntaje y/o con altos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t-A: &gt; riesgo prime, &lt; riesgo subprime, tienen todo OK salvo un menor credit score, o no cumplen un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EL/HELOC: Similar a una tarjeta de crédito, te dan un cupo para pedir adela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D88F-9130-44BC-B670-9E26937F772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4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4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4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9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9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 Mercado Hipotecario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curit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responde a colocar varios préstamos en un solo paquete (Mortgage-backed securities (MBSs) de modo de diversificar ries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ueño del MBS tiene derecho a un % de los pagos hechos al porta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llateralized debt obligation (CDOs) es un portafolio con una estructura de prioridad de pago (se le paga a A primero, luego B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rcado hipotecario es &gt; $10 trillones y un 55% es securit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overment-sponsored enterprises (GSEs) compran y securitizaban hipotecas, pero también otras empresas comenzaron a hace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hora vamos a los hech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6C7A-5E0D-4EB2-8F2A-E720F3B52FA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6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6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jo la calidad de prést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04960" y="1463760"/>
          <a:ext cx="3551040" cy="232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4960" y="1463760"/>
                    <a:ext cx="355104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788000" y="1461960"/>
          <a:ext cx="3546360" cy="2324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461960"/>
                    <a:ext cx="354636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806400" y="3800520"/>
          <a:ext cx="3549600" cy="23256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6400" y="3800520"/>
                    <a:ext cx="354960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788000" y="3798720"/>
          <a:ext cx="3546360" cy="23274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88000" y="3798720"/>
                    <a:ext cx="354636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10C-71FB-4E8A-832B-46EC79EC82E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atos Mercado Hipotec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95280" y="1916280"/>
          <a:ext cx="8229600" cy="4020840"/>
        </p:xfrm>
        <a:graphic>
          <a:graphicData uri="http://schemas.openxmlformats.org/drawingml/2006/table">
            <a:tbl>
              <a:tblPr/>
              <a:tblGrid>
                <a:gridCol w="579600"/>
                <a:gridCol w="831600"/>
                <a:gridCol w="831960"/>
                <a:gridCol w="831960"/>
                <a:gridCol w="906480"/>
                <a:gridCol w="831600"/>
                <a:gridCol w="831960"/>
                <a:gridCol w="831960"/>
                <a:gridCol w="920520"/>
                <a:gridCol w="8319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ñ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m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HA/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pr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t-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LO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Nonpr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93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2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7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8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9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1258920" y="1341360"/>
            <a:ext cx="68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illones de Dó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5950080"/>
            <a:ext cx="48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uente: Inside Mortgage Finan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6A30-3C5D-43C6-BE1D-B92EA1EE548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ién originaba las Mortg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a concentración en los últimos 1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3 pri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ran 19.4% en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6.6% en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2008, Countrywide, Washington Mutual y Wachovia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Bank of America, JP Morgan Chase y Wells F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4832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1721880"/>
                <a:gridCol w="932760"/>
                <a:gridCol w="1383480"/>
              </a:tblGrid>
              <a:tr h="496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R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 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w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lls Far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se Home Fin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ti/CitiMortg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 of Ame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shington Mut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cho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idential Cap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yMa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n Tru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Top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C88F-C8B9-4501-A3D1-B62F1AB647D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5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0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Subprime Origination and Securit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curitización permite transferir riesgo crediticio de los creadores del crédito a inversionistas capaces de manejar 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(y es un gran SI) los contratos entre creadores, securitizadores y inversores están OK =&gt; q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curitización =&gt; mercado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57200" y="3938760"/>
          <a:ext cx="8229600" cy="2579400"/>
        </p:xfrm>
        <a:graphic>
          <a:graphicData uri="http://schemas.openxmlformats.org/drawingml/2006/table">
            <a:tbl>
              <a:tblPr/>
              <a:tblGrid>
                <a:gridCol w="1309680"/>
                <a:gridCol w="1309680"/>
                <a:gridCol w="1309680"/>
                <a:gridCol w="1309680"/>
                <a:gridCol w="1549440"/>
                <a:gridCol w="1441440"/>
              </a:tblGrid>
              <a:tr h="555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ones 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p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re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prime M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Securit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8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9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,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395280" y="414972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19C-6F21-4709-B1A2-0A65AA6C221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2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ción de 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7967520" cy="324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F102-92D6-4A8D-8C3D-6C4174EADA3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ién es quién en la Cri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600200"/>
          <a:ext cx="8229600" cy="4638600"/>
        </p:xfrm>
        <a:graphic>
          <a:graphicData uri="http://schemas.openxmlformats.org/drawingml/2006/table">
            <a:tbl>
              <a:tblPr/>
              <a:tblGrid>
                <a:gridCol w="1898640"/>
                <a:gridCol w="1108080"/>
                <a:gridCol w="1109520"/>
                <a:gridCol w="1108080"/>
                <a:gridCol w="993960"/>
                <a:gridCol w="2011320"/>
              </a:tblGrid>
              <a:tr h="36828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ok Runners of Worldwide CDO, 2004-2008 ($ Billones / % Merc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 (hasta Sept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ti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 / 1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/ 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/ 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rrill Lyn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 / 1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 / 1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 / 1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/ 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utsche 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/ 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/ 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/ 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 / 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/ 1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c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 / 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 / 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/ 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acho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/ 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/ 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/ 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/ 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/ 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ldman Sach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 / 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/ 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 / 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N Amr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/ 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/ 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 / 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/ 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/ 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/ 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 / 4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hman Br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/ 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/ 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 / 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2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PMorg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/ 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 / 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/ 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/ 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ar Stear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/ 5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/ 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 / 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 / 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 / 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 of Ame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/ 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/ 4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 / 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/ 3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/ 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04F-9DD8-44F0-AF74-85451FC768E2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los que salen son pocos, puedo recurrir al fondo para pagar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gual en algún punto, colapsa y provoca pérdidas para los inversioni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resultar ganador o perdedor depende de si te retiraste antes del colap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uego de la sillita mu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guir bailando mientras hay mú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na el que se sienta justo antes de que termine la música (colap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te tratas de sentar después, pierdes porque no tienes silla (quedaste con c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00D9-3592-426F-817B-18DC9045A1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 origen, securitización, 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o origino un préstamo, lo empaqueto y es comprado por aquél más capaz de lidiar ante un posible no-p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, origino un préstamo y me deshago de él, por lo tanto no “skin in the game” =&gt; le doy préstamos a cualqu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gual una mejor calidad de préstamos =&gt; + clientes y más ingresos por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réstamo alcanzaba estaba 2-4 meses en el B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los primeros defaults se devolvían al or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63C-5564-4E5B-A7ED-5485DC4FE01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8" dur="indefinite" restart="never" nodeType="tmRoot">
          <p:childTnLst>
            <p:seq>
              <p:cTn id="1199" dur="indefinite" nodeType="mainSeq">
                <p:childTnLst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9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4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datory l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jo la premisa de una nueva tecnología, se comenzó a dar préstamos a gente no-a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s sofisticados para clientes no-sofisti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+ sofisticado el producto =&gt;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informaban de créditos más simples y no pedían toda la doc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RMs: préstamos a tasa fija y de ahí aju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/28: 2 años tasa fija baja, 28 ajuste base (LIBOR, Bonos del tesoro, etc.) + 6%; lo mismo 3/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a es que después de 2 / 3 años se reprograme el créd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ólo conviene reprogramar si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valor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se basaban en que siempre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valor c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E02-E8D2-4172-9BA7-3FF378B6D0B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1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6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1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6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1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6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1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6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1" dur="500"/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s problemas indican de que en algún momento habrían varios defaults de loans (INICIO CRI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n embargo, securitización =&gt; divers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lo tanto, en teoría pequeño imp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tra posibilidad es q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faults =&gt;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queza de los hog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lo tanto, gente menos rica y menos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obstante, explica crisis real actual, no crisis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que pasó es que modelo de securitización =&gt; traspasar riesgo, pero Bancos realizaron apuesta en el mercado inmobili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¡¡Banco es el lugar menos indicado para tener activos riesgoso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3C9-7D5B-464D-BDCA-497D2B6BD802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8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3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3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8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3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3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delo de Nego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3120" y="2197080"/>
            <a:ext cx="180036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73120" y="3781440"/>
            <a:ext cx="187164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97120" y="3781440"/>
            <a:ext cx="1944720" cy="649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78560" y="3710160"/>
            <a:ext cx="194472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77840" y="23414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77840" y="39258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33480" y="18381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ivid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77840" y="45673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73480" y="3925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3080" y="386064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09840" y="457344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nco de In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75280" y="45021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sionista que mejor maneja riesgo hipotec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88000" y="522936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Arial"/>
              </a:rPr>
              <a:t>¡¡BANCO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38200" y="28465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0920" y="298944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e da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4360" y="4076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35672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curiti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80000" y="40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580000" y="3573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04C-0831-4B89-8C68-EF7C7C116E8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oseedores de Deuda Hipotecaria</a:t>
            </a:r>
            <a:br>
              <a:rPr sz="4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008, Billones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197000"/>
          <a:ext cx="9143640" cy="5587560"/>
        </p:xfrm>
        <a:graphic>
          <a:graphicData uri="http://schemas.openxmlformats.org/drawingml/2006/table">
            <a:tbl>
              <a:tblPr/>
              <a:tblGrid>
                <a:gridCol w="1719360"/>
                <a:gridCol w="928080"/>
                <a:gridCol w="929520"/>
                <a:gridCol w="927720"/>
                <a:gridCol w="928080"/>
                <a:gridCol w="927360"/>
                <a:gridCol w="928080"/>
                <a:gridCol w="927720"/>
                <a:gridCol w="927720"/>
              </a:tblGrid>
              <a:tr h="101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LO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ency MB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agency A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DO Subo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CDO Subo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Banks and Thrif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2,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8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8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3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 4,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3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SEs and FHL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oker-deal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ncial Guaran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urance Compan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8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vers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2,9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,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6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0,6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9100-48A7-47EA-B0A9-4FC9004EAD3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Pq sector financiero apost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 explicaciones de porque el sector financiero hizo 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lla de incentivos dentro de las firmas: Altas fees y éxito de tecnología financiera incentivaban apuestas en hipote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sible incentivo es que las firmas tenían una garantía estatal o implícita por ser muy grandes =&gt; Si resulta ganamos, si perdemos pierde el Es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firmas financieras no entendían qué era lo que estaban transando y hacie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curitización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a calidad de los présta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alta de transparencia respecto a la calidad de los paqu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bajar precios, firmas no entienden el imp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593E-1C25-4771-8ECE-AF7968A0B82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3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8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3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8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3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ceso de Securit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1814400"/>
            <a:ext cx="8229600" cy="409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4350-24FC-475A-AF88-E41564BFB0C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Pq sector financiero apost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curitización supuestament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 y lo llevaba al tenedor más robu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,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 y lo llevó al tenedor menos robu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blema es que la securitización fue muy compleja y poco transpa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un paquete con 81% AAA, se pasaba a uno de 91,93% A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crisis, la falta de transparencia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saber cuánto valen los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saber quién tiene los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ie confía en nadie, alta aversión al riesgo, falta de liquid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1D3E-8F8C-4C09-A421-AA46233AD21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5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0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5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0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5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0" dur="5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5" dur="5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 general, se muestran como una “oportunidad de negoci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frecen inversiones de diverso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sobreconfianza de los inversionistas los lleva a caer (creen que realmente tienen una alta 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chas apuntan a grupos específicos, donde el estafador es un líder de dicha comu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E10-53A2-422A-9C4D-9D5F75FB22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nen variadas consecu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an la confianza en los mercados financi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ían las inversiones de cosas productivas a estas estafas; o de nacionales a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incurre en gasto fiscal si es que hay un salva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vían depósitos bancarios y crea préstamos incobrables si es que el préstamo se invirtió en Pon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umentan los shocks, por su alta ren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usan crisis socio-económica si hogares invirtieron en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an confianza en autoridades (políticas, reguladoras o legales) por fallar en detectar, prevenir o por apoyar las esquemas antes del colap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AAE-C8A2-4340-9869-F4168F9C4A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493560"/>
            <a:ext cx="8229600" cy="541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BF77-BB98-4B38-891A-998D692743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quemas Pon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emás, son muy difíciles de preve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muchas, no hay atribuciones de 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ha sido capaz de detectar en etapas tempr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detecta cuando ya está madura, autoridades son renuentes a desarticular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ionistas culparían a la autoridad de sus pérd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si se dejan, inversionistas culpan a autoridad por no haberla detectado 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emás, creadores gastan en caridad y política, por lo que son mirados, y defendidos, como pilares de la com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497E-A4F8-4C30-9275-1DC76FF1DE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54:50Z</dcterms:created>
  <dc:creator>WinuE</dc:creator>
  <dc:description/>
  <dc:language>en-US</dc:language>
  <cp:lastModifiedBy>Bernardo</cp:lastModifiedBy>
  <dcterms:modified xsi:type="dcterms:W3CDTF">2009-08-11T19:30:46Z</dcterms:modified>
  <cp:revision>41</cp:revision>
  <dc:subject/>
  <dc:title>Causas de la Crisis</dc:title>
</cp:coreProperties>
</file>