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15.png" ContentType="image/png"/>
  <Override PartName="/ppt/media/image10.jpeg" ContentType="image/jpeg"/>
  <Override PartName="/ppt/media/image8.jpeg" ContentType="image/jpeg"/>
  <Override PartName="/ppt/media/image13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media/image6.jpeg" ContentType="image/jpeg"/>
  <Override PartName="/ppt/media/image4.jpeg" ContentType="image/jpeg"/>
  <Override PartName="/ppt/media/image25.png" ContentType="image/png"/>
  <Override PartName="/ppt/media/image9.jpeg" ContentType="image/jpeg"/>
  <Override PartName="/ppt/media/image12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14.wmf" ContentType="image/x-wmf"/>
  <Override PartName="/ppt/media/image16.png" ContentType="image/png"/>
  <Override PartName="/ppt/media/image20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06F-505E-4E3D-B77A-FC9DB8AC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99F-CA58-4E66-808D-242F5FDE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AFF-954B-435D-8F0F-9029D7FF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EAC-CEAB-4257-AEC6-FCF6F68F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AE2-0DE4-4ED0-BF45-597B1277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8FE-574C-4A0A-B178-470190D9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CC0-E2D8-4023-8650-B300EF2B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3B3-AF29-4996-A0A4-34DE18C7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A5F-CF27-4A8D-8405-F67A4092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F76-5140-4A34-9DB4-0652934F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A39-9CA4-42E7-A626-71BF36E9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1E8-9E44-46C8-94E8-6D980938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650E-BE3F-4F03-840D-41860EE28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B98-7B19-472C-ACAC-817049AAE4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so Mad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el fraude de inversión más grande de 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s pérdidas se estiman en U$ 50 b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rnard Madoff era líder y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tional Association of Securities Dea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SDAQ stock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fondo supuestamente invertía en blue chips stocks (ingresos regulares y pocas deudas, confiables ante cri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ndo ofrecía alta rentabilidad y estable a una clientela exclu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054-7F14-4068-A840-51F78B9956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87600" y="1447920"/>
            <a:ext cx="5968800" cy="350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B18-BE9D-4525-8ABC-066A3B0C90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so Mad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desatarse la crisis, los inversionistas quisieron retirar su fondos =&gt; colap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(Securities and Exchange Commission) ha sido criticada por haber dejado pasar advertencias pre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11 Diciembre 2008 la SEC tomó acciones contra Madoff (congelan ac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12 Marzo 2009 Madoff confe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IPC (corporación de agentes del mercado) puso un fondo de ayuda con un máximo de U$500.000 por inversio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enado a 150 años, no podía creer que su estafa hubiera durado t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204-ADB8-46E8-BB9D-82F4AEF06B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262160"/>
            <a:ext cx="4038480" cy="432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8320" y="1916280"/>
            <a:ext cx="4038480" cy="297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4ED-26C1-45AF-80E8-4415B10189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74800" y="1125360"/>
            <a:ext cx="3201840" cy="452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964040" y="1125360"/>
            <a:ext cx="3405240" cy="45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AB8-6F00-454F-99A9-E2C38FC108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ford Financial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eraba en Latinoamérica y el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uestamente un grupo privado de compañías especialistas en manejo de inver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nejaba sobre los U$ 8,5 b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ntro operativo en Antigua y Barb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dor “Sir” Robert Stan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inente financista, filántropo y sponsor de equipos depor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mbrado Sir por Antigua y Barbud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9640" y="4584600"/>
            <a:ext cx="1584360" cy="227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A7C-7E5B-454F-A978-8EF94ED39B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ford Financial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no podía actuar, Stanford tenía licencia en Antigua y Barbuda o no la tenía para algunas de sus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tanford usó una excepción que permite la venta de activos no registrados a inversionistas acredi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través de Stanford Group Company vendió U$ 8 bn. en certificados de déposito (C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Ds eran cobrables en dif. bancos a través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bert Stanford se apropió de U$ 1.6 bn a través de falsos préstamo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ía 50.000 clientes en 150 países y duró 1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tomó acciones el 15 de febrero de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25 de junio del 2009 comenzó el ju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F93-B8A7-4989-A06E-D53B1E380C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233440"/>
            <a:ext cx="4038480" cy="2422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67160" y="1996920"/>
            <a:ext cx="2800440" cy="289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7D9-3E17-4BD7-8F59-37E862D8AB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2216160"/>
            <a:ext cx="4038480" cy="2529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48280" y="1281240"/>
            <a:ext cx="3238560" cy="44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B3C-25E0-4156-B56E-C186E7560A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15F-C987-45D5-89BF-96084F9C54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Última Cl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ión de Hipótesis de Mercados Efic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cio está siempre OK =&gt; no hay búrbu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sible ganarle a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si controlar ries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úrbujas por Price-to-price Feedback (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ejemplos de altas ganancias =&gt; ¿Posibilidad de ganarle al merc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 entre Riesgo e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esgo: Veo la distribución a partir de datos históricos y puedo controlar cuánto pierdo o g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ertidumbre: No sé la distribución pues cambia a cada rato =&gt; datos no sirven y no puedo controlar ganancias/pér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B65-6F50-4E0B-8521-679A1475D6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causas de la crisis son muchas y serán revisadas a través del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, hay una manera estándar en que se dan las crisi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genera una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xpande el crédito (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n° créditos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quisitos) para invertir en el activo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lota la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arecen los créditos insolv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sata la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59E-FF67-41F8-A169-6A0EE6673F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alicemos la actual crisis en dicho conte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genera una búrbuja inmobili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Por qué se genera? ¿En qué se pensaba? ¿Qué pudo haber generado e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umenta el crédito para comprar 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é se hizo para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l crédito? ¿En qué planos se aumentó o facilitó el crédito? ¿Por qué era rentable hacer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un momento empiezan a caer el valor de las casas y de los activos relacionados con hipotec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Tendría consecuencias? ¿Era esper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bancos se encuentran con un alto % de paquetes de deuda en sus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Por qué los bancos mantuvieron esos activos riesgosos en sus libros? ¿Por qué el impacto fue tan gran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1FC-C42D-4485-89BC-31296A011F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blema 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77C-07A8-47BF-85CD-8482811086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emos primeramente la búrbuja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2349360"/>
          <a:ext cx="554040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49360"/>
                    <a:ext cx="554040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780-CA70-42FF-9625-70C2A4B888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36760" y="1600200"/>
          <a:ext cx="62690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600200"/>
                    <a:ext cx="62690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AEF-9402-41D7-B734-47E02748E6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BB8-BA46-4631-97B6-BB3C76C0F8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211800" cy="3886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3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useprice/rent ratio respecto a la media Histó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B13A-5952-474D-99FE-826CDB17EA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isten explicaciones para la existencia de la búrbuja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rrational Exuberance (manías, animal spir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líticas Macroecon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equilibrios a nivel global China vs EE.U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s de Interés mu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 comienzos de los 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hadow Banking System: Instituciones Financieras que actuaban como bancos pero sin sus regu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A95-30C3-4C46-8DFF-0B4893DC3D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1era: 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fiere al fenómeno por el cual todos comienzan a creer que algo siempre va a sub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hipótesis es que la gente comenzó a creer que los precios de las casas irían siempre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algo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recio, entonces gente compra creyendo que eso indica que vendrán más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o el hecho de que ellos compren genera a su vez más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39C-71AC-4ED9-83B5-C66AC81413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muy parecido a proceso que revisamos anteriormente, aplicado a c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78936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16360" y="472608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472608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9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4869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iqu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8704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fi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32846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537372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53737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4365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924360" y="50864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74920" y="4293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40784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ran C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0" y="270828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5084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is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49F-BC12-4CBC-9F12-4CA3ECC311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esquemas Ponzi son una forma de estafa en donde se prometen ganancias que son sustentadas por la entrada de nuevos inversio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797360"/>
            <a:ext cx="2519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3933720"/>
            <a:ext cx="2592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0360" y="5877000"/>
            <a:ext cx="180036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5084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ndo com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4653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8560" y="4149720"/>
            <a:ext cx="25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vos. Inversio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8748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3860640"/>
            <a:ext cx="2664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4076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ejos Inversio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07120" y="409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53080" y="458136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558972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602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4797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472428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+r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prome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544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n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92F-42E5-4ADF-971C-F46BD199A6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iezan a aparecer libros de cómo el activo X (acciones o inmuebles) es la mejor inve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particular, la gente tiende a recordar cuánto pagó por su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990: Pagué 30.000.000 por la c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008: La vendí en 98.000.000 mil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é 68 millon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en términos reales, se ganó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te tiene Money Ill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840-C508-4A8C-BDCD-BA296492DF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uando salen libros =&gt;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sible búrbu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6165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blicado el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780-A43B-49DF-B284-235C64718B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búrbuja explicaría todas las posibles explicaciones de lo que pa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íticos habrían apoyado los préstamos subprime porque se ampliaba a las minorías la posibilidad de inversión en esta espectacular 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ED no habría pinchado la búrbuja porque en primer lugar no creía que había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esequilibrios macro se generaron porque nadie veía una búrbu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ED no regularizó los préstamos y los shadows banks porque no veía ninguna razón para hac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ran parte, todo ello se debe a que se creyó que las nuevas tecnologías financieras realmente lograban controlar el riesgo de los préstamos sub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498-0775-492A-BF3C-6AB4DE761D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2da: Antecedentes Políticas Mac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undo estaba experimentando un alto crecimiento en las etapas prev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03280" y="2637000"/>
          <a:ext cx="6048360" cy="396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637000"/>
                    <a:ext cx="604836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403280" y="6524640"/>
            <a:ext cx="655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uente: FMI (200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F2C-5270-4103-ABF6-F6EE0C28B1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Política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mismo, habían bajas tasas de interés de corto y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íses asiáticos y petroleros ahorraban, EE.UU. se endeud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lo habría contribuido a la generación de riesgo sisté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miraba con excesivo optimismo el fut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bajas tasas de bonos =&gt; atractivo diferentes activos, subestimando ries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política de los Bancos Centrales se enfocaban sólo en inf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se creía en la posibilidad de generación de riesgos sisté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se creía en las búrbu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s de interés sólo sirven para controlar inflación, estabilidad financiera se deja a la 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í como tasas de interés no pincharían búrbujas, el bajarlas sí controlaría las posibles consecuencias de su est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risis ha generado un replanteamiento sobre el rol de los Bancos Centrales en el control de búrbujas y del apalancamiento (D/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DA4-7AE1-43FC-9747-20CF7B548A5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líticas Macro: Tasa de Inte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720" y="1600200"/>
            <a:ext cx="383400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tasas de interés estaban 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 muy baja post búrbuja punto-com pudo ayudar a crisis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a demanda de países asiáticos y petroleros por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Centrales controlaban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B1D-6669-4B9C-B362-EB598E68C58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líticas Macro: Global Imbal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2513160"/>
            <a:ext cx="4038480" cy="2700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aíses asiáticos, en particular China, invertían fuertemente en activos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creía que los activos de EE.UU. eran más seguros y líquidos que el r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ía a China tener tipo de cambio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1DF-D5FC-4658-A223-4B5ADEF19A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cambio China-EE.U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1285920" cy="771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020000" y="3284640"/>
            <a:ext cx="1297080" cy="795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067280" y="1700280"/>
            <a:ext cx="1295280" cy="988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38280" y="2131920"/>
            <a:ext cx="2313000" cy="930240"/>
          </a:xfrm>
          <a:custGeom>
            <a:avLst/>
            <a:gdLst/>
            <a:ahLst/>
            <a:rect l="l" t="t" r="r" b="b"/>
            <a:pathLst>
              <a:path w="1457" h="586">
                <a:moveTo>
                  <a:pt x="0" y="586"/>
                </a:moveTo>
                <a:cubicBezTo>
                  <a:pt x="105" y="516"/>
                  <a:pt x="385" y="266"/>
                  <a:pt x="628" y="168"/>
                </a:cubicBezTo>
                <a:cubicBezTo>
                  <a:pt x="871" y="70"/>
                  <a:pt x="1284" y="35"/>
                  <a:pt x="14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2060640"/>
            <a:ext cx="2305080" cy="1079280"/>
          </a:xfrm>
          <a:custGeom>
            <a:avLst/>
            <a:gdLst/>
            <a:ahLst/>
            <a:rect l="l" t="t" r="r" b="b"/>
            <a:pathLst>
              <a:path w="1452" h="680">
                <a:moveTo>
                  <a:pt x="0" y="0"/>
                </a:moveTo>
                <a:cubicBezTo>
                  <a:pt x="153" y="26"/>
                  <a:pt x="675" y="41"/>
                  <a:pt x="917" y="154"/>
                </a:cubicBezTo>
                <a:cubicBezTo>
                  <a:pt x="1159" y="267"/>
                  <a:pt x="1341" y="570"/>
                  <a:pt x="1452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067280" y="2852640"/>
            <a:ext cx="1251000" cy="5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08720" y="3068640"/>
            <a:ext cx="136836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862" y="227"/>
                </a:moveTo>
                <a:cubicBezTo>
                  <a:pt x="729" y="155"/>
                  <a:pt x="597" y="83"/>
                  <a:pt x="453" y="45"/>
                </a:cubicBezTo>
                <a:cubicBezTo>
                  <a:pt x="309" y="7"/>
                  <a:pt x="154" y="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06520" y="3041640"/>
            <a:ext cx="1617840" cy="387360"/>
          </a:xfrm>
          <a:custGeom>
            <a:avLst/>
            <a:gdLst/>
            <a:ahLst/>
            <a:rect l="l" t="t" r="r" b="b"/>
            <a:pathLst>
              <a:path w="1019" h="244">
                <a:moveTo>
                  <a:pt x="1019" y="0"/>
                </a:moveTo>
                <a:cubicBezTo>
                  <a:pt x="807" y="7"/>
                  <a:pt x="599" y="4"/>
                  <a:pt x="429" y="45"/>
                </a:cubicBezTo>
                <a:cubicBezTo>
                  <a:pt x="259" y="86"/>
                  <a:pt x="89" y="203"/>
                  <a:pt x="0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2041400">
            <a:off x="2339280" y="3860280"/>
            <a:ext cx="1617480" cy="387360"/>
          </a:xfrm>
          <a:custGeom>
            <a:avLst/>
            <a:gdLst/>
            <a:ahLst/>
            <a:rect l="l" t="t" r="r" b="b"/>
            <a:pathLst>
              <a:path w="1019" h="244">
                <a:moveTo>
                  <a:pt x="1019" y="0"/>
                </a:moveTo>
                <a:cubicBezTo>
                  <a:pt x="807" y="7"/>
                  <a:pt x="599" y="4"/>
                  <a:pt x="429" y="45"/>
                </a:cubicBezTo>
                <a:cubicBezTo>
                  <a:pt x="259" y="86"/>
                  <a:pt x="89" y="203"/>
                  <a:pt x="0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12200">
            <a:off x="5508000" y="3789000"/>
            <a:ext cx="136836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862" y="227"/>
                </a:moveTo>
                <a:cubicBezTo>
                  <a:pt x="729" y="155"/>
                  <a:pt x="597" y="83"/>
                  <a:pt x="453" y="45"/>
                </a:cubicBezTo>
                <a:cubicBezTo>
                  <a:pt x="309" y="7"/>
                  <a:pt x="154" y="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067280" y="3932280"/>
            <a:ext cx="1251000" cy="50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74920" y="5084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rtificados de que te D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7530600">
            <a:off x="6148080" y="4303440"/>
            <a:ext cx="1939680" cy="831960"/>
          </a:xfrm>
          <a:custGeom>
            <a:avLst/>
            <a:gdLst/>
            <a:ahLst/>
            <a:rect l="l" t="t" r="r" b="b"/>
            <a:pathLst>
              <a:path w="1452" h="680">
                <a:moveTo>
                  <a:pt x="0" y="0"/>
                </a:moveTo>
                <a:cubicBezTo>
                  <a:pt x="153" y="26"/>
                  <a:pt x="675" y="41"/>
                  <a:pt x="917" y="154"/>
                </a:cubicBezTo>
                <a:cubicBezTo>
                  <a:pt x="1159" y="267"/>
                  <a:pt x="1341" y="570"/>
                  <a:pt x="1452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3924360" y="5516640"/>
            <a:ext cx="1584360" cy="1006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92400" y="4179960"/>
            <a:ext cx="2036520" cy="1082520"/>
          </a:xfrm>
          <a:custGeom>
            <a:avLst/>
            <a:gdLst/>
            <a:ahLst/>
            <a:rect l="l" t="t" r="r" b="b"/>
            <a:pathLst>
              <a:path w="1283" h="682">
                <a:moveTo>
                  <a:pt x="1283" y="682"/>
                </a:moveTo>
                <a:cubicBezTo>
                  <a:pt x="1153" y="641"/>
                  <a:pt x="716" y="551"/>
                  <a:pt x="502" y="437"/>
                </a:cubicBezTo>
                <a:cubicBezTo>
                  <a:pt x="288" y="323"/>
                  <a:pt x="105" y="9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E14-5897-4911-B844-C5C5E37DA41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lítica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cipal preocupación pre-crisis era que repentinamente los inversores iban a retirar todo su dinero de EE.UU. (México 9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iciones anteriores ayudaron a generar el riesgo sist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te bajas tasas de interés, mayor atractivo inversión en c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a demanda por r altas en EE.UU. =&gt; nuevos instrumentos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gualmente mayor culpable es la falta de regulación: creencia de que el sector privado podría manejar todo esto correc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ciones fund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Centrales deben preocuparse de las búrbujas y D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ómo reconozco cuáles son búrbujas y cuáles 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OK 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asa de interés? ¿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asa =&gt;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manda activos de EEU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7AE-F454-49D9-B053-64A7EAAB7EE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rtage Origination and Securit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mos visto varias ex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, bajo supuesto de mercado Efic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búrbujas bajo ninguna circuns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rcado debiera ser capaz de manejar desbalance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emás todo se le llama a esta la “Crisis Sub-pr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 qué se refiere ese nomb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A1E-C056-4D27-BB21-938C786A23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inversionistas invierten I con la garantía de ganar r en un perí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dinero puede ser o no invertido, no tiene una rentabilidad r, pero reportan que 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inversionistas se retiran del fondo, obteniendo r que proviene del resto de los inversionistas y no de rentabilidades re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asa de ingreso de inversionistas necesaria para mantener el esquema va sub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cen exponencialmente las liabilities (deud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oca el colapso cuando ya no hay inversionistas que entren debido a que ocupan ya todo 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EA0-B08A-48CC-809F-234AC875CD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Nego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3120" y="2197080"/>
            <a:ext cx="180036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3120" y="3781440"/>
            <a:ext cx="1871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7120" y="3781440"/>
            <a:ext cx="194472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78560" y="3710160"/>
            <a:ext cx="1944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77840" y="2341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77840" y="3925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33480" y="1838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77840" y="4567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73480" y="3925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386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09840" y="4573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 de 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75280" y="4502160"/>
            <a:ext cx="309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onista que mejor maneja riesgo hipotec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Especialistas en cobros de pré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38200" y="2846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9894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 da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407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1280" y="35672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rit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35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A59-4C96-478A-A1B7-2038721F56F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ero aclarar algo fundamen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hile, la deuda reside en el individuo, por lo tanto, si vendo casa sigo endeu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E.UU., la deuda reside en el activo, por lo tanto, entrego casa a Banco y termino de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o tanto, si mi casa vale menos que la deuda, ¡mejor se la entrego al Banc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3 tipos de prést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xed rate mortgages (FRMs): tasa f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justable rate mortgages (ARMs): tasa ajustable relacionada con un índice (Banco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ybrids: Primero a tasa fija, luego se aj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49A-C273-49FD-A97D-5E41D15C811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ellos se clasifican en 2 categ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 Mort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ing loans: Estándares de Freddie Mac y Fannie Mae (loan limit, credit score, loan to value ratio, debt to income ratio), cuentan con garantía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mbo loans: igual pero sin loan limit =&gt;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 y sin garant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HA/VA: Asegurados por una agencia estatal (FHA) y para gente que no podría acceder a préstamos. VA también asegurados y destinados a veteranos y mili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nprime Mort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prime: Con poco puntaje y/o con altos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-A: &gt; riesgo prime, &lt; riesgo subprime, tienen todo OK salvo un menor credit score, o no cumplen un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L/HELOC: Similar a una tarjeta de crédito, te dan un cupo para pedir adela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C98-7284-4EE1-A814-7EFE64A50E6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responde a colocar varios préstamos en un solo paquete (Mortgage-backed securities (MBSs) de modo de diversificar 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ueño del MBS tiene derecho a un % de los pagos hechos al porta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llateralized debt obligation (CDOs) es un portafolio con una estructura de prioridad de pago (se le paga a A primero, luego B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rcado hipotecario es &gt; $10 trillones y un 55% es securit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overment-sponsored enterprises (GSEs) compran y securitizaban hipotecas, pero también otras empresas comenzaron a hace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hora vamos a los he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B69-8D22-445A-A456-1CB095FA9FB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jo la calidad de prést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04960" y="1463760"/>
          <a:ext cx="3551040" cy="232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4960" y="1463760"/>
                    <a:ext cx="355104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788000" y="1461960"/>
          <a:ext cx="3546360" cy="232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461960"/>
                    <a:ext cx="35463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806400" y="3800520"/>
          <a:ext cx="3549600" cy="2325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6400" y="3800520"/>
                    <a:ext cx="354960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788000" y="3798720"/>
          <a:ext cx="3546360" cy="2327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3798720"/>
                    <a:ext cx="354636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A5A-0199-44DE-BA2C-B0DD1EC9367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atos Mercado Hipotec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95280" y="1916280"/>
          <a:ext cx="8229600" cy="4020840"/>
        </p:xfrm>
        <a:graphic>
          <a:graphicData uri="http://schemas.openxmlformats.org/drawingml/2006/table">
            <a:tbl>
              <a:tblPr/>
              <a:tblGrid>
                <a:gridCol w="579600"/>
                <a:gridCol w="831600"/>
                <a:gridCol w="831960"/>
                <a:gridCol w="831960"/>
                <a:gridCol w="906480"/>
                <a:gridCol w="831600"/>
                <a:gridCol w="831960"/>
                <a:gridCol w="831960"/>
                <a:gridCol w="920520"/>
                <a:gridCol w="8319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m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HA/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t-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O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Nonpr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7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8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9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258920" y="134136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illones de Dó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595008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uente: Inside Mortgage Fina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F7B-FE6B-4969-BC1E-F9D8562F83E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ién originaba las Mortg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 concentración en los últimos 1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3 pri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an 19.4% e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6.6% e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2008, Countrywide, Washington Mutual y Wachovia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Bank of America, JP Morgan Chase y Wells F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4832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1721880"/>
                <a:gridCol w="932760"/>
                <a:gridCol w="1383480"/>
              </a:tblGrid>
              <a:tr h="49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w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lls F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se Home Fin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/CitiMortg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shington Mu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cho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ential Cap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yM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 Tr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Top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F4C-1A78-4041-822F-CE91D678775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0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ubprime Origination and Securit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uritización permite transferir riesgo crediticio de los creadores del crédito a inversionistas capaces de manejar 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(y es un gran SI) los contratos entre creadores, securitizadores y inversores están OK =&gt;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curitización =&gt; mercado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3938760"/>
          <a:ext cx="8229600" cy="2579400"/>
        </p:xfrm>
        <a:graphic>
          <a:graphicData uri="http://schemas.openxmlformats.org/drawingml/2006/table">
            <a:tbl>
              <a:tblPr/>
              <a:tblGrid>
                <a:gridCol w="1309680"/>
                <a:gridCol w="1309680"/>
                <a:gridCol w="1309680"/>
                <a:gridCol w="1309680"/>
                <a:gridCol w="1549440"/>
                <a:gridCol w="1441440"/>
              </a:tblGrid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ones 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e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 M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Securit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395280" y="41497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653-9032-4597-96CC-8A2866C4B6C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ción de 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967520" cy="324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5CF-1003-41ED-A3F5-AD8C0FD0773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ién es quién en la Cri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600200"/>
          <a:ext cx="8229600" cy="4638600"/>
        </p:xfrm>
        <a:graphic>
          <a:graphicData uri="http://schemas.openxmlformats.org/drawingml/2006/table">
            <a:tbl>
              <a:tblPr/>
              <a:tblGrid>
                <a:gridCol w="1898640"/>
                <a:gridCol w="1108080"/>
                <a:gridCol w="1109520"/>
                <a:gridCol w="1108080"/>
                <a:gridCol w="993960"/>
                <a:gridCol w="2011320"/>
              </a:tblGrid>
              <a:tr h="3682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ok Runners of Worldwide CDO, 2004-2008 ($ Billones / % Merc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 (hasta Sept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 / 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/ 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/ 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rill Lyn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/ 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 / 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 / 1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/ 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e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/ 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/ 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1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c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 / 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 / 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cho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/ 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/ 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ldman Sac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/ 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/ 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N Am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/ 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/ 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/ 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/ 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/ 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hman Br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/ 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 / 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2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Morg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/ 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/ 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r Stear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/ 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/ 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/ 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/ 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/ 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CF4-5C3C-4C65-BD73-E73BD4A9124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los que salen son pocos, puedo recurrir al fondo para pagar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gual en algún punto, colapsa y provoca pérdidas para los inversion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esultar ganador o perdedor depende de si te retiraste antes del colap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ego de la sillita mu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guir bailando mientras hay mú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 el que se sienta justo antes de que termine la música (colap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te tratas de sentar después, pierdes porque no tienes silla (quedaste con c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ABC-5D23-435E-A1E6-15096F3316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origen, securitización, 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origino un préstamo, lo empaqueto y es comprado por aquél más capaz de lidiar ante un posible no-p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origino un préstamo y me deshago de él, por lo tanto no “skin in the game” =&gt; le doy préstamos a cualqu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 una mejor calidad de préstamos =&gt; + clientes y más ingresos por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éstamo alcanzaba estaba 2-4 meses en el 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los primeros defaults se devolvían al or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39E-E932-4F9C-859C-7B7964D95D0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datory l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la premisa de una nueva tecnología, se comenzó a dar préstamos a gente no-a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s sofisticados para clientes no-sofis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 sofisticado el producto =&gt;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informaban de créditos más simples y no pedían toda la doc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Ms: préstamos a tasa fija y de ahí 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/28: 2 años tasa fija baja, 28 ajuste base (LIBOR, Bonos del tesoro, etc.) + 6%; lo mismo 3/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a es que después de 2 / 3 años se reprograme el créd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o conviene reprogramar 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valor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se basaban en que siempre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valor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3DD-AD2C-41F5-A502-7E70DDD0916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1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6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s problemas indican de que en algún momento habrían varios defaults de loans (INICIO CRI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n embargo, securitización =&gt; diver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lo tanto, en teoría pequeño 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a posibilidad es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faults =&gt;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queza de los hog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lo tanto, gente menos rica y menos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obstante, explica crisis real actual, no crisis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que pasó es que modelo de securitización =&gt; traspasar riesgo, pero Bancos realizaron apuesta en el mercado inmobil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¡¡Banco es el lugar menos indicado para tener activos riesgoso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432-7581-498F-A858-024E7D0F2E0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3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3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Nego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3120" y="2197080"/>
            <a:ext cx="180036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3120" y="3781440"/>
            <a:ext cx="1871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97120" y="3781440"/>
            <a:ext cx="194472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8560" y="3710160"/>
            <a:ext cx="1944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77840" y="2341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77840" y="3925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33480" y="1838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77840" y="4567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73480" y="3925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3080" y="386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09840" y="4573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 de 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75280" y="45021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onista que mejor maneja riesgo hipotec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88000" y="522936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¡¡BANCO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38200" y="2846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29894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 da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407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35672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rit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8000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35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428-924A-4B84-A03A-8D40B9F4390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seedores de Deuda Hipotecaria</a:t>
            </a:r>
            <a:br>
              <a:rPr sz="4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08, Billones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197000"/>
          <a:ext cx="9143640" cy="5587560"/>
        </p:xfrm>
        <a:graphic>
          <a:graphicData uri="http://schemas.openxmlformats.org/drawingml/2006/table">
            <a:tbl>
              <a:tblPr/>
              <a:tblGrid>
                <a:gridCol w="1719360"/>
                <a:gridCol w="928080"/>
                <a:gridCol w="929520"/>
                <a:gridCol w="927720"/>
                <a:gridCol w="928080"/>
                <a:gridCol w="927360"/>
                <a:gridCol w="928080"/>
                <a:gridCol w="927720"/>
                <a:gridCol w="927720"/>
              </a:tblGrid>
              <a:tr h="101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O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ncy MB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agency A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O Subo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CDO Subo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Banks and Thrif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2,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8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8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3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4,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SEs and FH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ker-deal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ncial Guaran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urance Compan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s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,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6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,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728-517B-45DE-AC9B-BEBC4863256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Pq sector financiero apost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 explicaciones de porque el sector financiero hizo 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lla de incentivos dentro de las firmas: Altas fees y éxito de tecnología financiera incentivaban apuestas en hipote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ible incentivo es que las firmas tenían una garantía estatal o implícita por ser muy grandes =&gt; Si resulta ganamos, si perdemos pierde 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firmas financieras no entendían qué era lo que estaban transando y hacie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curitización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a calidad de los prés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lta de transparencia respecto a la calidad de los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bajar precios, firmas no entienden el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3CC-2B51-439C-9B9B-9C70425E6A6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8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8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3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ceso de Securit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814400"/>
            <a:ext cx="8229600" cy="40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E99-0230-44BD-B3EE-E8EAAA19B86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Pq sector financiero apost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curitización supuestament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 y lo llevaba al tenedor más rob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 y lo llevó al tenedor menos rob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lema es que la securitización fue muy compleja y poco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un paquete con 81% AAA, se pasaba a uno de 91,93% A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crisis, la falta de transparencia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saber cuánto valen los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saber quién tiene los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ie confía en nadie, alta aversión al riesgo, falta de liquid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205-0947-4F95-9CD2-DD12446812B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5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5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0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5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general, se muestran como una “oportunidad de negoc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frecen inversiones de diverso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breconfianza de los inversionistas los lleva a caer (creen que realmente tienen una alta 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chas apuntan a grupos específicos, donde el estafador es un líder de dicha com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246-ABC4-41BD-B0DF-4017532912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nen variadas consecu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an la confianza en los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ían las inversiones de cosas productivas a estas estafas; o de nacionales a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incurre en gasto fiscal si es que hay un salva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ían depósitos bancarios y crea préstamos incobrables si es que el préstamo se invirtió en Pon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n los shocks, por su alta ren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usan crisis socio-económica si hogares invirtieron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an confianza en autoridades (políticas, reguladoras o legales) por fallar en detectar, prevenir o por apoyar las esquemas antes del colap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0D4-1592-4CC2-A0A9-190E0EB68F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493560"/>
            <a:ext cx="8229600" cy="541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176-CE2D-4512-9B5F-28A9977966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emás, son muy difíciles de pre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muchas, no hay atribuciones de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ha sido capaz de detectar en etapas tempr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tecta cuando ya está madura, autoridades son renuentes a desarticul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onistas culparían a la autoridad de sus pér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si se dejan, inversionistas culpan a autoridad por no haberla detectado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más, creadores gastan en caridad y política, por lo que son mirados, y defendidos, como pilares de la com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E38-3C4A-4A21-830A-3EFEEE270A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54:50Z</dcterms:created>
  <dc:creator>WinuE</dc:creator>
  <dc:description/>
  <dc:language>en-US</dc:language>
  <cp:lastModifiedBy>Bernardo</cp:lastModifiedBy>
  <dcterms:modified xsi:type="dcterms:W3CDTF">2009-08-11T19:30:46Z</dcterms:modified>
  <cp:revision>41</cp:revision>
  <dc:subject/>
  <dc:title>Causas de la Crisis</dc:title>
</cp:coreProperties>
</file>