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185D-8DE3-4ECE-98FE-53B1CFF702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6E3E-3504-43FB-A03E-F0397521FC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93D1-F788-44CB-B4E5-C94D6F4C36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E42E-AEED-4EB2-B408-C8694E873F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5DAB-52CC-4FD4-AADE-49D2D80826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403B-944F-4348-B275-0C2B12D056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5CC9-F20E-4EB9-A871-AFE70D7BDC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5E48-D11A-4E7F-99B2-07B4D4D216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C55D-C245-4F2B-B828-6BDA6371F6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6A1C-EC9E-428C-A69D-9013FEA481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BCC1-41AE-423D-8F4D-DAD058FA2A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D1B3-6C61-4EB2-9A7B-4BF5188E4A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1915-D11C-4702-A137-08573A446E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2BCA-0C3D-4810-91F1-4B3A815BD6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B7C1-BB38-43A5-80FF-707ECB939A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1478-17E0-4C8C-BF39-1CC9FD41B6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62C-9DF2-40FB-B8F0-64C9008A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A00-1856-4674-A425-BDCC61E7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9F2-FB4A-49D7-A462-5BE6E57C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318-D936-4FBD-9EE2-9E591E5E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C9FF-7296-41E2-9D38-5AA3AF4F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5726-181B-44FC-9BE9-370F73FF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E113-A011-475D-8A08-75BA3F04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D3C8-797B-4AEC-985C-F04520B2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CB16-B57C-4D5C-AEAF-5E9637AF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CAFD-677B-43C1-8C24-D6E87824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25CD-2255-4262-9D49-5BB1644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5AC-FD99-44D4-8E52-ECC15200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5EEB-E716-462B-B4C5-129A280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0CF6-5469-484A-8A16-61EBA223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C689-4FA3-4C1B-89E8-088FBE3D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8CE5-D3FD-4313-8E5D-60F4EFC7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FE1A-D612-4705-BFF2-AD6E92AA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BA010-D48E-4811-8204-2EA320A0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3BEA-8CB0-4FFF-A4CA-17C8D70D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4937-C411-4E60-B488-9063457B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36BD-1CF3-46C4-83D3-CC6643D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22A0-CE81-41C0-A8AB-258AFE93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1A0-3F94-4434-A43D-C3A5BFF4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2C97-9B8B-43F0-BC22-8E25277E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1AB2-A3C9-4FD6-9B80-FBDD173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D07E-EF6D-49A5-B5F1-964B06DF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5E08-75B0-4C72-B304-2390F837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7031-CB98-4E2E-8428-1F029643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99FD-9504-4F7F-87FC-8061EFD9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6B6C-8DA1-4740-ACF9-379A3240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54848-11FF-43B8-9DC2-B11F6A6E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695B3-D685-4964-9777-C7ECFEB2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42AE-CD75-4F89-97CD-0300AFED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C1D-623E-4731-B777-C4DE0E2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B603D-FE2D-4A0E-B773-D53D9258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BF9C-504F-44CB-AD29-D9A587F2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8DE6-90E0-4DF7-A087-5D1B3037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DA65-E589-4DDE-B6E3-DB5776C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6FFC-1A18-4536-8055-8D3F328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0E0C-39D1-4AC2-9E8D-E2F20CB2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A43E-12F3-4484-A503-EB737322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08F6-4D45-450F-BDA2-6FA55F91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18D8-3904-4590-BF4B-71E5825F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54C92-520B-4DBE-AD0E-6D8A8EFA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6E0-3EA3-4B16-AF64-90170DF6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6DFCF-FC23-477E-AEE4-F224D5F7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72149-CC05-47E1-91AE-AC238B5B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C60CD-89CD-4D3B-A26D-8B4038C0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7C40-F4A9-4B09-9D08-44B5787C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98C9-95AE-4A2D-8877-559452AE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D5E6-3AF6-403D-B48C-B5E01A45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7560-AEEF-406B-B1A4-A86122C7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D478A-F642-4033-9745-52200AA9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5B46C-4E17-491F-AD5A-73AA1C65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DC68-7D7B-42B0-9458-55980101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321-D02A-4406-B02D-0B3E781B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A5883-F02E-4B93-9857-1F46EEC8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2EFE-5087-4E33-AA9F-78FE555D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DF7F6-8313-4A5A-88B5-DD0D2945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DA06D-5A59-4AF6-8F5F-831CCED7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99DB3-840B-448C-B269-12FAF684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FB2E3-6E60-4DC3-9ED3-B0DD0D0D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E1AF6-DE21-44E2-B348-740999B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90385-D673-4539-89D9-01F23D3C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DF31-0736-4F35-A657-0C492AE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B2A5D-AAEA-4771-A9A4-2BE0528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B2D-8C56-4D8E-B595-2B8F6DC6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1CC48-87F5-447A-AB10-AA058A01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37EA1-7CCC-4A36-BF1D-E61189D6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01473-4466-4478-AE7E-0F7E71F0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C5BE1-A018-4252-B062-538FBBE3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5D4E6-D0BE-486A-98A4-E06F38BE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AC69-7928-4CF8-AD7E-1545BD5F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56B9B-6C4C-40F4-A589-2D64999E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7AD87-0BFA-4C66-9D61-6E4EA7B0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BEEE-C67C-4F45-A51A-2DF958AC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C44B-9C1C-4D0F-AD5D-6A39AAE8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0FB-73DE-4E16-879F-E412EB7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45BD2-FFE2-48B1-8987-D7F3F0A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88457-088A-4E12-AB5C-05FBBF47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64B53-6EDA-43F9-8360-8EC9D851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3194-44C9-4B90-B271-4BAE7000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ABC0F-A092-4306-ACE4-F76D213A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B80-D653-4D77-BF9A-0A70F942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0103-A09D-4212-BCEA-10788D3E9FAC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1017720" y="1566720"/>
            <a:ext cx="250560" cy="249480"/>
            <a:chOff x="1017720" y="1566720"/>
            <a:chExt cx="250560" cy="24948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1017720" y="1566720"/>
              <a:ext cx="25056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57320" y="1604880"/>
              <a:ext cx="166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285920" y="1494000"/>
            <a:ext cx="71280" cy="712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E9C2-B994-473C-9978-4957D2FF5505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536920" y="0"/>
            <a:ext cx="7619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540160" y="0"/>
            <a:ext cx="83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408400" y="3121200"/>
            <a:ext cx="249120" cy="250560"/>
            <a:chOff x="2408400" y="3121200"/>
            <a:chExt cx="249120" cy="2505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408400" y="3121200"/>
              <a:ext cx="2491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48000" y="3162240"/>
              <a:ext cx="164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674800" y="3051000"/>
            <a:ext cx="71640" cy="716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ED2A-1FF8-4172-BD70-BA098579032B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EB04-9ED6-421A-9B35-DC9EC1B910AF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127160" y="0"/>
            <a:ext cx="9032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5B8D-DF44-4989-93C5-242E1AD974F6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276B-60E7-4D92-B4DB-EC97B01CB926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731880" y="1085760"/>
            <a:ext cx="5308560" cy="5315040"/>
            <a:chOff x="731880" y="1085760"/>
            <a:chExt cx="5308560" cy="531504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30856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46000" y="1185840"/>
              <a:ext cx="50799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304920" bIns="50760" anchor="t">
              <a:noAutofit/>
            </a:bodyPr>
            <a:p>
              <a:pPr>
                <a:lnSpc>
                  <a:spcPts val="3336"/>
                </a:lnSpc>
                <a:spcBef>
                  <a:spcPts val="6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441000" y="1060200"/>
            <a:ext cx="762120" cy="226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559120" y="1041120"/>
            <a:ext cx="722160" cy="226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72AE-48E8-4DD0-A7C5-485B165270D4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3840" y="738360"/>
            <a:ext cx="8866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e 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ción a los Sistemas Público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erencias y Similitudes entre la Gestión Pública y Privada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il de los Gerentes Públicos </a:t>
            </a:r>
            <a:br>
              <a:rPr sz="2800"/>
            </a:br>
            <a:br>
              <a:rPr sz="44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71200" y="5689440"/>
            <a:ext cx="6613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 - Septiembre - 2009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trabajo del Directivo (privado) según Mintzbe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1327320"/>
          <a:ext cx="10159920" cy="621000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ivo planificador reflexivo y sis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or reacciones a los estímulos, su trabajo lo condiciona para preferir la actuación inmediata a la dife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ás tiempo para planificar y delegar y menos a ver a sus clientes y a emprender negoci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tiempo para actividades habituales y rituales, ceremonias, negociaciones y transmisión de la información a la 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 Alto ejecutivo necesita información global, que es la que mejor puede proporcionar un sistema oficial de información de la dir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a comunicación verbal: llamadas telefónicas, reuniones, en vez de documentos, rum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dore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dirección de empresas es ya, o le falta poco para ser, una ciencia y una prof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hay muchos procedimientos sistemáticos o analíticamente determin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“criterio e intuició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evedad en el trabajo, fragmentación y comunicación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ributos y Perfil del Alto Directivo Públ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detectar y comprender las señales sociales, económicas, tecnológicas, culturales, de política pública y políticas del entorno local y global e incorporarlas de manera coherente a la estrategia instituciona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stión y Logr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orientarse al logro de los objetivos, seleccionando y formando personas, delegando, generando directrices, planificando, diseñando, analizando información, movilizando recursos organizacionales, controlando la gestión, sopesando riesgos e integrando las actividades de manera de lograr la eficacia, eficiencia y calidad en el cumplimiento de la misión y funciones de la organización.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7680" y="1422360"/>
            <a:ext cx="968544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lación con el Entorno y Articulación de red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a los actores involucrados (stakeholders) y generar las alianzas estratégicas necesarias para agregar valor a su gestión y/o para lograr nuevos resultados interinstitucionales, así como gestionar las variables y relaciones del entorno que le proporcionan legitimidad en sus funciones. Capacidad para comunicar oportuna y efectivamente lo necesario para facilitar su gestión institucional y afrontar, de ser necesario, situaciones crític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ejo de crisis y contingencia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y administrar situaciones de presión, contingencia y conflictos y, al mismo tiempo, crear soluciones estratégicas, oportunas y adecuadas al marco institucional públic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7680" y="1422000"/>
            <a:ext cx="9685440" cy="81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generar compromiso de los funcionarios/as y el respaldo de las autoridades superiores para el logro de los desafíos de la Institución. Capacidad para asegurar una adecuada conducción de personas, desarrollar el talento, lograr y mantener un clima organizacional armónico y desafiante.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novación y Flexibilida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transformar en oportunidades las limitaciones y complejidades del contexto e incorporar en los planes, procedimientos y metodologías, nuevas prácticas tomando riesgos calculados que permitan generar soluciones, promover procesos de cambio e incrementar resultad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ocimientos Técnico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eer los conocimientos y/o experiencias específicas, que se requieran para el ejercicio de la función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uentes Bibliográfic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1822320"/>
            <a:ext cx="9674280" cy="66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ww. serviciocivil.c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s Años del Sistema de Alta Dirección Pública en Chile: Balance y Perspectivas”. Waissbluth M., Costa R. (200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 Trabajo del Directivo”. Mintzberg H. En: “Liderazgo” Harvard Business Review (2004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¿De Burócratas a Gerentes?. Las ciencias de la gestión aplicadas a la administración del Estado”. Losada C., BID, (1999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ituciones Públicas y Sociales de Excelencia. Waissbluth basado en “Good to Great”. Collins J. (2005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Visiones del 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los años han existido distintas apreciaciones sobre las diferencias y similitudes desde que s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iplinas totalmente diferent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stión pública es sólo una aplicación más ineficiente de la priva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 pueden destacar ciertas diferencias transversa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9480" indent="-514440">
              <a:lnSpc>
                <a:spcPct val="80000"/>
              </a:lnSpc>
              <a:spcBef>
                <a:spcPts val="663"/>
              </a:spcBef>
              <a:buClr>
                <a:srgbClr val="feb80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ción del mercado por el proceso político como asignador de recurs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ones públicas tienen el carácter de poderes públic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a naturaleza de la creación de valor por parte del sector públ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 de medir el valor cre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Elementos para el deba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 resumen, podemos encontrar implicancias relevantes de estas características a la gestión institucional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areholders v/s stakeholder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Hay una mayor exposición mediática de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xiste una mayor relevancia de la ética en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l tamaño y las restricciones son más que una variable cuantitativa para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Instituciones Excelentes según Jim Colli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La distinción no es entre “negocio” o “social” sino entre excelente, méramente bueno o mediocre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Diferencias entre mediocre y excelente: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aber calibrar el éxito sin métricas de negoc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grar resultados en una estructura de poder difu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ubir a la gente correcta al carro dentro de las restricc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struir un “motor de recursos” sustentable en un ambiente sin fines de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rear un círculo virtuoso de sustentabilidad construyendo mar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en un Estado en R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MT"/>
              </a:rPr>
              <a:t>¿Cómo es posible visualizar el rol y las características de la gestión pública en un Estado flexible y en red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1760" y="304560"/>
            <a:ext cx="97045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Rol crítico de la Gerencia Públ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8000" y="1809360"/>
            <a:ext cx="891864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ólo legislar ni dar más dinero =&gt; Gestión instituc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emprendedores =&gt; Ventajas de Oportunidad =&gt; Complicidades transvers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ublic Management, transformación de instituciones, alianzas estratégicas con gremios, TICs, avanzar a pesar de las restric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erenciar el rol de diseño de política (cargo político de confianza) con el de implementación (directivo de confianza pero concursado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rito por sobre compromisos polític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93840" y="1230480"/>
            <a:ext cx="7643880" cy="600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399960" y="457200"/>
            <a:ext cx="966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952640"/>
            <a:ext cx="10159920" cy="4600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Salario Directivos Públicos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dacunaf</cp:lastModifiedBy>
  <dcterms:modified xsi:type="dcterms:W3CDTF">2009-09-14T22:45:03Z</dcterms:modified>
  <cp:revision>16</cp:revision>
  <dc:subject/>
  <dc:title>PowerPoint Presentation</dc:title>
</cp:coreProperties>
</file>