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5.wmf" ContentType="image/x-wmf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D352-E7D5-4398-AD85-DE1F70C9E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829-7505-46FC-A5E6-850F041F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ACA-6DC9-4D6B-A4E1-F8EEAA8B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84A0-76C1-406B-A022-F0020368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D30-CECF-4C02-B811-FC069D3D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9F4-7EBA-48AE-83F7-BF21C8C2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305-A4A6-44BE-8226-4212895E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2E1-CEC7-4107-83B4-ECA49553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D4F-76C1-451D-8071-AE345ABB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5E6-A203-4F81-ABBC-14340A24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5B3-CDB2-4301-9730-D8694FAD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68F-2752-43F8-B5B6-1BEC0ACA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50F-6A05-4039-AD78-867E67BA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F7EE-3082-42B6-B91F-9530D2E6F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mailto:jinostro@dii.uchile.cl" TargetMode="Externa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1001880"/>
            <a:ext cx="929016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Creación de Valor en el sector Público, Nuevo Paradigma, Nueva Doctrina</a:t>
            </a: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49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de agosto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920" y="5897160"/>
            <a:ext cx="9873000" cy="146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08280" y="0"/>
            <a:ext cx="26784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7600" y="3089160"/>
            <a:ext cx="8649000" cy="224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92320" y="3738600"/>
            <a:ext cx="8551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rso: Introducción a los Sistema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334360" y="294624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Supone que los propósitos son nítidos 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“administración” (objetivos y procedimientos definidos) que en “la gestión”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959600" y="28116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ocimiento exper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se conocen la respuestas, no requiere particip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2680" y="387360"/>
            <a:ext cx="9367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00" y="2782800"/>
            <a:ext cx="9056520" cy="599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Valor agregado que produce el sector público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veniente de los “beneficios percibidos” p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) ciudadanos/comunidad 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b) usuarios/consumidores /cliente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escontando los costos” en los que se incur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6880" y="2600280"/>
            <a:ext cx="9563040" cy="501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os beneficios pueden darse a nivel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oductos o servicios (outputs): Ej .Vacu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mpactos o resultados (outcomes) Ej. Tasa de enfermedad específ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nfianza: (Ejs. Filtración de info en Banco Central, Caso CORFO/Inverlink, Crisis sanitarias (ESB/´vaca loca’), Corrup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mponentes de la Confianz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83800" y="3219480"/>
            <a:ext cx="9055080" cy="550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En los costos, también se refiere a 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Costos monetarios y NO monetarios. Ejs. de NO monetarios: pérdida de confianza, pérdida de libertad, medidas coercitivas, perdida de intimid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irectos, Indirectos y de Oportunidad (¿Qué se podría hacer alternativamente con los recursos utilizados?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60400" y="2500200"/>
            <a:ext cx="9056880" cy="549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ambos casos -beneficios y costos - el criterio para su definición so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ública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” generadas e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sos colectivo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Ej. ley, grupo de ciudadanos, medios de comunic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y tambié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rivadas”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xpresadas por los usuarios/clientes/beneficiarios de los servicios púb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30960" y="3880800"/>
            <a:ext cx="31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9800" y="2909880"/>
            <a:ext cx="2446200" cy="268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0800" y="4064400"/>
            <a:ext cx="219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03680" y="2909880"/>
            <a:ext cx="2117520" cy="268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80000" y="3920400"/>
            <a:ext cx="1879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4960" y="2722680"/>
            <a:ext cx="9308880" cy="447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procesos de identificación y valoración”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65160"/>
            <a:ext cx="8717040" cy="11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5960" y="2763720"/>
            <a:ext cx="8458200" cy="403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hacer un esfuerzo de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estimación en un periodo futuro y traerlo a valor pres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¿Cuánto vale una organización pública?=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ujo de beneficios-costos, a valor presente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 muchos casos los beneficios y costos, no pueden ser medidos monetariam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, pero es intrínseco a esta aproximación gener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sfuerzos crecient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 cuantificación en aquellos ámbitos donde sea posibl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Con el tiempo se crearán indic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ncadenando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8480" y="2762280"/>
            <a:ext cx="207468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0560" y="3287880"/>
            <a:ext cx="2155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1200" y="3290760"/>
            <a:ext cx="3124080" cy="126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349880" y="4518000"/>
            <a:ext cx="3778200" cy="15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59320" y="4979160"/>
            <a:ext cx="3562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evo Enfoque, Nuevo Ro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eación de 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52200" y="2620800"/>
            <a:ext cx="8723160" cy="457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concepto d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análogo al de Valor Privad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: valor para dueños y valor para client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iere de manera importante por la dificultad de la métrica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. El valor público no es completamente reducible a $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92000" y="2781000"/>
            <a:ext cx="8723520" cy="457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or otra parte, en el caso del VP los ciudadanos (dueños) son clientes y usuarios tambié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4280" y="2647440"/>
            <a:ext cx="10071360" cy="447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el sector público 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to equitativ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s muy relevante. Es decir, la valoración de los usuarios depende también del trato a ot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más intensivo en demandar cambios en normas sociales y códigos de comportamient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COPRODUCC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ducción bajo 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giene y prevención (salud públ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tancia materna y salud inf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gramas contra l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9240" y="3522600"/>
            <a:ext cx="21445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7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2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Estratégica de una Organ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213680" y="213660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4440" y="1541520"/>
            <a:ext cx="2262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104920" y="4275000"/>
            <a:ext cx="2541600" cy="221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517840" y="22003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960" y="425520"/>
            <a:ext cx="9461520" cy="599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l entorno polí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écnicas de Gestión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moción ac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rketing y Comunicación 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” 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175600" y="93024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s"/>
          <p:cNvSpPr/>
          <p:nvPr/>
        </p:nvSpPr>
        <p:spPr>
          <a:xfrm>
            <a:off x="8609040" y="2811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02080" y="433440"/>
            <a:ext cx="4604040" cy="682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renta el riesgo que los directivos públicos conduzcan la administración según intereses distinto a los público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Pone énfasis en el control de procedimientos y la verticalid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za</cp:lastModifiedBy>
  <dcterms:modified xsi:type="dcterms:W3CDTF">2009-08-27T18:29:45Z</dcterms:modified>
  <cp:revision>5</cp:revision>
  <dc:subject/>
  <dc:title>PowerPoint Presentation</dc:title>
</cp:coreProperties>
</file>