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442-4A2D-4A72-84AF-345CF82B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953-B661-43B8-9A34-33A5B0BC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9F8-A5B4-4364-B934-B743E1F4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5090-82FF-4FD8-99EE-3BCA3292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4896-2AE8-4C3C-BDCF-1701B3F2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D552-610C-41C0-BBB1-830F5C74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9315-402E-4648-A6C2-B6CC4904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53D8-57E1-48A9-87D3-7E2CA8E5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7A62-6170-497F-B838-F4CF2BA4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456D-2DE6-4BC4-B673-3E182E8B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7841-909D-4AB7-A71C-CF620C12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D3DA-203A-4BBE-B1BD-CFAB8F19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9970-C7EB-45B5-AD3F-D16D715D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20D5-B60C-4D98-A203-528FE55A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8F61-1DE9-4748-87FD-92911050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FDE8-183F-4885-A9AB-9B32A077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715B-542B-4530-966B-E50925FF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88BC-FED6-45C3-84F3-18F08304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B7B9-4218-4D9B-B736-F2F8519D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8A56-BA0A-4306-92BB-75038600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8076-14F7-46CB-9037-1F207E90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82FC-96BF-450A-8FFD-7C042465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C275-B639-4465-9ACB-08813EEA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9B5F-35F9-4693-82C5-CADE7011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A6F1-1A7A-4E57-A068-3535367EDC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711A-FC7F-4B6E-935E-226A51D3B0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jinostro@dii.uchile.c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dipres.cl/" TargetMode="External"/><Relationship Id="rId2" Type="http://schemas.openxmlformats.org/officeDocument/2006/relationships/hyperlink" Target="http://www.mideplan.cl/" TargetMode="External"/><Relationship Id="rId3" Type="http://schemas.openxmlformats.org/officeDocument/2006/relationships/hyperlink" Target="http://www.congreso.cl/" TargetMode="External"/><Relationship Id="rId4" Type="http://schemas.openxmlformats.org/officeDocument/2006/relationships/hyperlink" Target="http://www.segpres.cl/" TargetMode="External"/><Relationship Id="rId5" Type="http://schemas.openxmlformats.org/officeDocument/2006/relationships/hyperlink" Target="http://www.reformadelestado.cl/" TargetMode="External"/><Relationship Id="rId6" Type="http://schemas.openxmlformats.org/officeDocument/2006/relationships/hyperlink" Target="http://www.bcn.cl/" TargetMode="External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2376360" cy="1295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8920" y="3500280"/>
            <a:ext cx="7634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Clase 3: “Macrosistemas, Estructuras y Funciones del Estado”.</a:t>
            </a:r>
            <a:br>
              <a:rPr sz="4000"/>
            </a:br>
            <a:r>
              <a:rPr b="1" lang="es-CL" sz="2200" spc="-1" strike="noStrike">
                <a:solidFill>
                  <a:srgbClr val="006666"/>
                </a:solidFill>
                <a:latin typeface="Arial"/>
              </a:rPr>
              <a:t>Curso: Introducción a los Sistemas Públicos.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José Inostroza L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jinostro@dii.uchile.c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2320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16000" y="404640"/>
            <a:ext cx="2089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317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GRESO: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os cámaras qu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“concurren”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 a la formación de las leyes (El Presidentes es “colegislador”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prueba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upues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n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l Gobier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iputados: Determinan si han a lugar o no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“acusaciones constitucionales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Senado: Resolver acusaciones constitucion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23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6000" y="182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ODER JUDICI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ff9900"/>
                </a:solidFill>
                <a:latin typeface="Verdana"/>
              </a:rPr>
              <a:t>Conocer y resolver asuntos civiles y criminales</a:t>
            </a: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 y ejecutar lo juzg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Los miembros de la Corte Suprema (21) son electos por el Presidente, en base a nómina que propone Corte y con acuerdo del Sen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94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77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INISTERIO PÚBLIC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Dirige la investigación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de los hechos constitutivos de deli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uede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impartir ordenes a Carabineros/Investiga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resenta los casos antes los tribunal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TRIBUNAL CONSTITUCIONAL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revisa constitucionalidad de las leyes orgánica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BANCO CENTR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olítica moneta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Autónom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443640" y="3500280"/>
            <a:ext cx="2089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TRALORIA GENERAL DE LA REPUBL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jerce control de la legalidad de los acto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los ingresos e inversión del Fisco, municipi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leva la contabilidad del Esta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Toma de razón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ex ante) de los actos de la administración (más de 200 mil al año!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l Contralor lo designa el Presidente con acuerdo del Senado (inamovible hasta los 75 añ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1440000" cy="2665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368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8894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Diseñadores de Política (Ministerios: sectoriales-funciones transversale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jecutores de Políticas (Servicios Público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2232000"/>
            <a:ext cx="82440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iscalizadoras (Superintendencias, SAG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mpresarial (BancoEstado, ENAP, Metro, Codelc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omento (CORFO, CONICYT, INDAP…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3. Poder Ejecutivo: Funciones Transversa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640" y="1856880"/>
            <a:ext cx="8518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lanificación (SEGPRES-DIPRES-MIDEPL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resupuestación (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Legisl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ntrol de Gestión y Evalu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Auditoria (CAIG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mpras Públicas (ChileCompra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Transparencia, Acceso de la Información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Objetivos y Alca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63280" y="1773000"/>
            <a:ext cx="82803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ntregar un mapa conceptual, genérico, sobre qué es y cómo se organiza el Estado en sus aspectos element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o se entrará en detalles y se simplificará deliberadamente algunas defini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alumno tendrá las referencias suficientes para entrar en la conversación del resto del cur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enfoque principal es “normativo” (qué dice la norma; deber ser), pero se harán observaciones críti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1863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cursos Human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4080" y="1916280"/>
            <a:ext cx="799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tatuto Administrativo (Carrera, ingreso, ascenso, evaluació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Sistema de Alta Dirección Públic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Carre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la exclusiva Confianz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Contrat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Honorari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cala Remuneracional (E.U.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019160" cy="1076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5572080"/>
            <a:ext cx="647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scentraliza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Intendenci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s Region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ernacio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unicipi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Organismos Desconcentrados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(SEREMIS, Direcciones Regionales, Servicios de Salu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36360" y="189000"/>
            <a:ext cx="8893080" cy="537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19520" y="459720"/>
            <a:ext cx="7906680" cy="6016320"/>
            <a:chOff x="1019520" y="459720"/>
            <a:chExt cx="7906680" cy="6016320"/>
          </a:xfrm>
        </p:grpSpPr>
        <p:grpSp>
          <p:nvGrpSpPr>
            <p:cNvPr id="150" name=""/>
            <p:cNvGrpSpPr/>
            <p:nvPr/>
          </p:nvGrpSpPr>
          <p:grpSpPr>
            <a:xfrm>
              <a:off x="1019520" y="459720"/>
              <a:ext cx="7906680" cy="4829760"/>
              <a:chOff x="1019520" y="459720"/>
              <a:chExt cx="7906680" cy="4829760"/>
            </a:xfrm>
          </p:grpSpPr>
          <p:sp>
            <p:nvSpPr>
              <p:cNvPr id="151" name=""/>
              <p:cNvSpPr/>
              <p:nvPr/>
            </p:nvSpPr>
            <p:spPr>
              <a:xfrm>
                <a:off x="1680840" y="878760"/>
                <a:ext cx="6506280" cy="4129560"/>
              </a:xfrm>
              <a:prstGeom prst="ellipse">
                <a:avLst/>
              </a:prstGeom>
              <a:noFill/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48680" y="2755800"/>
                <a:ext cx="881280" cy="75096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Serv.     Adm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9440" y="2923560"/>
                <a:ext cx="824760" cy="65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CO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57080" y="2078640"/>
                <a:ext cx="1212480" cy="8449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Ejecutivo del GORE </a:t>
                </a: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(Intendente)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50360" y="1254600"/>
                <a:ext cx="1433520" cy="750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DIPRES/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UBDER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415280" y="3224880"/>
                <a:ext cx="1510920" cy="726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MINISTERIOS SECTORIAL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084080" y="1732680"/>
                <a:ext cx="1439280" cy="733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ORGANS.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EJECUTO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19520" y="3506760"/>
                <a:ext cx="154368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ECTOR EMPRESARI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8061800">
                <a:off x="5399280" y="2616480"/>
                <a:ext cx="456840" cy="384120"/>
              </a:xfrm>
              <a:custGeom>
                <a:avLst/>
                <a:gdLst>
                  <a:gd name="textAreaLeft" fmla="*/ 195840 w 456840"/>
                  <a:gd name="textAreaRight" fmla="*/ 402120 w 456840"/>
                  <a:gd name="textAreaTop" fmla="*/ 212040 h 384120"/>
                  <a:gd name="textAreaBottom" fmla="*/ 338400 h 38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9257" y="9340"/>
                    </a:lnTo>
                    <a:lnTo>
                      <a:pt x="9257" y="11928"/>
                    </a:lnTo>
                    <a:lnTo>
                      <a:pt x="11928" y="11928"/>
                    </a:lnTo>
                    <a:lnTo>
                      <a:pt x="11928" y="9257"/>
                    </a:lnTo>
                    <a:lnTo>
                      <a:pt x="9340" y="9257"/>
                    </a:lnTo>
                    <a:lnTo>
                      <a:pt x="15470" y="0"/>
                    </a:lnTo>
                    <a:lnTo>
                      <a:pt x="21600" y="9257"/>
                    </a:lnTo>
                    <a:lnTo>
                      <a:pt x="19012" y="9257"/>
                    </a:lnTo>
                    <a:lnTo>
                      <a:pt x="19012" y="19012"/>
                    </a:lnTo>
                    <a:lnTo>
                      <a:pt x="9257" y="19012"/>
                    </a:lnTo>
                    <a:lnTo>
                      <a:pt x="9257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0800000">
                <a:off x="3958560" y="2237400"/>
                <a:ext cx="402840" cy="456840"/>
              </a:xfrm>
              <a:custGeom>
                <a:avLst/>
                <a:gdLst>
                  <a:gd name="textAreaLeft" fmla="*/ 115560 w 402840"/>
                  <a:gd name="textAreaRight" fmla="*/ 345240 w 402840"/>
                  <a:gd name="textAreaTop" fmla="*/ 263160 h 456840"/>
                  <a:gd name="textAreaBottom" fmla="*/ 39132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6200" y="9340"/>
                    </a:lnTo>
                    <a:lnTo>
                      <a:pt x="6200" y="12440"/>
                    </a:lnTo>
                    <a:lnTo>
                      <a:pt x="12440" y="12440"/>
                    </a:lnTo>
                    <a:lnTo>
                      <a:pt x="12440" y="6200"/>
                    </a:lnTo>
                    <a:lnTo>
                      <a:pt x="9340" y="6200"/>
                    </a:lnTo>
                    <a:lnTo>
                      <a:pt x="15470" y="0"/>
                    </a:lnTo>
                    <a:lnTo>
                      <a:pt x="21600" y="6200"/>
                    </a:lnTo>
                    <a:lnTo>
                      <a:pt x="18500" y="6200"/>
                    </a:lnTo>
                    <a:lnTo>
                      <a:pt x="18500" y="18500"/>
                    </a:lnTo>
                    <a:lnTo>
                      <a:pt x="6200" y="18500"/>
                    </a:lnTo>
                    <a:lnTo>
                      <a:pt x="62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3861600">
                <a:off x="4550400" y="3184200"/>
                <a:ext cx="281880" cy="402480"/>
              </a:xfrm>
              <a:custGeom>
                <a:avLst/>
                <a:gdLst>
                  <a:gd name="textAreaLeft" fmla="*/ 81000 w 281880"/>
                  <a:gd name="textAreaRight" fmla="*/ 241560 w 281880"/>
                  <a:gd name="textAreaTop" fmla="*/ 231840 h 402480"/>
                  <a:gd name="textAreaBottom" fmla="*/ 344880 h 40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6200" y="9340"/>
                    </a:lnTo>
                    <a:lnTo>
                      <a:pt x="6200" y="12440"/>
                    </a:lnTo>
                    <a:lnTo>
                      <a:pt x="12440" y="12440"/>
                    </a:lnTo>
                    <a:lnTo>
                      <a:pt x="12440" y="6200"/>
                    </a:lnTo>
                    <a:lnTo>
                      <a:pt x="9340" y="6200"/>
                    </a:lnTo>
                    <a:lnTo>
                      <a:pt x="15470" y="0"/>
                    </a:lnTo>
                    <a:lnTo>
                      <a:pt x="21600" y="6200"/>
                    </a:lnTo>
                    <a:lnTo>
                      <a:pt x="18500" y="6200"/>
                    </a:lnTo>
                    <a:lnTo>
                      <a:pt x="18500" y="18500"/>
                    </a:lnTo>
                    <a:lnTo>
                      <a:pt x="6200" y="18500"/>
                    </a:lnTo>
                    <a:lnTo>
                      <a:pt x="62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38440" y="4539240"/>
                <a:ext cx="1211760" cy="750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FUERZAS POLITICA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556080" y="1910880"/>
                <a:ext cx="2535840" cy="1971000"/>
              </a:xfrm>
              <a:prstGeom prst="ellipse">
                <a:avLst/>
              </a:prstGeom>
              <a:noFill/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958920" y="459720"/>
                <a:ext cx="121176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OCIEDAD CIVI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863000">
                <a:off x="2732040" y="1884960"/>
                <a:ext cx="938880" cy="288720"/>
              </a:xfrm>
              <a:prstGeom prst="leftRightArrow">
                <a:avLst>
                  <a:gd name="adj1" fmla="val 50000"/>
                  <a:gd name="adj2" fmla="val 64736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178000">
                <a:off x="2541600" y="3300840"/>
                <a:ext cx="991800" cy="302040"/>
              </a:xfrm>
              <a:prstGeom prst="leftRightArrow">
                <a:avLst>
                  <a:gd name="adj1" fmla="val 50000"/>
                  <a:gd name="adj2" fmla="val 65369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6200000">
                <a:off x="4740480" y="3975480"/>
                <a:ext cx="495000" cy="444240"/>
              </a:xfrm>
              <a:prstGeom prst="leftRightArrow">
                <a:avLst>
                  <a:gd name="adj1" fmla="val 50000"/>
                  <a:gd name="adj2" fmla="val 22182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942000">
                <a:off x="5838840" y="3179880"/>
                <a:ext cx="1609560" cy="397080"/>
              </a:xfrm>
              <a:prstGeom prst="leftRightArrow">
                <a:avLst>
                  <a:gd name="adj1" fmla="val 50000"/>
                  <a:gd name="adj2" fmla="val 80694"/>
                </a:avLst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6021200">
                <a:off x="4388040" y="1361520"/>
                <a:ext cx="563760" cy="348120"/>
              </a:xfrm>
              <a:prstGeom prst="leftRightArrow">
                <a:avLst>
                  <a:gd name="adj1" fmla="val 50000"/>
                  <a:gd name="adj2" fmla="val 32239"/>
                </a:avLst>
              </a:prstGeom>
              <a:solidFill>
                <a:srgbClr val="ffffff"/>
              </a:solidFill>
              <a:ln w="1908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20896800">
                <a:off x="5971320" y="2287440"/>
                <a:ext cx="1073880" cy="280440"/>
              </a:xfrm>
              <a:prstGeom prst="leftRightArrow">
                <a:avLst>
                  <a:gd name="adj1" fmla="val 50000"/>
                  <a:gd name="adj2" fmla="val 76231"/>
                </a:avLst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217040" y="3506760"/>
                <a:ext cx="882360" cy="28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6728600">
                <a:off x="1594800" y="2653200"/>
                <a:ext cx="281880" cy="110160"/>
              </a:xfrm>
              <a:prstGeom prst="rightArrow">
                <a:avLst>
                  <a:gd name="adj1" fmla="val 50000"/>
                  <a:gd name="adj2" fmla="val 6397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0266800">
                <a:off x="3287520" y="1094760"/>
                <a:ext cx="330120" cy="93960"/>
              </a:xfrm>
              <a:prstGeom prst="rightArrow">
                <a:avLst>
                  <a:gd name="adj1" fmla="val 50000"/>
                  <a:gd name="adj2" fmla="val 87835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2423600">
                <a:off x="3224160" y="4726080"/>
                <a:ext cx="330840" cy="94320"/>
              </a:xfrm>
              <a:prstGeom prst="rightArrow">
                <a:avLst>
                  <a:gd name="adj1" fmla="val 50000"/>
                  <a:gd name="adj2" fmla="val 8769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5099400">
                <a:off x="7991280" y="255996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8536800">
                <a:off x="6863400" y="444564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813000">
                <a:off x="5435640" y="866160"/>
                <a:ext cx="330120" cy="93600"/>
              </a:xfrm>
              <a:prstGeom prst="rightArrow">
                <a:avLst>
                  <a:gd name="adj1" fmla="val 50000"/>
                  <a:gd name="adj2" fmla="val 88173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2249600">
                <a:off x="4216680" y="378828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7244600">
                <a:off x="3470400" y="255960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4920000">
                <a:off x="5910840" y="2841840"/>
                <a:ext cx="281880" cy="109440"/>
              </a:xfrm>
              <a:prstGeom prst="rightArrow">
                <a:avLst>
                  <a:gd name="adj1" fmla="val 50000"/>
                  <a:gd name="adj2" fmla="val 64391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90200">
                <a:off x="4768920" y="1910880"/>
                <a:ext cx="330480" cy="94320"/>
              </a:xfrm>
              <a:prstGeom prst="rightArrow">
                <a:avLst>
                  <a:gd name="adj1" fmla="val 50000"/>
                  <a:gd name="adj2" fmla="val 87595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107040" y="3037680"/>
                <a:ext cx="939600" cy="571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800000"/>
                    </a:solidFill>
                    <a:latin typeface="Arial"/>
                  </a:rPr>
                  <a:t>      </a:t>
                </a:r>
                <a:r>
                  <a:rPr b="1" lang="en-US" sz="700" spc="-1" strike="noStrike">
                    <a:solidFill>
                      <a:srgbClr val="800000"/>
                    </a:solidFill>
                    <a:latin typeface="Arial"/>
                  </a:rPr>
                  <a:t>SEREMI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07040" y="752400"/>
                <a:ext cx="1342440" cy="93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MUNICIPIO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8916800">
                <a:off x="5436000" y="1728360"/>
                <a:ext cx="805320" cy="280440"/>
              </a:xfrm>
              <a:prstGeom prst="leftRightArrow">
                <a:avLst>
                  <a:gd name="adj1" fmla="val 50000"/>
                  <a:gd name="adj2" fmla="val 57167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029320" y="5084640"/>
              <a:ext cx="6617880" cy="1391400"/>
              <a:chOff x="2029320" y="5084640"/>
              <a:chExt cx="6617880" cy="1391400"/>
            </a:xfrm>
          </p:grpSpPr>
          <p:sp>
            <p:nvSpPr>
              <p:cNvPr id="186" name=""/>
              <p:cNvSpPr/>
              <p:nvPr/>
            </p:nvSpPr>
            <p:spPr>
              <a:xfrm>
                <a:off x="2029320" y="5084640"/>
                <a:ext cx="22824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Arial"/>
                  </a:rPr>
                  <a:t>GOBERNABILIDA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751000" y="5157720"/>
                <a:ext cx="28962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Arial"/>
                  </a:rPr>
                  <a:t>DESARROLLO ECON., SOCIAL Y CULTUR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800000">
                <a:off x="3890520" y="5373720"/>
                <a:ext cx="1284480" cy="1093680"/>
              </a:xfrm>
              <a:prstGeom prst="uturnArrow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rot="10846800">
                <a:off x="4829760" y="5373720"/>
                <a:ext cx="1266120" cy="1093680"/>
              </a:xfrm>
              <a:prstGeom prst="uturnArrow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311720" y="5300640"/>
                <a:ext cx="1439280" cy="0"/>
              </a:xfrm>
              <a:prstGeom prst="line">
                <a:avLst/>
              </a:prstGeom>
              <a:ln w="57240">
                <a:solidFill>
                  <a:srgbClr val="99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flipV="1">
              <a:off x="6089400" y="3212640"/>
              <a:ext cx="0" cy="360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96480" y="3500280"/>
              <a:ext cx="135360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GABINE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REGION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106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7774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ógicas históricas dominantes de organización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weberi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 y emergentes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Nueva gerencia pública, participación ciudad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as regulaciones se justifican para resguardar al Estado de las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capturas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políticas, gremiales, empresariales…); promueven el interés general y permanente….pero puede generar costos de transacción, administrativos importantes, e incentivos perversos en algunos ca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hile ha derivado a u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idencialismo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con restricciones d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organismos autónom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03280" y="620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Fuentes/Referencias úti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onstitución  Polít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ey de Base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statuto Administrativ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Texto Reforma del Estado 1990-200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3333cc"/>
                </a:solidFill>
                <a:latin typeface="Verdana"/>
              </a:rPr>
              <a:t>Territorial Review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(OCD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dipres.cl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mucho documentos; presupuest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mideplan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www.congres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www.segpres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www.reformadelestad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www.bcn.cl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ley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6084720" y="3933720"/>
            <a:ext cx="2772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em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Grandes Definiciones: Rol, Restricciones, Princip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Macroestructura: Ejecutivo, Legislativo, Judicial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oder Ejecutiv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scentraliz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360" y="256500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63640" y="1827360"/>
            <a:ext cx="69199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l fin del Estado es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“promover el bien común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para lo cual debe contribuir a crear condiciones sociales”… que permitan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“la mayor realización espiritual y material posible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(art 1 Constitució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s deber del Estado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:  resguardar seguridad nacional, dar protección a la población y a la familia, promover la integración armónica de todos los sectores;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asegurar derecho de las personas a participar con igualdad de oportunidades en la vida nacional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(art 1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1763640" cy="2305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728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l Estado es 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Unitario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a administración será funcional y territorialmente 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descentralizada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(art.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os órganos del Estado deb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someter su acción a la Constitución y las normas dictadas conforme a ellas (art. 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actuar válidamente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previa investidura regular de sus integrantes, dentro de sus competencias y en la forma que prescriba la ley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vitar  atribuirse, ni aun a pretexto de circunstancias extraordinarias, otra autoridad que la expresamente conferida en virtud de la Constitución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Responder civilmente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de sus ac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1258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3013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71228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DERECHOS CONTITUCIONALES.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El Estado debe respetar derechos de las personas (art. 19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Igualdad ante la ley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vida privad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concienci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personal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a la salud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ducación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enseñanz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esentar peticiones a la autoridad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seguridad social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desarrollar actividad económica *el Estado requiere Ley especial y siguen las reglas comunes)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no discriminación arbitraria, y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L </a:t>
            </a:r>
            <a:r>
              <a:rPr b="1" lang="es-CL" sz="1700" spc="-1" strike="noStrike">
                <a:solidFill>
                  <a:srgbClr val="ff9900"/>
                </a:solidFill>
                <a:latin typeface="Verdana"/>
              </a:rPr>
              <a:t>DERECHO DE PROPIEDAD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(expropiación, indemnización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Si no se respetan…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RECURSO DE PROTEC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300720" y="2421000"/>
            <a:ext cx="2843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El Presidente es a quien le corresponde el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gobierno y la administración del Estado”.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Una Ley garantizará la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organización básica del Estado”,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y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la carrera funcionaria”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con igualdad de acceso”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13827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5:09:26Z</dcterms:created>
  <dc:creator>Jinostroza</dc:creator>
  <dc:description/>
  <dc:language>en-US</dc:language>
  <cp:lastModifiedBy>Jinostroza</cp:lastModifiedBy>
  <dcterms:modified xsi:type="dcterms:W3CDTF">2009-08-14T01:17:09Z</dcterms:modified>
  <cp:revision>9</cp:revision>
  <dc:subject/>
  <dc:title>Macrosistemas, Estructuras del y Funciones del Estado.</dc:title>
</cp:coreProperties>
</file>