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8CE0-9527-46C8-805E-AF9C32C5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8F2-D31A-4BA4-BEB8-A82AC23D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E83-C8D0-4203-B7E9-C5E471FF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60C-5261-477A-8221-DF728C76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8B90-4DA3-46F9-9709-4382A219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9222-781C-4656-A470-0097E2B3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37FE-B95F-4D07-97F8-26A18EF7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8F88-32EC-43D7-9EDB-BDAB8147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7579-0F7F-4352-8F2C-0F2BD390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3A05-2285-4D7E-8D12-7CEDF8AD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51F8-3339-496A-9D24-D82D06E1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63F-48C7-427B-BE60-E8826072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18C1-0FB8-4F62-9198-26354622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D45C-3A21-423C-A21D-F0B64C1D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B2AA-45CE-4B2C-AD30-8B31F002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7BF1-C054-4C85-A2E8-B98872A2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32FA-EB92-4BCF-AB1C-5EF67190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3E8-3827-4F44-BEE6-01FFF5C3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2CE-B203-4137-AAB8-2BFAB3AA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1DC9-A5E0-41EE-B4C1-3C102EF2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D38-796C-4FCD-8469-21CBB9B4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38B-21EA-409D-99CA-1F876EE2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6A43-CD06-45CC-A869-6D47FA74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FC4-4FB3-4A21-AC43-4A337FCD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F4B5-B2C2-49C6-8D6C-F95DF804EC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127F-75F5-4B9D-8828-BD334292BC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inostro@dii.uchile.c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ideplan.cl/" TargetMode="External"/><Relationship Id="rId3" Type="http://schemas.openxmlformats.org/officeDocument/2006/relationships/hyperlink" Target="http://www.congreso.cl/" TargetMode="External"/><Relationship Id="rId4" Type="http://schemas.openxmlformats.org/officeDocument/2006/relationships/hyperlink" Target="http://www.segpres.cl/" TargetMode="External"/><Relationship Id="rId5" Type="http://schemas.openxmlformats.org/officeDocument/2006/relationships/hyperlink" Target="http://www.reformadelestado.cl/" TargetMode="External"/><Relationship Id="rId6" Type="http://schemas.openxmlformats.org/officeDocument/2006/relationships/hyperlink" Target="http://www.bcn.cl/" TargetMode="External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3500280"/>
            <a:ext cx="76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r>
              <a:rPr b="1" lang="es-CL" sz="2200" spc="-1" strike="noStrike">
                <a:solidFill>
                  <a:srgbClr val="006666"/>
                </a:solidFill>
                <a:latin typeface="Arial"/>
              </a:rPr>
              <a:t>Curso: Introducción a los Sistemas Públicos.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concurren”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 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n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ff9900"/>
                </a:solidFill>
                <a:latin typeface="Verdana"/>
              </a:rPr>
              <a:t>Conocer y resolver asuntos civiles y criminales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 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Dirige la investigación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de las leyes orgánic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0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alumno tendrá las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cursos Human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19520" y="459720"/>
            <a:ext cx="7906680" cy="6016320"/>
            <a:chOff x="1019520" y="459720"/>
            <a:chExt cx="7906680" cy="6016320"/>
          </a:xfrm>
        </p:grpSpPr>
        <p:grpSp>
          <p:nvGrpSpPr>
            <p:cNvPr id="150" name=""/>
            <p:cNvGrpSpPr/>
            <p:nvPr/>
          </p:nvGrpSpPr>
          <p:grpSpPr>
            <a:xfrm>
              <a:off x="1019520" y="459720"/>
              <a:ext cx="7906680" cy="4829760"/>
              <a:chOff x="1019520" y="459720"/>
              <a:chExt cx="7906680" cy="4829760"/>
            </a:xfrm>
          </p:grpSpPr>
          <p:sp>
            <p:nvSpPr>
              <p:cNvPr id="151" name="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95840 w 456840"/>
                  <a:gd name="textAreaRight" fmla="*/ 402120 w 456840"/>
                  <a:gd name="textAreaTop" fmla="*/ 212040 h 384120"/>
                  <a:gd name="textAreaBottom" fmla="*/ 33840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9257" y="9340"/>
                    </a:lnTo>
                    <a:lnTo>
                      <a:pt x="9257" y="11928"/>
                    </a:lnTo>
                    <a:lnTo>
                      <a:pt x="11928" y="11928"/>
                    </a:lnTo>
                    <a:lnTo>
                      <a:pt x="11928" y="9257"/>
                    </a:lnTo>
                    <a:lnTo>
                      <a:pt x="9340" y="9257"/>
                    </a:lnTo>
                    <a:lnTo>
                      <a:pt x="15470" y="0"/>
                    </a:lnTo>
                    <a:lnTo>
                      <a:pt x="21600" y="9257"/>
                    </a:lnTo>
                    <a:lnTo>
                      <a:pt x="19012" y="9257"/>
                    </a:lnTo>
                    <a:lnTo>
                      <a:pt x="19012" y="19012"/>
                    </a:lnTo>
                    <a:lnTo>
                      <a:pt x="9257" y="19012"/>
                    </a:lnTo>
                    <a:lnTo>
                      <a:pt x="9257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115560 w 402840"/>
                  <a:gd name="textAreaRight" fmla="*/ 345240 w 402840"/>
                  <a:gd name="textAreaTop" fmla="*/ 263160 h 456840"/>
                  <a:gd name="textAreaBottom" fmla="*/ 39132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81000 w 281880"/>
                  <a:gd name="textAreaRight" fmla="*/ 241560 w 281880"/>
                  <a:gd name="textAreaTop" fmla="*/ 231840 h 402480"/>
                  <a:gd name="textAreaBottom" fmla="*/ 34488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86" name="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3890520" y="5373720"/>
                <a:ext cx="128448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dipres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www.bcn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827360"/>
            <a:ext cx="69199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promover el bien común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para lo cual debe contribuir a crear condiciones sociales”… que permitan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la mayor realización espiritual y material posible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asegurar derecho de las personas a participar con igualdad de oportunidades en la vida nacional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(art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72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descentralizada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actuar válida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Responder civil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71228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ff9900"/>
                </a:solidFill>
                <a:latin typeface="Verdana"/>
              </a:rPr>
              <a:t>DERECHO DE PROPIEDAD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RECURSO DE PROTE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gobierno y la administración del Estado”.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organización básica del Estado”,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la carrera funcionaria”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1382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za</cp:lastModifiedBy>
  <dcterms:modified xsi:type="dcterms:W3CDTF">2009-08-14T01:17:09Z</dcterms:modified>
  <cp:revision>9</cp:revision>
  <dc:subject/>
  <dc:title>Macrosistemas, Estructuras del y Funciones del Estado.</dc:title>
</cp:coreProperties>
</file>