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BBDA-3334-4FA8-879C-7230D3E30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2005-94E7-419E-A000-72C524E5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E524-B4B7-4D4F-811E-5BDE00BB8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6385-BCCA-4B35-8059-AEE0CA2BF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127C-6C0C-4731-805B-AD026E34B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5EAE-4CFB-4583-A49E-649E0264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BB5A2-3E71-4667-A053-E2C74EFC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D2AC-E580-4A00-A47E-377481E1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9467-3112-4C80-90BA-C4A4F284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3DA4-51B5-4762-9792-72CDB45D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78A94-813F-466F-9BD8-B5E94D69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46DF-AC79-4FB5-9AED-6DACD245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8E0E-3A7C-4C05-BEEE-42A8510D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1025-B639-4E81-B1B3-FCDCD8C7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6035-975B-4FBA-ABE0-F09BCE16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5974-E457-4549-8688-E375F6284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1B06-47E9-45E7-BB41-EA3E14741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4CF7-5950-4DD4-A1BA-4BDA8B81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EFF4-9E11-4ADC-A133-96F4B769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A055-AA7B-451E-AEFE-5B68ABB6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41B8-8D63-4B7A-B23B-74D818F5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64F5-3A16-4CBD-B35B-5BB1F93A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826A-8078-4DF8-8FFF-EF4DBA92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0A4F-4A92-46BC-B278-4D47A882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F99A-E90D-48A9-B2FA-6CABB89B001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7DFE-DAB8-4B04-B139-12014932D3C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jinostro@dii.uchile.cl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dipres.cl/" TargetMode="External"/><Relationship Id="rId2" Type="http://schemas.openxmlformats.org/officeDocument/2006/relationships/hyperlink" Target="http://www.mideplan.cl/" TargetMode="External"/><Relationship Id="rId3" Type="http://schemas.openxmlformats.org/officeDocument/2006/relationships/hyperlink" Target="http://www.congreso.cl/" TargetMode="External"/><Relationship Id="rId4" Type="http://schemas.openxmlformats.org/officeDocument/2006/relationships/hyperlink" Target="http://www.segpres.cl/" TargetMode="External"/><Relationship Id="rId5" Type="http://schemas.openxmlformats.org/officeDocument/2006/relationships/hyperlink" Target="http://www.reformadelestado.cl/" TargetMode="External"/><Relationship Id="rId6" Type="http://schemas.openxmlformats.org/officeDocument/2006/relationships/hyperlink" Target="http://www.bcn.cl/" TargetMode="External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564000" y="404640"/>
            <a:ext cx="2376360" cy="1295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8920" y="3500280"/>
            <a:ext cx="76341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Clase 3: “Macrosistemas, Estructuras y Funciones del Estado”.</a:t>
            </a:r>
            <a:br>
              <a:rPr sz="4000"/>
            </a:br>
            <a:r>
              <a:rPr b="1" lang="es-CL" sz="2200" spc="-1" strike="noStrike">
                <a:solidFill>
                  <a:srgbClr val="006666"/>
                </a:solidFill>
                <a:latin typeface="Arial"/>
              </a:rPr>
              <a:t>Curso: Introducción a los Sistemas Públicos.</a:t>
            </a:r>
            <a:endParaRPr b="0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32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José Inostroza La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jinostro@dii.uchile.c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300720" y="404640"/>
            <a:ext cx="22320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116000" y="404640"/>
            <a:ext cx="20890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831708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CONGRESO: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dos cámaras que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“concurren”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 a la formación de las leyes (El Presidentes es “colegislador”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Aprueban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Presupuest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Fiscalizan 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al Gobiern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Diputados: Determinan si han a lugar o no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“acusaciones constitucionales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Senado: Resolver acusaciones constitucional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232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16000" y="1827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ODER JUDICIAL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ff9900"/>
                </a:solidFill>
                <a:latin typeface="Verdana"/>
              </a:rPr>
              <a:t>Conocer y resolver asuntos civiles y criminales</a:t>
            </a: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 y ejecutar lo juzgad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Los miembros de la Corte Suprema (21) son electos por el Presidente, en base a nómina que propone Corte y con acuerdo del Senad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0894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777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MINISTERIO PÚBLIC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Dirige la investigación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 de los hechos constitutivos de delit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uede </a:t>
            </a: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impartir ordenes a Carabineros/Investigacion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resenta los casos antes los tribunal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236000" y="260280"/>
            <a:ext cx="13683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TRIBUNAL CONSTITUCIONAL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revisa constitucionalidad de las leyes orgánica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BANCO CENTRAL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olítica monetar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Autónomo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443640" y="3500280"/>
            <a:ext cx="20890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CONTRALORIA GENERAL DE LA REPUBLIC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jerce control de la legalidad de los actos de la administr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Fiscaliza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los ingresos e inversión del Fisco, municipi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leva la contabilidad del Estad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Toma de razón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ex ante) de los actos de la administración (más de 200 mil al año!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l Contralor lo designa el Presidente con acuerdo del Senado (inamovible hasta los 75 año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1440000" cy="2665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380360" y="189000"/>
            <a:ext cx="1368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700360" y="3141720"/>
            <a:ext cx="38894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Diseñadores de Política (Ministerios: sectoriales-funciones transversale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jecutores de Políticas (Servicios Público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00000" y="2232000"/>
            <a:ext cx="82440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Fiscalizadoras (Superintendencias, SAG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mpresarial (BancoEstado, ENAP, Metro, Codelco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Fomento (CORFO, CONICYT, INDAP…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3. Poder Ejecutivo: Funciones Transversales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71640" y="1856880"/>
            <a:ext cx="8518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Planificación (SEGPRES-DIPRES-MIDEPL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Presupuestación (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Legislación (SEGPRES-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Control de Gestión y Evaluación (SEGPRES-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Auditoria (CAIG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Compras Públicas (ChileCompra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Transparencia, Acceso de la Información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Objetivos y Alca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63280" y="1773000"/>
            <a:ext cx="828036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ntregar un mapa conceptual, genérico, sobre qué es y cómo se organiza el Estado en sus aspectos elementa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No se entrará en detalles y se simplificará deliberadamente algunas definic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l alumno tendrá las referencias suficientes para entrar en la conversación del resto del curs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l enfoque principal es “normativo” (qué dice la norma; deber ser), pero se harán observaciones crític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04000" y="189000"/>
            <a:ext cx="1863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Recursos Humano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4080" y="1916280"/>
            <a:ext cx="799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statuto Administrativo (Carrera, ingreso, ascenso, evaluación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Sistema de Alta Dirección Públic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lanta de Carrer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lanta de la exclusiva Confianz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Contrat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Honorario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scala Remuneracional (E.U.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019160" cy="10764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79280" y="5572080"/>
            <a:ext cx="6476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Descentralizació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Intendenci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iernos Regiona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ernacion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Municipi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Organismos Desconcentrados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(SEREMIS, Direcciones Regionales, Servicios de Salu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-36360" y="189000"/>
            <a:ext cx="8893080" cy="537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019520" y="459720"/>
            <a:ext cx="7906680" cy="6016320"/>
            <a:chOff x="1019520" y="459720"/>
            <a:chExt cx="7906680" cy="6016320"/>
          </a:xfrm>
        </p:grpSpPr>
        <p:grpSp>
          <p:nvGrpSpPr>
            <p:cNvPr id="150" name=""/>
            <p:cNvGrpSpPr/>
            <p:nvPr/>
          </p:nvGrpSpPr>
          <p:grpSpPr>
            <a:xfrm>
              <a:off x="1019520" y="459720"/>
              <a:ext cx="7906680" cy="4829760"/>
              <a:chOff x="1019520" y="459720"/>
              <a:chExt cx="7906680" cy="4829760"/>
            </a:xfrm>
          </p:grpSpPr>
          <p:sp>
            <p:nvSpPr>
              <p:cNvPr id="151" name=""/>
              <p:cNvSpPr/>
              <p:nvPr/>
            </p:nvSpPr>
            <p:spPr>
              <a:xfrm>
                <a:off x="1680840" y="878760"/>
                <a:ext cx="6506280" cy="4129560"/>
              </a:xfrm>
              <a:prstGeom prst="ellipse">
                <a:avLst/>
              </a:prstGeom>
              <a:noFill/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748680" y="2755800"/>
                <a:ext cx="881280" cy="75096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Serv.     Adm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GO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9440" y="2923560"/>
                <a:ext cx="824760" cy="656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CO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57080" y="2078640"/>
                <a:ext cx="1212480" cy="84492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Ejecutivo del GORE </a:t>
                </a: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(Intendente)</a:t>
                </a: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350360" y="1254600"/>
                <a:ext cx="1433520" cy="750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DIPRES/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SUBDER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415280" y="3224880"/>
                <a:ext cx="1510920" cy="7268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MINISTERIOS SECTORIAL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084080" y="1732680"/>
                <a:ext cx="1439280" cy="7336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ORGANS.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EJECUTOR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019520" y="3506760"/>
                <a:ext cx="1543680" cy="749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SECTOR EMPRESARIA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18061800">
                <a:off x="5399280" y="2616480"/>
                <a:ext cx="456840" cy="384120"/>
              </a:xfrm>
              <a:custGeom>
                <a:avLst/>
                <a:gdLst>
                  <a:gd name="textAreaLeft" fmla="*/ 195840 w 456840"/>
                  <a:gd name="textAreaRight" fmla="*/ 402120 w 456840"/>
                  <a:gd name="textAreaTop" fmla="*/ 212040 h 384120"/>
                  <a:gd name="textAreaBottom" fmla="*/ 338400 h 38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5470"/>
                    </a:moveTo>
                    <a:lnTo>
                      <a:pt x="9257" y="9340"/>
                    </a:lnTo>
                    <a:lnTo>
                      <a:pt x="9257" y="11928"/>
                    </a:lnTo>
                    <a:lnTo>
                      <a:pt x="11928" y="11928"/>
                    </a:lnTo>
                    <a:lnTo>
                      <a:pt x="11928" y="9257"/>
                    </a:lnTo>
                    <a:lnTo>
                      <a:pt x="9340" y="9257"/>
                    </a:lnTo>
                    <a:lnTo>
                      <a:pt x="15470" y="0"/>
                    </a:lnTo>
                    <a:lnTo>
                      <a:pt x="21600" y="9257"/>
                    </a:lnTo>
                    <a:lnTo>
                      <a:pt x="19012" y="9257"/>
                    </a:lnTo>
                    <a:lnTo>
                      <a:pt x="19012" y="19012"/>
                    </a:lnTo>
                    <a:lnTo>
                      <a:pt x="9257" y="19012"/>
                    </a:lnTo>
                    <a:lnTo>
                      <a:pt x="9257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0800000">
                <a:off x="3958560" y="2237400"/>
                <a:ext cx="402840" cy="456840"/>
              </a:xfrm>
              <a:custGeom>
                <a:avLst/>
                <a:gdLst>
                  <a:gd name="textAreaLeft" fmla="*/ 115560 w 402840"/>
                  <a:gd name="textAreaRight" fmla="*/ 345240 w 402840"/>
                  <a:gd name="textAreaTop" fmla="*/ 263160 h 456840"/>
                  <a:gd name="textAreaBottom" fmla="*/ 391320 h 456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5470"/>
                    </a:moveTo>
                    <a:lnTo>
                      <a:pt x="6200" y="9340"/>
                    </a:lnTo>
                    <a:lnTo>
                      <a:pt x="6200" y="12440"/>
                    </a:lnTo>
                    <a:lnTo>
                      <a:pt x="12440" y="12440"/>
                    </a:lnTo>
                    <a:lnTo>
                      <a:pt x="12440" y="6200"/>
                    </a:lnTo>
                    <a:lnTo>
                      <a:pt x="9340" y="6200"/>
                    </a:lnTo>
                    <a:lnTo>
                      <a:pt x="15470" y="0"/>
                    </a:lnTo>
                    <a:lnTo>
                      <a:pt x="21600" y="6200"/>
                    </a:lnTo>
                    <a:lnTo>
                      <a:pt x="18500" y="6200"/>
                    </a:lnTo>
                    <a:lnTo>
                      <a:pt x="18500" y="18500"/>
                    </a:lnTo>
                    <a:lnTo>
                      <a:pt x="6200" y="18500"/>
                    </a:lnTo>
                    <a:lnTo>
                      <a:pt x="62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3861600">
                <a:off x="4550400" y="3184200"/>
                <a:ext cx="281880" cy="402480"/>
              </a:xfrm>
              <a:custGeom>
                <a:avLst/>
                <a:gdLst>
                  <a:gd name="textAreaLeft" fmla="*/ 81000 w 281880"/>
                  <a:gd name="textAreaRight" fmla="*/ 241560 w 281880"/>
                  <a:gd name="textAreaTop" fmla="*/ 231840 h 402480"/>
                  <a:gd name="textAreaBottom" fmla="*/ 344880 h 40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5470"/>
                    </a:moveTo>
                    <a:lnTo>
                      <a:pt x="6200" y="9340"/>
                    </a:lnTo>
                    <a:lnTo>
                      <a:pt x="6200" y="12440"/>
                    </a:lnTo>
                    <a:lnTo>
                      <a:pt x="12440" y="12440"/>
                    </a:lnTo>
                    <a:lnTo>
                      <a:pt x="12440" y="6200"/>
                    </a:lnTo>
                    <a:lnTo>
                      <a:pt x="9340" y="6200"/>
                    </a:lnTo>
                    <a:lnTo>
                      <a:pt x="15470" y="0"/>
                    </a:lnTo>
                    <a:lnTo>
                      <a:pt x="21600" y="6200"/>
                    </a:lnTo>
                    <a:lnTo>
                      <a:pt x="18500" y="6200"/>
                    </a:lnTo>
                    <a:lnTo>
                      <a:pt x="18500" y="18500"/>
                    </a:lnTo>
                    <a:lnTo>
                      <a:pt x="6200" y="18500"/>
                    </a:lnTo>
                    <a:lnTo>
                      <a:pt x="62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438440" y="4539240"/>
                <a:ext cx="1211760" cy="750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FUERZAS POLITICA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556080" y="1910880"/>
                <a:ext cx="2535840" cy="1971000"/>
              </a:xfrm>
              <a:prstGeom prst="ellipse">
                <a:avLst/>
              </a:prstGeom>
              <a:noFill/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958920" y="459720"/>
                <a:ext cx="1211760" cy="749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SOCIEDAD CIVI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1863000">
                <a:off x="2732040" y="1884960"/>
                <a:ext cx="938880" cy="288720"/>
              </a:xfrm>
              <a:prstGeom prst="leftRightArrow">
                <a:avLst>
                  <a:gd name="adj1" fmla="val 50000"/>
                  <a:gd name="adj2" fmla="val 64736"/>
                </a:avLst>
              </a:prstGeom>
              <a:solidFill>
                <a:srgbClr val="ffffff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20178000">
                <a:off x="2541600" y="3300840"/>
                <a:ext cx="991800" cy="302040"/>
              </a:xfrm>
              <a:prstGeom prst="leftRightArrow">
                <a:avLst>
                  <a:gd name="adj1" fmla="val 50000"/>
                  <a:gd name="adj2" fmla="val 65369"/>
                </a:avLst>
              </a:prstGeom>
              <a:solidFill>
                <a:srgbClr val="ffffff"/>
              </a:solidFill>
              <a:ln w="1260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6200000">
                <a:off x="4740480" y="3975480"/>
                <a:ext cx="495000" cy="444240"/>
              </a:xfrm>
              <a:prstGeom prst="leftRightArrow">
                <a:avLst>
                  <a:gd name="adj1" fmla="val 50000"/>
                  <a:gd name="adj2" fmla="val 22182"/>
                </a:avLst>
              </a:prstGeom>
              <a:solidFill>
                <a:srgbClr val="ffffff"/>
              </a:solidFill>
              <a:ln w="1260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942000">
                <a:off x="5838840" y="3179880"/>
                <a:ext cx="1609560" cy="397080"/>
              </a:xfrm>
              <a:prstGeom prst="leftRightArrow">
                <a:avLst>
                  <a:gd name="adj1" fmla="val 50000"/>
                  <a:gd name="adj2" fmla="val 80694"/>
                </a:avLst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6021200">
                <a:off x="4388040" y="1361520"/>
                <a:ext cx="563760" cy="348120"/>
              </a:xfrm>
              <a:prstGeom prst="leftRightArrow">
                <a:avLst>
                  <a:gd name="adj1" fmla="val 50000"/>
                  <a:gd name="adj2" fmla="val 32239"/>
                </a:avLst>
              </a:prstGeom>
              <a:solidFill>
                <a:srgbClr val="ffffff"/>
              </a:solidFill>
              <a:ln w="1908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20896800">
                <a:off x="5971320" y="2287440"/>
                <a:ext cx="1073880" cy="280440"/>
              </a:xfrm>
              <a:prstGeom prst="leftRightArrow">
                <a:avLst>
                  <a:gd name="adj1" fmla="val 50000"/>
                  <a:gd name="adj2" fmla="val 76231"/>
                </a:avLst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217040" y="3506760"/>
                <a:ext cx="882360" cy="28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800000"/>
                    </a:solidFill>
                    <a:latin typeface="Arial"/>
                  </a:rPr>
                  <a:t>GOR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6728600">
                <a:off x="1594800" y="2653200"/>
                <a:ext cx="281880" cy="110160"/>
              </a:xfrm>
              <a:prstGeom prst="rightArrow">
                <a:avLst>
                  <a:gd name="adj1" fmla="val 50000"/>
                  <a:gd name="adj2" fmla="val 63971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20266800">
                <a:off x="3287520" y="1094760"/>
                <a:ext cx="330120" cy="93960"/>
              </a:xfrm>
              <a:prstGeom prst="rightArrow">
                <a:avLst>
                  <a:gd name="adj1" fmla="val 50000"/>
                  <a:gd name="adj2" fmla="val 87835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2423600">
                <a:off x="3224160" y="4726080"/>
                <a:ext cx="330840" cy="94320"/>
              </a:xfrm>
              <a:prstGeom prst="rightArrow">
                <a:avLst>
                  <a:gd name="adj1" fmla="val 50000"/>
                  <a:gd name="adj2" fmla="val 87691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5099400">
                <a:off x="7991280" y="2559960"/>
                <a:ext cx="281160" cy="110160"/>
              </a:xfrm>
              <a:prstGeom prst="rightArrow">
                <a:avLst>
                  <a:gd name="adj1" fmla="val 50000"/>
                  <a:gd name="adj2" fmla="val 63807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8536800">
                <a:off x="6863400" y="4445640"/>
                <a:ext cx="330840" cy="93240"/>
              </a:xfrm>
              <a:prstGeom prst="rightArrow">
                <a:avLst>
                  <a:gd name="adj1" fmla="val 50000"/>
                  <a:gd name="adj2" fmla="val 88707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813000">
                <a:off x="5435640" y="866160"/>
                <a:ext cx="330120" cy="93600"/>
              </a:xfrm>
              <a:prstGeom prst="rightArrow">
                <a:avLst>
                  <a:gd name="adj1" fmla="val 50000"/>
                  <a:gd name="adj2" fmla="val 88173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2249600">
                <a:off x="4216680" y="3788280"/>
                <a:ext cx="330840" cy="93240"/>
              </a:xfrm>
              <a:prstGeom prst="rightArrow">
                <a:avLst>
                  <a:gd name="adj1" fmla="val 50000"/>
                  <a:gd name="adj2" fmla="val 88707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7244600">
                <a:off x="3470400" y="2559600"/>
                <a:ext cx="281160" cy="110160"/>
              </a:xfrm>
              <a:prstGeom prst="rightArrow">
                <a:avLst>
                  <a:gd name="adj1" fmla="val 50000"/>
                  <a:gd name="adj2" fmla="val 63807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4920000">
                <a:off x="5910840" y="2841840"/>
                <a:ext cx="281880" cy="109440"/>
              </a:xfrm>
              <a:prstGeom prst="rightArrow">
                <a:avLst>
                  <a:gd name="adj1" fmla="val 50000"/>
                  <a:gd name="adj2" fmla="val 64391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90200">
                <a:off x="4768920" y="1910880"/>
                <a:ext cx="330480" cy="94320"/>
              </a:xfrm>
              <a:prstGeom prst="rightArrow">
                <a:avLst>
                  <a:gd name="adj1" fmla="val 50000"/>
                  <a:gd name="adj2" fmla="val 87595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107040" y="3037680"/>
                <a:ext cx="939600" cy="5713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800000"/>
                    </a:solidFill>
                    <a:latin typeface="Arial"/>
                  </a:rPr>
                  <a:t>      </a:t>
                </a:r>
                <a:r>
                  <a:rPr b="1" lang="en-US" sz="700" spc="-1" strike="noStrike">
                    <a:solidFill>
                      <a:srgbClr val="800000"/>
                    </a:solidFill>
                    <a:latin typeface="Arial"/>
                  </a:rPr>
                  <a:t>SEREMI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107040" y="752400"/>
                <a:ext cx="1342440" cy="93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MUNICIPIO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8916800">
                <a:off x="5436000" y="1728360"/>
                <a:ext cx="805320" cy="280440"/>
              </a:xfrm>
              <a:prstGeom prst="leftRightArrow">
                <a:avLst>
                  <a:gd name="adj1" fmla="val 50000"/>
                  <a:gd name="adj2" fmla="val 57167"/>
                </a:avLst>
              </a:prstGeom>
              <a:solidFill>
                <a:srgbClr val="ffffff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2029320" y="5084640"/>
              <a:ext cx="6617880" cy="1391400"/>
              <a:chOff x="2029320" y="5084640"/>
              <a:chExt cx="6617880" cy="1391400"/>
            </a:xfrm>
          </p:grpSpPr>
          <p:sp>
            <p:nvSpPr>
              <p:cNvPr id="186" name=""/>
              <p:cNvSpPr/>
              <p:nvPr/>
            </p:nvSpPr>
            <p:spPr>
              <a:xfrm>
                <a:off x="2029320" y="5084640"/>
                <a:ext cx="2282400" cy="671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800000"/>
                    </a:solidFill>
                    <a:latin typeface="Arial"/>
                  </a:rPr>
                  <a:t>GOBERNABILIDA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751000" y="5157720"/>
                <a:ext cx="2896200" cy="671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800000"/>
                    </a:solidFill>
                    <a:latin typeface="Arial"/>
                  </a:rPr>
                  <a:t>DESARROLLO ECON., SOCIAL Y CULTUR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0800000">
                <a:off x="3890520" y="5373720"/>
                <a:ext cx="1284480" cy="1093680"/>
              </a:xfrm>
              <a:prstGeom prst="uturnArrow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 rot="10846800">
                <a:off x="4829760" y="5373720"/>
                <a:ext cx="1266120" cy="1093680"/>
              </a:xfrm>
              <a:prstGeom prst="uturnArrow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311720" y="5300640"/>
                <a:ext cx="1439280" cy="0"/>
              </a:xfrm>
              <a:prstGeom prst="line">
                <a:avLst/>
              </a:prstGeom>
              <a:ln w="57240">
                <a:solidFill>
                  <a:srgbClr val="99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 flipV="1">
              <a:off x="6089400" y="3212640"/>
              <a:ext cx="0" cy="36036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96480" y="3500280"/>
              <a:ext cx="1353600" cy="358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800000"/>
                  </a:solidFill>
                  <a:latin typeface="Arial"/>
                </a:rPr>
                <a:t>GABINE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800000"/>
                  </a:solidFill>
                  <a:latin typeface="Arial"/>
                </a:rPr>
                <a:t>REGION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-612720" y="0"/>
            <a:ext cx="1065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onclusion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77742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ógicas históricas dominantes de organización (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weberiana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) y emergentes (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Nueva gerencia pública, participación ciudadana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as regulaciones se justifican para resguardar al Estado de las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capturas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políticas, gremiales, empresariales…); promueven el interés general y permanente….pero puede generar costos de transacción, administrativos importantes, e incentivos perversos en algunos cas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Chile ha derivado a un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presidencialismo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con restricciones de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organismos autónom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03280" y="62028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Fuentes/Referencias útiles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5640" y="1827360"/>
            <a:ext cx="792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Constitución  Polític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ey de Bases de la Administr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statuto Administrativ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Texto Reforma del Estado 1990-2005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3333cc"/>
                </a:solidFill>
                <a:latin typeface="Verdana"/>
              </a:rPr>
              <a:t>Territorial Review 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(OCD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www.dipres.cl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mucho documentos; presupuest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www.mideplan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www.congreso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www.segpres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5"/>
              </a:rPr>
              <a:t>www.reformadelestado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6"/>
              </a:rPr>
              <a:t>www.bcn.cl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ley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6084720" y="3933720"/>
            <a:ext cx="2772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Tema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Grandes Definiciones: Rol, Restricciones, Princip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Macroestructura: Ejecutivo, Legislativo, Judicial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oder Ejecutiv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scentraliza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76360" y="256500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63640" y="1827360"/>
            <a:ext cx="691992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 u="sng">
                <a:solidFill>
                  <a:srgbClr val="3333cc"/>
                </a:solidFill>
                <a:uFillTx/>
                <a:latin typeface="Verdana"/>
              </a:rPr>
              <a:t>El fin del Estado es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“promover el bien común”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para lo cual debe contribuir a crear condiciones sociales”… que permitan 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“la mayor realización espiritual y material posible”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(art 1 Constitución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 u="sng">
                <a:solidFill>
                  <a:srgbClr val="3333cc"/>
                </a:solidFill>
                <a:uFillTx/>
                <a:latin typeface="Verdana"/>
              </a:rPr>
              <a:t>Es deber del Estado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:  resguardar seguridad nacional, dar protección a la población y a la familia, promover la integración armónica de todos los sectores; 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asegurar derecho de las personas a participar con igualdad de oportunidades en la vida nacional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 (art 1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3645000"/>
            <a:ext cx="1763640" cy="2305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7287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El Estado es </a:t>
            </a:r>
            <a:r>
              <a:rPr b="1" lang="es-CL" sz="1800" spc="-1" strike="noStrike">
                <a:solidFill>
                  <a:srgbClr val="ff9900"/>
                </a:solidFill>
                <a:latin typeface="Verdana"/>
              </a:rPr>
              <a:t>Unitario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La administración será funcional y territorialmente </a:t>
            </a:r>
            <a:r>
              <a:rPr b="1" lang="es-CL" sz="1800" spc="-1" strike="noStrike">
                <a:solidFill>
                  <a:srgbClr val="ff9900"/>
                </a:solidFill>
                <a:latin typeface="Verdana"/>
              </a:rPr>
              <a:t>descentralizada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(art. 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Los órganos del Estado debe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someter su acción a la Constitución y las normas dictadas conforme a ellas (art. 6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9900"/>
                </a:solidFill>
                <a:latin typeface="Verdana"/>
              </a:rPr>
              <a:t>actuar válidamente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previa investidura regular de sus integrantes, dentro de sus competencias y en la forma que prescriba la ley (art. 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Evitar  atribuirse, ni aun a pretexto de circunstancias extraordinarias, otra autoridad que la expresamente conferida en virtud de la Constitución (art. 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9900"/>
                </a:solidFill>
                <a:latin typeface="Verdana"/>
              </a:rPr>
              <a:t>Responder civilmente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de sus ac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3357720"/>
            <a:ext cx="12589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00000" y="301320"/>
            <a:ext cx="82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7712280" cy="48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3333cc"/>
                </a:solidFill>
                <a:latin typeface="Verdana"/>
              </a:rPr>
              <a:t>DERECHOS CONTITUCIONALES. 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El Estado debe respetar derechos de las personas (art. 19)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Igualdad ante la ley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otección vida privada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de conciencia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personal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otección a la salud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Educación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de enseñanza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esentar peticiones a la autoridad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seguridad social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desarrollar actividad económica *el Estado requiere Ley especial y siguen las reglas comunes)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no discriminación arbitraria, y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EL </a:t>
            </a:r>
            <a:r>
              <a:rPr b="1" lang="es-CL" sz="1700" spc="-1" strike="noStrike">
                <a:solidFill>
                  <a:srgbClr val="ff9900"/>
                </a:solidFill>
                <a:latin typeface="Verdana"/>
              </a:rPr>
              <a:t>DERECHO DE PROPIEDAD</a:t>
            </a: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 (expropiación, indemnización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3333cc"/>
                </a:solidFill>
                <a:latin typeface="Verdana"/>
              </a:rPr>
              <a:t>Si no se respetan… 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RECURSO DE PROTECCIÓN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300720" y="2421000"/>
            <a:ext cx="28432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IERNO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El Presidente es a quien le corresponde el </a:t>
            </a: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“gobierno y la administración del Estado”.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Una Ley garantizará la </a:t>
            </a: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“organización básica del Estado”,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 y </a:t>
            </a: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“la carrera funcionaria”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 con igualdad de acceso”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4005360"/>
            <a:ext cx="13827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15:09:26Z</dcterms:created>
  <dc:creator>Jinostroza</dc:creator>
  <dc:description/>
  <dc:language>en-US</dc:language>
  <cp:lastModifiedBy>Jinostroza</cp:lastModifiedBy>
  <dcterms:modified xsi:type="dcterms:W3CDTF">2009-08-14T01:17:09Z</dcterms:modified>
  <cp:revision>9</cp:revision>
  <dc:subject/>
  <dc:title>Macrosistemas, Estructuras del y Funciones del Estado.</dc:title>
</cp:coreProperties>
</file>