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22.wmf" ContentType="image/x-wmf"/>
  <Override PartName="/ppt/media/image6.png" ContentType="image/png"/>
  <Override PartName="/ppt/media/image21.wmf" ContentType="image/x-wmf"/>
  <Override PartName="/ppt/media/image5.png" ContentType="image/png"/>
  <Override PartName="/ppt/media/image10.png" ContentType="image/png"/>
  <Override PartName="/ppt/media/image4.png" ContentType="image/png"/>
  <Override PartName="/ppt/media/image13.jpeg" ContentType="image/jpeg"/>
  <Override PartName="/ppt/media/image20.wmf" ContentType="image/x-wmf"/>
  <Override PartName="/ppt/media/image18.wmf" ContentType="image/x-wmf"/>
  <Override PartName="/ppt/media/image16.png" ContentType="image/png"/>
  <Override PartName="/ppt/media/image2.png" ContentType="image/pn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77075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09600" y="294840"/>
            <a:ext cx="7772400" cy="3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11708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42576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09600" y="294840"/>
            <a:ext cx="7772400" cy="3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11708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11708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42576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42576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09600" y="294840"/>
            <a:ext cx="7772400" cy="3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11708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11708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11708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42576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42576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42576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09600" y="294840"/>
            <a:ext cx="7772400" cy="3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09600" y="294840"/>
            <a:ext cx="7772400" cy="3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170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09600" y="294840"/>
            <a:ext cx="7772400" cy="3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11708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11708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09600" y="294840"/>
            <a:ext cx="7772400" cy="3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09600" y="294840"/>
            <a:ext cx="7772400" cy="14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09600" y="294840"/>
            <a:ext cx="7772400" cy="3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1708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11708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42576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09600" y="294840"/>
            <a:ext cx="7772400" cy="3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09600" y="294840"/>
            <a:ext cx="7772400" cy="3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1708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11708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42576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09600" y="294840"/>
            <a:ext cx="7772400" cy="3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1708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11708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42576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09600" y="294840"/>
            <a:ext cx="7772400" cy="3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1708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42576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09600" y="294840"/>
            <a:ext cx="7772400" cy="3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11708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11708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42576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42576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09600" y="294840"/>
            <a:ext cx="7772400" cy="3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1708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11708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11708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42576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42576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42576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09600" y="294840"/>
            <a:ext cx="7772400" cy="3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1170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09600" y="294840"/>
            <a:ext cx="7772400" cy="3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11708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11708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09600" y="294840"/>
            <a:ext cx="7772400" cy="3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09600" y="294840"/>
            <a:ext cx="7772400" cy="14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09600" y="294840"/>
            <a:ext cx="7772400" cy="3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11708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11708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42576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09600" y="294840"/>
            <a:ext cx="7772400" cy="3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11708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11708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42576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09600" y="294840"/>
            <a:ext cx="7772400" cy="3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11708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11708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42576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1170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99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873000"/>
            <a:ext cx="9144000" cy="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7520" y="106200"/>
            <a:ext cx="3303720" cy="6462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349800" y="0"/>
            <a:ext cx="5794200" cy="8557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209600" y="294840"/>
            <a:ext cx="7772400" cy="3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0" y="3444840"/>
            <a:ext cx="914400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3427560"/>
            <a:ext cx="9144000" cy="34304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80880" y="727200"/>
            <a:ext cx="4648320" cy="2473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4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jpeg"/><Relationship Id="rId4" Type="http://schemas.openxmlformats.org/officeDocument/2006/relationships/image" Target="../media/image20.wmf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61800" y="3479760"/>
            <a:ext cx="8388360" cy="17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ff"/>
                </a:solidFill>
                <a:latin typeface="Arial Narrow"/>
              </a:rPr>
              <a:t>     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 Narrow"/>
              </a:rPr>
              <a:t>BancoEstado y su Proceso de Modernización 1996-2007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 Narrow"/>
              </a:rPr>
              <a:t>José Mena V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s-AR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s-AR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s-AR" sz="3200" spc="-1" strike="noStrike">
                <a:solidFill>
                  <a:srgbClr val="ffffff"/>
                </a:solidFill>
                <a:latin typeface="Arial Narrow"/>
              </a:rPr>
              <a:t>                    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533760" y="1692360"/>
            <a:ext cx="1309680" cy="10778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129280" y="1878120"/>
            <a:ext cx="942840" cy="847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7827840" y="1870200"/>
            <a:ext cx="895320" cy="1008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252360" y="1514520"/>
            <a:ext cx="771480" cy="1190520"/>
          </a:xfrm>
          <a:prstGeom prst="rect">
            <a:avLst/>
          </a:prstGeom>
          <a:ln w="0">
            <a:noFill/>
          </a:ln>
        </p:spPr>
      </p:pic>
      <p:grpSp>
        <p:nvGrpSpPr>
          <p:cNvPr id="106" name=""/>
          <p:cNvGrpSpPr/>
          <p:nvPr/>
        </p:nvGrpSpPr>
        <p:grpSpPr>
          <a:xfrm>
            <a:off x="1185840" y="1697040"/>
            <a:ext cx="2185920" cy="1530360"/>
            <a:chOff x="1185840" y="1697040"/>
            <a:chExt cx="2185920" cy="1530360"/>
          </a:xfrm>
        </p:grpSpPr>
        <p:pic>
          <p:nvPicPr>
            <p:cNvPr id="107" name="" descr=""/>
            <p:cNvPicPr/>
            <p:nvPr/>
          </p:nvPicPr>
          <p:blipFill>
            <a:blip r:embed="rId5"/>
            <a:stretch/>
          </p:blipFill>
          <p:spPr>
            <a:xfrm>
              <a:off x="1320840" y="2187360"/>
              <a:ext cx="857160" cy="102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6"/>
            <a:stretch/>
          </p:blipFill>
          <p:spPr>
            <a:xfrm>
              <a:off x="2473200" y="2157120"/>
              <a:ext cx="800280" cy="107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7"/>
            <a:stretch/>
          </p:blipFill>
          <p:spPr>
            <a:xfrm>
              <a:off x="1185840" y="1697040"/>
              <a:ext cx="2185920" cy="57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192560" y="293760"/>
            <a:ext cx="468648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yectos Exitoso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8"/>
          <a:stretch/>
        </p:blipFill>
        <p:spPr>
          <a:xfrm>
            <a:off x="6253200" y="1671480"/>
            <a:ext cx="1309680" cy="10782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3320" y="1012680"/>
            <a:ext cx="8173800" cy="3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Modelo de Oper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3760" y="2735280"/>
            <a:ext cx="3458880" cy="950760"/>
          </a:xfrm>
          <a:prstGeom prst="leftRightArrow">
            <a:avLst>
              <a:gd name="adj1" fmla="val 49917"/>
              <a:gd name="adj2" fmla="val 63951"/>
            </a:avLst>
          </a:prstGeom>
          <a:solidFill>
            <a:srgbClr val="c4e3ad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4" name=""/>
          <p:cNvSpPr/>
          <p:nvPr/>
        </p:nvSpPr>
        <p:spPr>
          <a:xfrm>
            <a:off x="463680" y="2639880"/>
            <a:ext cx="433080" cy="50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9"/>
          <a:stretch/>
        </p:blipFill>
        <p:spPr>
          <a:xfrm>
            <a:off x="7864560" y="2879640"/>
            <a:ext cx="769680" cy="6732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289400" y="2914560"/>
            <a:ext cx="2432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990000"/>
                </a:solidFill>
                <a:latin typeface="Arial"/>
              </a:rPr>
              <a:t>Red de 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990000"/>
                </a:solidFill>
                <a:latin typeface="Arial"/>
              </a:rPr>
              <a:t>Telecomunicaciones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07800" y="3738600"/>
          <a:ext cx="8540640" cy="2585880"/>
        </p:xfrm>
        <a:graphic>
          <a:graphicData uri="http://schemas.openxmlformats.org/drawingml/2006/table">
            <a:tbl>
              <a:tblPr/>
              <a:tblGrid>
                <a:gridCol w="2135160"/>
                <a:gridCol w="2190600"/>
                <a:gridCol w="2079720"/>
                <a:gridCol w="2135160"/>
              </a:tblGrid>
              <a:tr h="3078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ctr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EN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ctr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C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ctr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ERCI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ctr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112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r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ctr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liza Tarjet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resa Clav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ecciona Cuent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resa Mont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ctr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a y Autoriz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ac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ga cuenta cliente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ona cuenta comerci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ctr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ibe Autorizació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ite Comproban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ega Efectivo al clien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ctr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1152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ósit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ctr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resa Cuent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eficiari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resa Mont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ctr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a y Autoriz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ac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ona cuenta clien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ga cuenta comerci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ctr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ibe Autorizació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ite Comproban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ibe Efectivo del clien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ctr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8574120" y="6369120"/>
            <a:ext cx="287280" cy="237960"/>
          </a:xfrm>
          <a:custGeom>
            <a:avLst/>
            <a:gdLst>
              <a:gd name="textAreaLeft" fmla="*/ 15120 w 287280"/>
              <a:gd name="textAreaRight" fmla="*/ 272160 w 287280"/>
              <a:gd name="textAreaTop" fmla="*/ 15120 h 237960"/>
              <a:gd name="textAreaBottom" fmla="*/ 222840 h 237960"/>
            </a:gdLst>
            <a:ahLst/>
            <a:rect l="textAreaLeft" t="textAreaTop" r="textAreaRight" b="textAreaBottom"/>
            <a:pathLst>
              <a:path w="26070" h="21600">
                <a:moveTo>
                  <a:pt x="0" y="0"/>
                </a:moveTo>
                <a:lnTo>
                  <a:pt x="26070" y="0"/>
                </a:lnTo>
                <a:lnTo>
                  <a:pt x="26070" y="21600"/>
                </a:lnTo>
                <a:lnTo>
                  <a:pt x="0" y="21600"/>
                </a:lnTo>
                <a:close/>
              </a:path>
              <a:path fill="lightenLess" w="26070" h="21600">
                <a:moveTo>
                  <a:pt x="0" y="0"/>
                </a:moveTo>
                <a:lnTo>
                  <a:pt x="26070" y="0"/>
                </a:lnTo>
                <a:lnTo>
                  <a:pt x="24670" y="1400"/>
                </a:lnTo>
                <a:lnTo>
                  <a:pt x="1400" y="1400"/>
                </a:lnTo>
                <a:close/>
              </a:path>
              <a:path fill="darken" w="26070" h="21600">
                <a:moveTo>
                  <a:pt x="26070" y="0"/>
                </a:moveTo>
                <a:lnTo>
                  <a:pt x="26070" y="21600"/>
                </a:lnTo>
                <a:lnTo>
                  <a:pt x="24670" y="20200"/>
                </a:lnTo>
                <a:lnTo>
                  <a:pt x="24670" y="1400"/>
                </a:lnTo>
                <a:close/>
              </a:path>
              <a:path fill="darkenLess" w="26070" h="21600">
                <a:moveTo>
                  <a:pt x="260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70" y="20200"/>
                </a:lnTo>
                <a:close/>
              </a:path>
              <a:path fill="lighten" w="260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70" h="21600">
                <a:moveTo>
                  <a:pt x="6029" y="10800"/>
                </a:moveTo>
                <a:lnTo>
                  <a:pt x="20042" y="3794"/>
                </a:lnTo>
                <a:lnTo>
                  <a:pt x="20042" y="17806"/>
                </a:lnTo>
                <a:close/>
              </a:path>
            </a:pathLst>
          </a:cu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"/>
          <p:cNvSpPr/>
          <p:nvPr/>
        </p:nvSpPr>
        <p:spPr>
          <a:xfrm>
            <a:off x="7888320" y="6640560"/>
            <a:ext cx="1338120" cy="1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669900"/>
                </a:solidFill>
                <a:latin typeface="Arial"/>
              </a:rPr>
              <a:t>VOLVER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44360" y="949320"/>
            <a:ext cx="6828120" cy="56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Plataforma Tecnológica para Microempresas   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reación filial microempresas (1996)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Diseño comercial: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99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valuación en terreno (credit scoring, sin exigencia de garantías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99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Variedad de productos / sucursales especializada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99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tención integral al sector, segmentación de cliente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Diseño tecnológico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99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stema de integración en red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99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estión de la información e inteligencia de  negocio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99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ptimización del trabajo en terreno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99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stema de georeferenciación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99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positivos móvile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" name=""/>
          <p:cNvSpPr/>
          <p:nvPr/>
        </p:nvSpPr>
        <p:spPr>
          <a:xfrm>
            <a:off x="4192560" y="293760"/>
            <a:ext cx="46864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yectos Exitoso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821640" y="1752480"/>
            <a:ext cx="2621520" cy="3495960"/>
            <a:chOff x="6821640" y="1752480"/>
            <a:chExt cx="2621520" cy="349596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6821640" y="1752480"/>
              <a:ext cx="565560" cy="3495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6915600" y="2040120"/>
              <a:ext cx="2527560" cy="3080160"/>
              <a:chOff x="6915600" y="2040120"/>
              <a:chExt cx="2527560" cy="3080160"/>
            </a:xfrm>
          </p:grpSpPr>
          <p:sp>
            <p:nvSpPr>
              <p:cNvPr id="125" name=""/>
              <p:cNvSpPr/>
              <p:nvPr/>
            </p:nvSpPr>
            <p:spPr>
              <a:xfrm>
                <a:off x="8717760" y="4130640"/>
                <a:ext cx="725400" cy="817560"/>
              </a:xfrm>
              <a:custGeom>
                <a:avLst/>
                <a:gdLst>
                  <a:gd name="textAreaLeft" fmla="*/ 46800 w 725400"/>
                  <a:gd name="textAreaRight" fmla="*/ 678600 w 725400"/>
                  <a:gd name="textAreaTop" fmla="*/ 46800 h 817560"/>
                  <a:gd name="textAreaBottom" fmla="*/ 770760 h 817560"/>
                </a:gdLst>
                <a:ahLst/>
                <a:rect l="textAreaLeft" t="textAreaTop" r="textAreaRight" b="textAreaBottom"/>
                <a:pathLst>
                  <a:path w="21600" h="24343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4343"/>
                    </a:lnTo>
                    <a:lnTo>
                      <a:pt x="0" y="24343"/>
                    </a:lnTo>
                    <a:close/>
                  </a:path>
                  <a:path fill="lightenLess" w="21600" h="24343">
                    <a:moveTo>
                      <a:pt x="0" y="0"/>
                    </a:moveTo>
                    <a:lnTo>
                      <a:pt x="21600" y="0"/>
                    </a:lnTo>
                    <a:lnTo>
                      <a:pt x="20200" y="1400"/>
                    </a:lnTo>
                    <a:lnTo>
                      <a:pt x="1400" y="1400"/>
                    </a:lnTo>
                    <a:close/>
                  </a:path>
                  <a:path fill="darken" w="21600" h="24343">
                    <a:moveTo>
                      <a:pt x="21600" y="0"/>
                    </a:moveTo>
                    <a:lnTo>
                      <a:pt x="21600" y="24343"/>
                    </a:lnTo>
                    <a:lnTo>
                      <a:pt x="20200" y="22943"/>
                    </a:lnTo>
                    <a:lnTo>
                      <a:pt x="20200" y="1400"/>
                    </a:lnTo>
                    <a:close/>
                  </a:path>
                  <a:path fill="darkenLess" w="21600" h="24343">
                    <a:moveTo>
                      <a:pt x="21600" y="24343"/>
                    </a:moveTo>
                    <a:lnTo>
                      <a:pt x="0" y="24343"/>
                    </a:lnTo>
                    <a:lnTo>
                      <a:pt x="1400" y="22943"/>
                    </a:lnTo>
                    <a:lnTo>
                      <a:pt x="20200" y="22943"/>
                    </a:lnTo>
                    <a:close/>
                  </a:path>
                  <a:path fill="lighten" w="21600" h="24343">
                    <a:moveTo>
                      <a:pt x="0" y="24343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2943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995520" y="3438720"/>
                <a:ext cx="66600" cy="101880"/>
              </a:xfrm>
              <a:prstGeom prst="rect">
                <a:avLst/>
              </a:prstGeom>
              <a:noFill/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7692840" y="4339440"/>
                <a:ext cx="1384560" cy="780840"/>
                <a:chOff x="7692840" y="4339440"/>
                <a:chExt cx="1384560" cy="78084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7692840" y="4339440"/>
                  <a:ext cx="1384560" cy="780840"/>
                </a:xfrm>
                <a:prstGeom prst="rect">
                  <a:avLst/>
                </a:prstGeom>
                <a:noFill/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Book Antiqua"/>
                  </a:endParaRPr>
                </a:p>
              </p:txBody>
            </p:sp>
            <p:pic>
              <p:nvPicPr>
                <p:cNvPr id="129" name="" descr=""/>
                <p:cNvPicPr/>
                <p:nvPr/>
              </p:nvPicPr>
              <p:blipFill>
                <a:blip r:embed="rId2"/>
                <a:srcRect l="0" t="6666" r="0" b="30003"/>
                <a:stretch/>
              </p:blipFill>
              <p:spPr>
                <a:xfrm>
                  <a:off x="7760880" y="4453920"/>
                  <a:ext cx="438120" cy="571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" name=""/>
                <p:cNvSpPr/>
                <p:nvPr/>
              </p:nvSpPr>
              <p:spPr>
                <a:xfrm>
                  <a:off x="8253720" y="4661280"/>
                  <a:ext cx="220320" cy="0"/>
                </a:xfrm>
                <a:prstGeom prst="line">
                  <a:avLst/>
                </a:prstGeom>
                <a:ln w="9360">
                  <a:solidFill>
                    <a:srgbClr val="ff99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Book Antiqua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 flipH="1">
                  <a:off x="8236800" y="4761000"/>
                  <a:ext cx="219600" cy="0"/>
                </a:xfrm>
                <a:prstGeom prst="line">
                  <a:avLst/>
                </a:prstGeom>
                <a:ln w="9360">
                  <a:solidFill>
                    <a:srgbClr val="ff99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Book Antiqua"/>
                  </a:endParaRPr>
                </a:p>
              </p:txBody>
            </p:sp>
            <p:pic>
              <p:nvPicPr>
                <p:cNvPr id="132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513280" y="4417200"/>
                  <a:ext cx="504000" cy="6868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33" name=""/>
              <p:cNvSpPr/>
              <p:nvPr/>
            </p:nvSpPr>
            <p:spPr>
              <a:xfrm>
                <a:off x="6938640" y="3894840"/>
                <a:ext cx="66600" cy="102960"/>
              </a:xfrm>
              <a:prstGeom prst="rect">
                <a:avLst/>
              </a:prstGeom>
              <a:noFill/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915600" y="4355280"/>
                <a:ext cx="66600" cy="102960"/>
              </a:xfrm>
              <a:prstGeom prst="rect">
                <a:avLst/>
              </a:prstGeom>
              <a:noFill/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024680" y="2931120"/>
                <a:ext cx="66240" cy="102960"/>
              </a:xfrm>
              <a:prstGeom prst="rect">
                <a:avLst/>
              </a:prstGeom>
              <a:noFill/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145640" y="4895640"/>
                <a:ext cx="66600" cy="101880"/>
              </a:xfrm>
              <a:prstGeom prst="rect">
                <a:avLst/>
              </a:prstGeom>
              <a:noFill/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991920" y="3935880"/>
                <a:ext cx="713880" cy="769320"/>
              </a:xfrm>
              <a:prstGeom prst="line">
                <a:avLst/>
              </a:prstGeom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049520" y="3480840"/>
                <a:ext cx="649440" cy="1210680"/>
              </a:xfrm>
              <a:prstGeom prst="line">
                <a:avLst/>
              </a:prstGeom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980400" y="4402800"/>
                <a:ext cx="701640" cy="280440"/>
              </a:xfrm>
              <a:prstGeom prst="line">
                <a:avLst/>
              </a:prstGeom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203240" y="2603160"/>
                <a:ext cx="494640" cy="2087280"/>
              </a:xfrm>
              <a:prstGeom prst="line">
                <a:avLst/>
              </a:prstGeom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V="1">
                <a:off x="7215840" y="4691520"/>
                <a:ext cx="477720" cy="260280"/>
              </a:xfrm>
              <a:prstGeom prst="line">
                <a:avLst/>
              </a:prstGeom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142040" y="2040120"/>
                <a:ext cx="66600" cy="101880"/>
              </a:xfrm>
              <a:prstGeom prst="rect">
                <a:avLst/>
              </a:prstGeom>
              <a:noFill/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140240" y="2550600"/>
                <a:ext cx="66600" cy="101880"/>
              </a:xfrm>
              <a:prstGeom prst="rect">
                <a:avLst/>
              </a:prstGeom>
              <a:noFill/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080840" y="2975040"/>
                <a:ext cx="618120" cy="1716480"/>
              </a:xfrm>
              <a:prstGeom prst="line">
                <a:avLst/>
              </a:prstGeom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035560" y="3302280"/>
                <a:ext cx="574560" cy="205920"/>
              </a:xfrm>
              <a:custGeom>
                <a:avLst/>
                <a:gdLst>
                  <a:gd name="textAreaLeft" fmla="*/ 13320 w 574560"/>
                  <a:gd name="textAreaRight" fmla="*/ 561240 w 574560"/>
                  <a:gd name="textAreaTop" fmla="*/ 13320 h 205920"/>
                  <a:gd name="textAreaBottom" fmla="*/ 192600 h 205920"/>
                </a:gdLst>
                <a:ahLst/>
                <a:rect l="textAreaLeft" t="textAreaTop" r="textAreaRight" b="textAreaBottom"/>
                <a:pathLst>
                  <a:path w="60201" h="21600">
                    <a:moveTo>
                      <a:pt x="0" y="0"/>
                    </a:moveTo>
                    <a:lnTo>
                      <a:pt x="60201" y="0"/>
                    </a:lnTo>
                    <a:lnTo>
                      <a:pt x="60201" y="21600"/>
                    </a:lnTo>
                    <a:lnTo>
                      <a:pt x="0" y="21600"/>
                    </a:lnTo>
                    <a:close/>
                  </a:path>
                  <a:path fill="lightenLess" w="60201" h="21600">
                    <a:moveTo>
                      <a:pt x="0" y="0"/>
                    </a:moveTo>
                    <a:lnTo>
                      <a:pt x="60201" y="0"/>
                    </a:lnTo>
                    <a:lnTo>
                      <a:pt x="58801" y="1400"/>
                    </a:lnTo>
                    <a:lnTo>
                      <a:pt x="1400" y="1400"/>
                    </a:lnTo>
                    <a:close/>
                  </a:path>
                  <a:path fill="darken" w="60201" h="21600">
                    <a:moveTo>
                      <a:pt x="60201" y="0"/>
                    </a:moveTo>
                    <a:lnTo>
                      <a:pt x="60201" y="21600"/>
                    </a:lnTo>
                    <a:lnTo>
                      <a:pt x="58801" y="20200"/>
                    </a:lnTo>
                    <a:lnTo>
                      <a:pt x="58801" y="1400"/>
                    </a:lnTo>
                    <a:close/>
                  </a:path>
                  <a:path fill="darkenLess" w="60201" h="21600">
                    <a:moveTo>
                      <a:pt x="60201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58801" y="20200"/>
                    </a:lnTo>
                    <a:close/>
                  </a:path>
                  <a:path fill="lighten" w="60201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200720" y="2091600"/>
                <a:ext cx="493920" cy="2587680"/>
              </a:xfrm>
              <a:prstGeom prst="line">
                <a:avLst/>
              </a:prstGeom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</p:grp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2124000" y="958680"/>
            <a:ext cx="5616720" cy="792000"/>
            <a:chOff x="2124000" y="958680"/>
            <a:chExt cx="5616720" cy="792000"/>
          </a:xfrm>
        </p:grpSpPr>
        <p:sp>
          <p:nvSpPr>
            <p:cNvPr id="148" name=""/>
            <p:cNvSpPr/>
            <p:nvPr/>
          </p:nvSpPr>
          <p:spPr>
            <a:xfrm>
              <a:off x="2124000" y="958680"/>
              <a:ext cx="5616720" cy="7920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32000" y="1103040"/>
              <a:ext cx="360072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100" spc="-1" strike="noStrike">
                  <a:solidFill>
                    <a:srgbClr val="000000"/>
                  </a:solidFill>
                  <a:latin typeface="Arial "/>
                </a:rPr>
                <a:t>Georeferenciación</a:t>
              </a:r>
              <a:endParaRPr b="0" lang="en-US" sz="21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203040" y="1859040"/>
            <a:ext cx="2160720" cy="426276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 "/>
              </a:rPr>
              <a:t>Permite seleccionar: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ff9933"/>
              </a:buClr>
              <a:buFont typeface="Arial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 "/>
              </a:rPr>
              <a:t>  </a:t>
            </a:r>
            <a:r>
              <a:rPr b="0" lang="es-ES_tradnl" sz="1700" spc="-1" strike="noStrike">
                <a:solidFill>
                  <a:srgbClr val="000000"/>
                </a:solidFill>
                <a:latin typeface="Arial "/>
              </a:rPr>
              <a:t>Puntos de referencia y nuevos clientes 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ff9933"/>
              </a:buClr>
              <a:buFont typeface="Arial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 "/>
              </a:rPr>
              <a:t>  </a:t>
            </a:r>
            <a:r>
              <a:rPr b="0" lang="es-ES_tradnl" sz="1700" spc="-1" strike="noStrike">
                <a:solidFill>
                  <a:srgbClr val="000000"/>
                </a:solidFill>
                <a:latin typeface="Arial "/>
              </a:rPr>
              <a:t>Tipo de clientes a visitar: en Campaña o Morosos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ff9933"/>
              </a:buClr>
              <a:buFont typeface="Arial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 "/>
              </a:rPr>
              <a:t>  </a:t>
            </a:r>
            <a:r>
              <a:rPr b="0" lang="es-ES_tradnl" sz="1700" spc="-1" strike="noStrike">
                <a:solidFill>
                  <a:srgbClr val="000000"/>
                </a:solidFill>
                <a:latin typeface="Arial "/>
              </a:rPr>
              <a:t>Cartera de Clientes de una Sucursal 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ff9933"/>
              </a:buClr>
              <a:buFont typeface="Arial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 "/>
              </a:rPr>
              <a:t>  </a:t>
            </a:r>
            <a:r>
              <a:rPr b="0" lang="es-ES_tradnl" sz="1700" spc="-1" strike="noStrike">
                <a:solidFill>
                  <a:srgbClr val="000000"/>
                </a:solidFill>
                <a:latin typeface="Arial "/>
              </a:rPr>
              <a:t>Cartera de clientes de un ejecutivo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1" name=""/>
          <p:cNvSpPr/>
          <p:nvPr/>
        </p:nvSpPr>
        <p:spPr>
          <a:xfrm>
            <a:off x="2411280" y="3284640"/>
            <a:ext cx="936720" cy="2016000"/>
          </a:xfrm>
          <a:prstGeom prst="rightArrow">
            <a:avLst>
              <a:gd name="adj1" fmla="val 73139"/>
              <a:gd name="adj2" fmla="val 27310"/>
            </a:avLst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492360" y="1716120"/>
            <a:ext cx="2808360" cy="4665600"/>
            <a:chOff x="3492360" y="1716120"/>
            <a:chExt cx="2808360" cy="4665600"/>
          </a:xfrm>
        </p:grpSpPr>
        <p:pic>
          <p:nvPicPr>
            <p:cNvPr id="153" name="" descr=""/>
            <p:cNvPicPr/>
            <p:nvPr/>
          </p:nvPicPr>
          <p:blipFill>
            <a:blip r:embed="rId1"/>
            <a:stretch/>
          </p:blipFill>
          <p:spPr>
            <a:xfrm>
              <a:off x="3492360" y="5054760"/>
              <a:ext cx="2808360" cy="13269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54" name=""/>
            <p:cNvGraphicFramePr/>
            <p:nvPr/>
          </p:nvGraphicFramePr>
          <p:xfrm>
            <a:off x="3492360" y="1716120"/>
            <a:ext cx="2808360" cy="2760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5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492360" y="1716120"/>
                      <a:ext cx="2808360" cy="276084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156" name=""/>
          <p:cNvSpPr/>
          <p:nvPr/>
        </p:nvSpPr>
        <p:spPr>
          <a:xfrm>
            <a:off x="6588000" y="3141720"/>
            <a:ext cx="2305080" cy="965160"/>
          </a:xfrm>
          <a:prstGeom prst="wedgeRectCallout">
            <a:avLst>
              <a:gd name="adj1" fmla="val -116666"/>
              <a:gd name="adj2" fmla="val -25657"/>
            </a:avLst>
          </a:prstGeom>
          <a:noFill/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"/>
              </a:rPr>
              <a:t>Muestra los clientes que se ubican cerca de la dirección consultada en el mapa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7" name=""/>
          <p:cNvSpPr/>
          <p:nvPr/>
        </p:nvSpPr>
        <p:spPr>
          <a:xfrm>
            <a:off x="6588000" y="5084640"/>
            <a:ext cx="2305080" cy="965160"/>
          </a:xfrm>
          <a:prstGeom prst="wedgeRectCallout">
            <a:avLst>
              <a:gd name="adj1" fmla="val -105648"/>
              <a:gd name="adj2" fmla="val 41777"/>
            </a:avLst>
          </a:prstGeom>
          <a:noFill/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"/>
              </a:rPr>
              <a:t>Muestra el detalle de los registros que se indican  en el mapa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8" name=""/>
          <p:cNvSpPr/>
          <p:nvPr/>
        </p:nvSpPr>
        <p:spPr>
          <a:xfrm>
            <a:off x="4192560" y="293760"/>
            <a:ext cx="46864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yectos Exitoso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4149720" y="2061720"/>
            <a:ext cx="4392720" cy="91692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"/>
              </a:rPr>
              <a:t>Dispositivo Móvil:</a:t>
            </a:r>
            <a:r>
              <a:rPr b="0" lang="es-ES_tradnl" sz="1800" spc="-1" strike="noStrike">
                <a:solidFill>
                  <a:srgbClr val="000000"/>
                </a:solidFill>
                <a:latin typeface="Arial "/>
              </a:rPr>
              <a:t> equipo similar al Laptop o Notebook, más pequeño y fácil de transportar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0" name=""/>
          <p:cNvSpPr/>
          <p:nvPr/>
        </p:nvSpPr>
        <p:spPr>
          <a:xfrm>
            <a:off x="271440" y="4512240"/>
            <a:ext cx="4537080" cy="160848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"/>
              </a:rPr>
              <a:t>Utilización en Proceso de Venta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"/>
              </a:rPr>
              <a:t>Permite mejorar gestión al ejecutivo en visitas a clientes (aprovechamiento del tiempo, ingreso y envío de información al P.C.)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240160" y="3459240"/>
            <a:ext cx="3240000" cy="2518920"/>
            <a:chOff x="5240160" y="3459240"/>
            <a:chExt cx="3240000" cy="2518920"/>
          </a:xfrm>
        </p:grpSpPr>
        <p:pic>
          <p:nvPicPr>
            <p:cNvPr id="162" name="" descr=""/>
            <p:cNvPicPr/>
            <p:nvPr/>
          </p:nvPicPr>
          <p:blipFill>
            <a:blip r:embed="rId1"/>
            <a:stretch/>
          </p:blipFill>
          <p:spPr>
            <a:xfrm>
              <a:off x="5240160" y="3459240"/>
              <a:ext cx="6620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2"/>
            <a:stretch/>
          </p:blipFill>
          <p:spPr>
            <a:xfrm>
              <a:off x="6325920" y="4079520"/>
              <a:ext cx="807120" cy="9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" descr=""/>
            <p:cNvPicPr/>
            <p:nvPr/>
          </p:nvPicPr>
          <p:blipFill>
            <a:blip r:embed="rId3"/>
            <a:stretch/>
          </p:blipFill>
          <p:spPr>
            <a:xfrm>
              <a:off x="7101720" y="5319720"/>
              <a:ext cx="496800" cy="46476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sp>
          <p:nvSpPr>
            <p:cNvPr id="165" name=""/>
            <p:cNvSpPr/>
            <p:nvPr/>
          </p:nvSpPr>
          <p:spPr>
            <a:xfrm rot="2947200">
              <a:off x="6287760" y="3760920"/>
              <a:ext cx="387000" cy="248400"/>
            </a:xfrm>
            <a:custGeom>
              <a:avLst/>
              <a:gdLst>
                <a:gd name="textAreaLeft" fmla="*/ 0 w 387000"/>
                <a:gd name="textAreaRight" fmla="*/ 387360 w 387000"/>
                <a:gd name="textAreaTop" fmla="*/ 0 h 248400"/>
                <a:gd name="textAreaBottom" fmla="*/ 248760 h 24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1" stAng="10800000" swAng="5400000"/>
                  <a:lnTo>
                    <a:pt x="12427" y="2899"/>
                  </a:lnTo>
                  <a:lnTo>
                    <a:pt x="12427" y="0"/>
                  </a:lnTo>
                  <a:lnTo>
                    <a:pt x="21600" y="6079"/>
                  </a:lnTo>
                  <a:lnTo>
                    <a:pt x="12427" y="12158"/>
                  </a:lnTo>
                  <a:lnTo>
                    <a:pt x="12427" y="9259"/>
                  </a:lnTo>
                  <a:lnTo>
                    <a:pt x="12427" y="9259"/>
                  </a:lnTo>
                  <a:arcTo wR="6067" hR="2901" stAng="16200000" swAng="-5400000"/>
                  <a:lnTo>
                    <a:pt x="6360" y="21600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pic>
          <p:nvPicPr>
            <p:cNvPr id="166" name="" descr=""/>
            <p:cNvPicPr/>
            <p:nvPr/>
          </p:nvPicPr>
          <p:blipFill>
            <a:blip r:embed="rId4"/>
            <a:stretch/>
          </p:blipFill>
          <p:spPr>
            <a:xfrm>
              <a:off x="7909200" y="5164920"/>
              <a:ext cx="570960" cy="81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 rot="2947200">
              <a:off x="7218000" y="4537080"/>
              <a:ext cx="387000" cy="248040"/>
            </a:xfrm>
            <a:custGeom>
              <a:avLst/>
              <a:gdLst>
                <a:gd name="textAreaLeft" fmla="*/ 0 w 387000"/>
                <a:gd name="textAreaRight" fmla="*/ 387360 w 387000"/>
                <a:gd name="textAreaTop" fmla="*/ 0 h 248040"/>
                <a:gd name="textAreaBottom" fmla="*/ 248400 h 24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1" stAng="10800000" swAng="5400000"/>
                  <a:lnTo>
                    <a:pt x="12427" y="2899"/>
                  </a:lnTo>
                  <a:lnTo>
                    <a:pt x="12427" y="0"/>
                  </a:lnTo>
                  <a:lnTo>
                    <a:pt x="21600" y="6079"/>
                  </a:lnTo>
                  <a:lnTo>
                    <a:pt x="12427" y="12158"/>
                  </a:lnTo>
                  <a:lnTo>
                    <a:pt x="12427" y="9259"/>
                  </a:lnTo>
                  <a:lnTo>
                    <a:pt x="12427" y="9259"/>
                  </a:lnTo>
                  <a:arcTo wR="6067" hR="2901" stAng="16200000" swAng="-5400000"/>
                  <a:lnTo>
                    <a:pt x="6360" y="21600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660800" y="5436720"/>
              <a:ext cx="279000" cy="270720"/>
            </a:xfrm>
            <a:prstGeom prst="leftRightArrow">
              <a:avLst>
                <a:gd name="adj1" fmla="val 50000"/>
                <a:gd name="adj2" fmla="val 20516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746280" y="1876320"/>
            <a:ext cx="2592360" cy="19432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440160" y="2090880"/>
            <a:ext cx="504720" cy="863280"/>
          </a:xfrm>
          <a:prstGeom prst="rightArrow">
            <a:avLst>
              <a:gd name="adj1" fmla="val 73139"/>
              <a:gd name="adj2" fmla="val 27310"/>
            </a:avLst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1" name=""/>
          <p:cNvSpPr/>
          <p:nvPr/>
        </p:nvSpPr>
        <p:spPr>
          <a:xfrm rot="5400000">
            <a:off x="1730160" y="3728880"/>
            <a:ext cx="505080" cy="828720"/>
          </a:xfrm>
          <a:prstGeom prst="rightArrow">
            <a:avLst>
              <a:gd name="adj1" fmla="val 73139"/>
              <a:gd name="adj2" fmla="val 27310"/>
            </a:avLst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271440" y="1227240"/>
            <a:ext cx="3529080" cy="792000"/>
            <a:chOff x="271440" y="1227240"/>
            <a:chExt cx="3529080" cy="792000"/>
          </a:xfrm>
        </p:grpSpPr>
        <p:sp>
          <p:nvSpPr>
            <p:cNvPr id="173" name=""/>
            <p:cNvSpPr/>
            <p:nvPr/>
          </p:nvSpPr>
          <p:spPr>
            <a:xfrm>
              <a:off x="271440" y="1227240"/>
              <a:ext cx="3529080" cy="7920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1371600"/>
              <a:ext cx="32306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100" spc="-1" strike="noStrike">
                  <a:solidFill>
                    <a:srgbClr val="000000"/>
                  </a:solidFill>
                  <a:latin typeface="Arial "/>
                </a:rPr>
                <a:t>Dispositivo Móvil</a:t>
              </a:r>
              <a:endParaRPr b="0" lang="en-US" sz="21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4192560" y="293760"/>
            <a:ext cx="46864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yectos Exitoso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6" name=""/>
          <p:cNvSpPr/>
          <p:nvPr/>
        </p:nvSpPr>
        <p:spPr>
          <a:xfrm>
            <a:off x="8572680" y="6327720"/>
            <a:ext cx="287280" cy="238320"/>
          </a:xfrm>
          <a:custGeom>
            <a:avLst/>
            <a:gdLst>
              <a:gd name="textAreaLeft" fmla="*/ 15120 w 287280"/>
              <a:gd name="textAreaRight" fmla="*/ 272160 w 287280"/>
              <a:gd name="textAreaTop" fmla="*/ 15120 h 238320"/>
              <a:gd name="textAreaBottom" fmla="*/ 223200 h 238320"/>
            </a:gdLst>
            <a:ahLst/>
            <a:rect l="textAreaLeft" t="textAreaTop" r="textAreaRight" b="textAreaBottom"/>
            <a:pathLst>
              <a:path w="26031" h="21600">
                <a:moveTo>
                  <a:pt x="0" y="0"/>
                </a:moveTo>
                <a:lnTo>
                  <a:pt x="26031" y="0"/>
                </a:lnTo>
                <a:lnTo>
                  <a:pt x="26031" y="21600"/>
                </a:lnTo>
                <a:lnTo>
                  <a:pt x="0" y="21600"/>
                </a:lnTo>
                <a:close/>
              </a:path>
              <a:path fill="lightenLess" w="26031" h="21600">
                <a:moveTo>
                  <a:pt x="0" y="0"/>
                </a:moveTo>
                <a:lnTo>
                  <a:pt x="26031" y="0"/>
                </a:lnTo>
                <a:lnTo>
                  <a:pt x="24631" y="1400"/>
                </a:lnTo>
                <a:lnTo>
                  <a:pt x="1400" y="1400"/>
                </a:lnTo>
                <a:close/>
              </a:path>
              <a:path fill="darken" w="26031" h="21600">
                <a:moveTo>
                  <a:pt x="26031" y="0"/>
                </a:moveTo>
                <a:lnTo>
                  <a:pt x="26031" y="21600"/>
                </a:lnTo>
                <a:lnTo>
                  <a:pt x="24631" y="20200"/>
                </a:lnTo>
                <a:lnTo>
                  <a:pt x="24631" y="1400"/>
                </a:lnTo>
                <a:close/>
              </a:path>
              <a:path fill="darkenLess" w="26031" h="21600">
                <a:moveTo>
                  <a:pt x="260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31" y="20200"/>
                </a:lnTo>
                <a:close/>
              </a:path>
              <a:path fill="lighten" w="260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31" h="21600">
                <a:moveTo>
                  <a:pt x="6009" y="10800"/>
                </a:moveTo>
                <a:lnTo>
                  <a:pt x="20022" y="3794"/>
                </a:lnTo>
                <a:lnTo>
                  <a:pt x="20022" y="17806"/>
                </a:lnTo>
                <a:close/>
              </a:path>
            </a:pathLst>
          </a:cu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7" name=""/>
          <p:cNvSpPr/>
          <p:nvPr/>
        </p:nvSpPr>
        <p:spPr>
          <a:xfrm>
            <a:off x="7888320" y="6578640"/>
            <a:ext cx="1338120" cy="1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669900"/>
                </a:solidFill>
                <a:latin typeface="Arial"/>
              </a:rPr>
              <a:t>VOLVER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192560" y="293760"/>
            <a:ext cx="46864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uenos Resultado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9" name=""/>
          <p:cNvSpPr/>
          <p:nvPr/>
        </p:nvSpPr>
        <p:spPr>
          <a:xfrm>
            <a:off x="8572680" y="6327720"/>
            <a:ext cx="287280" cy="238320"/>
          </a:xfrm>
          <a:custGeom>
            <a:avLst/>
            <a:gdLst>
              <a:gd name="textAreaLeft" fmla="*/ 15120 w 287280"/>
              <a:gd name="textAreaRight" fmla="*/ 272160 w 287280"/>
              <a:gd name="textAreaTop" fmla="*/ 15120 h 238320"/>
              <a:gd name="textAreaBottom" fmla="*/ 223200 h 238320"/>
            </a:gdLst>
            <a:ahLst/>
            <a:rect l="textAreaLeft" t="textAreaTop" r="textAreaRight" b="textAreaBottom"/>
            <a:pathLst>
              <a:path w="26031" h="21600">
                <a:moveTo>
                  <a:pt x="0" y="0"/>
                </a:moveTo>
                <a:lnTo>
                  <a:pt x="26031" y="0"/>
                </a:lnTo>
                <a:lnTo>
                  <a:pt x="26031" y="21600"/>
                </a:lnTo>
                <a:lnTo>
                  <a:pt x="0" y="21600"/>
                </a:lnTo>
                <a:close/>
              </a:path>
              <a:path fill="lightenLess" w="26031" h="21600">
                <a:moveTo>
                  <a:pt x="0" y="0"/>
                </a:moveTo>
                <a:lnTo>
                  <a:pt x="26031" y="0"/>
                </a:lnTo>
                <a:lnTo>
                  <a:pt x="24631" y="1400"/>
                </a:lnTo>
                <a:lnTo>
                  <a:pt x="1400" y="1400"/>
                </a:lnTo>
                <a:close/>
              </a:path>
              <a:path fill="darken" w="26031" h="21600">
                <a:moveTo>
                  <a:pt x="26031" y="0"/>
                </a:moveTo>
                <a:lnTo>
                  <a:pt x="26031" y="21600"/>
                </a:lnTo>
                <a:lnTo>
                  <a:pt x="24631" y="20200"/>
                </a:lnTo>
                <a:lnTo>
                  <a:pt x="24631" y="1400"/>
                </a:lnTo>
                <a:close/>
              </a:path>
              <a:path fill="darkenLess" w="26031" h="21600">
                <a:moveTo>
                  <a:pt x="260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31" y="20200"/>
                </a:lnTo>
                <a:close/>
              </a:path>
              <a:path fill="lighten" w="260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31" h="21600">
                <a:moveTo>
                  <a:pt x="6009" y="10800"/>
                </a:moveTo>
                <a:lnTo>
                  <a:pt x="20022" y="3794"/>
                </a:lnTo>
                <a:lnTo>
                  <a:pt x="20022" y="17806"/>
                </a:lnTo>
                <a:close/>
              </a:path>
            </a:pathLst>
          </a:cu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0" name=""/>
          <p:cNvSpPr/>
          <p:nvPr/>
        </p:nvSpPr>
        <p:spPr>
          <a:xfrm>
            <a:off x="7888320" y="6578640"/>
            <a:ext cx="1338120" cy="1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669900"/>
                </a:solidFill>
                <a:latin typeface="Arial"/>
              </a:rPr>
              <a:t>VOLVER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76440" y="835200"/>
            <a:ext cx="7765920" cy="539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4192560" y="293760"/>
            <a:ext cx="46864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iesgo Controlado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3" name=""/>
          <p:cNvSpPr/>
          <p:nvPr/>
        </p:nvSpPr>
        <p:spPr>
          <a:xfrm>
            <a:off x="8572680" y="6327720"/>
            <a:ext cx="287280" cy="238320"/>
          </a:xfrm>
          <a:custGeom>
            <a:avLst/>
            <a:gdLst>
              <a:gd name="textAreaLeft" fmla="*/ 15120 w 287280"/>
              <a:gd name="textAreaRight" fmla="*/ 272160 w 287280"/>
              <a:gd name="textAreaTop" fmla="*/ 15120 h 238320"/>
              <a:gd name="textAreaBottom" fmla="*/ 223200 h 238320"/>
            </a:gdLst>
            <a:ahLst/>
            <a:rect l="textAreaLeft" t="textAreaTop" r="textAreaRight" b="textAreaBottom"/>
            <a:pathLst>
              <a:path w="26031" h="21600">
                <a:moveTo>
                  <a:pt x="0" y="0"/>
                </a:moveTo>
                <a:lnTo>
                  <a:pt x="26031" y="0"/>
                </a:lnTo>
                <a:lnTo>
                  <a:pt x="26031" y="21600"/>
                </a:lnTo>
                <a:lnTo>
                  <a:pt x="0" y="21600"/>
                </a:lnTo>
                <a:close/>
              </a:path>
              <a:path fill="lightenLess" w="26031" h="21600">
                <a:moveTo>
                  <a:pt x="0" y="0"/>
                </a:moveTo>
                <a:lnTo>
                  <a:pt x="26031" y="0"/>
                </a:lnTo>
                <a:lnTo>
                  <a:pt x="24631" y="1400"/>
                </a:lnTo>
                <a:lnTo>
                  <a:pt x="1400" y="1400"/>
                </a:lnTo>
                <a:close/>
              </a:path>
              <a:path fill="darken" w="26031" h="21600">
                <a:moveTo>
                  <a:pt x="26031" y="0"/>
                </a:moveTo>
                <a:lnTo>
                  <a:pt x="26031" y="21600"/>
                </a:lnTo>
                <a:lnTo>
                  <a:pt x="24631" y="20200"/>
                </a:lnTo>
                <a:lnTo>
                  <a:pt x="24631" y="1400"/>
                </a:lnTo>
                <a:close/>
              </a:path>
              <a:path fill="darkenLess" w="26031" h="21600">
                <a:moveTo>
                  <a:pt x="260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31" y="20200"/>
                </a:lnTo>
                <a:close/>
              </a:path>
              <a:path fill="lighten" w="260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31" h="21600">
                <a:moveTo>
                  <a:pt x="6009" y="10800"/>
                </a:moveTo>
                <a:lnTo>
                  <a:pt x="20022" y="3794"/>
                </a:lnTo>
                <a:lnTo>
                  <a:pt x="20022" y="17806"/>
                </a:lnTo>
                <a:close/>
              </a:path>
            </a:pathLst>
          </a:cu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4" name=""/>
          <p:cNvSpPr/>
          <p:nvPr/>
        </p:nvSpPr>
        <p:spPr>
          <a:xfrm>
            <a:off x="7888320" y="6578640"/>
            <a:ext cx="1338120" cy="1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669900"/>
                </a:solidFill>
                <a:latin typeface="Arial"/>
              </a:rPr>
              <a:t>VOLVER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96960" y="835200"/>
            <a:ext cx="7765920" cy="53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944280" y="1234800"/>
            <a:ext cx="720396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84320" indent="0" algn="ctr">
              <a:lnSpc>
                <a:spcPct val="15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0000"/>
                </a:solidFill>
                <a:latin typeface="Arial"/>
              </a:rPr>
              <a:t>Agend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4320" indent="-722520">
              <a:lnSpc>
                <a:spcPct val="150000"/>
              </a:lnSpc>
              <a:spcBef>
                <a:spcPts val="700"/>
              </a:spcBef>
              <a:spcAft>
                <a:spcPts val="700"/>
              </a:spcAft>
              <a:buClr>
                <a:srgbClr val="cc3300"/>
              </a:buClr>
              <a:buSzPct val="80000"/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ceso de Modern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4320" indent="-722520">
              <a:lnSpc>
                <a:spcPct val="150000"/>
              </a:lnSpc>
              <a:spcBef>
                <a:spcPts val="700"/>
              </a:spcBef>
              <a:spcAft>
                <a:spcPts val="700"/>
              </a:spcAft>
              <a:buClr>
                <a:srgbClr val="cc3300"/>
              </a:buClr>
              <a:buSzPct val="80000"/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gros Relev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4320" indent="-722520">
              <a:lnSpc>
                <a:spcPct val="150000"/>
              </a:lnSpc>
              <a:spcBef>
                <a:spcPts val="700"/>
              </a:spcBef>
              <a:spcAft>
                <a:spcPts val="700"/>
              </a:spcAft>
              <a:buClr>
                <a:srgbClr val="cc3300"/>
              </a:buClr>
              <a:buSzPct val="80000"/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afíos 2007 -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4320" indent="0">
              <a:lnSpc>
                <a:spcPct val="15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010960" y="1143000"/>
            <a:ext cx="99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-17640" y="910800"/>
            <a:ext cx="8536320" cy="53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75880" indent="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Situación Inicial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(inicios 90’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75880" indent="-52128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traso relativo acumulado (tecnológico, procesos, RR.HH., pérdida de mercado en segmentos rentabl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75880" indent="-52128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ambio en calidad y fortaleza de la competencia (irrupción banca española, fusio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75880" indent="-52128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Fuerte contracción de ingresos tradicion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75880" indent="0">
              <a:lnSpc>
                <a:spcPct val="100000"/>
              </a:lnSpc>
              <a:spcBef>
                <a:spcPts val="16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Obstácul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75880" indent="-52128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Modernización requiere aumentar gastos e invers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75880" indent="-52128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scasa información de gest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75880" indent="-52128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Ausencia de cultura de resultados, de ventas y de cos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75880" indent="-52128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Resistencia interna al camb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75880" indent="-52128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Resistencia externa al camb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127160" y="294840"/>
            <a:ext cx="7772400" cy="3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ceso de Modernizació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27160" y="294840"/>
            <a:ext cx="7772400" cy="3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ceso de Modernizació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15880" y="1018800"/>
            <a:ext cx="8266320" cy="59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Desafíos/Grandes Proyect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925"/>
              </a:spcBef>
              <a:spcAft>
                <a:spcPts val="550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ª Etapa /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Operaciones, Gest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8680" indent="-501480">
              <a:lnSpc>
                <a:spcPct val="70000"/>
              </a:lnSpc>
              <a:spcBef>
                <a:spcPts val="550"/>
              </a:spcBef>
              <a:spcAft>
                <a:spcPts val="550"/>
              </a:spcAft>
              <a:buClr>
                <a:srgbClr val="ff99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Racionalizar y automatizar procesos (disminuir costos; calidad servici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8680" indent="-501480">
              <a:lnSpc>
                <a:spcPct val="70000"/>
              </a:lnSpc>
              <a:spcBef>
                <a:spcPts val="550"/>
              </a:spcBef>
              <a:spcAft>
                <a:spcPts val="550"/>
              </a:spcAft>
              <a:buClr>
                <a:srgbClr val="ff99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ontrol de costos, sistemas de inform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925"/>
              </a:spcBef>
              <a:spcAft>
                <a:spcPts val="550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ª Etapa /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RR.H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8680" indent="-501480">
              <a:lnSpc>
                <a:spcPct val="70000"/>
              </a:lnSpc>
              <a:spcBef>
                <a:spcPts val="550"/>
              </a:spcBef>
              <a:spcAft>
                <a:spcPts val="550"/>
              </a:spcAft>
              <a:buClr>
                <a:srgbClr val="ff99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Visión común administración / trabajad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8680" indent="-501480">
              <a:lnSpc>
                <a:spcPct val="70000"/>
              </a:lnSpc>
              <a:spcBef>
                <a:spcPts val="550"/>
              </a:spcBef>
              <a:spcAft>
                <a:spcPts val="550"/>
              </a:spcAft>
              <a:buClr>
                <a:srgbClr val="ff99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levar calificación del personal; capacit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8680" indent="-501480">
              <a:lnSpc>
                <a:spcPct val="70000"/>
              </a:lnSpc>
              <a:spcBef>
                <a:spcPts val="550"/>
              </a:spcBef>
              <a:spcAft>
                <a:spcPts val="550"/>
              </a:spcAft>
              <a:buClr>
                <a:srgbClr val="ff99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istemas evaluación de desempeño, renta al carg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925"/>
              </a:spcBef>
              <a:spcAft>
                <a:spcPts val="550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ª Etapa /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Ámbito Comercial, Gest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8680" indent="-501480">
              <a:lnSpc>
                <a:spcPct val="70000"/>
              </a:lnSpc>
              <a:spcBef>
                <a:spcPts val="550"/>
              </a:spcBef>
              <a:spcAft>
                <a:spcPts val="550"/>
              </a:spcAft>
              <a:buClr>
                <a:srgbClr val="ff99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strategia orientada al cliente, segmentación; cruce de producto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8680" indent="-501480">
              <a:lnSpc>
                <a:spcPct val="70000"/>
              </a:lnSpc>
              <a:spcBef>
                <a:spcPts val="550"/>
              </a:spcBef>
              <a:spcAft>
                <a:spcPts val="550"/>
              </a:spcAft>
              <a:buClr>
                <a:srgbClr val="ff99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Gestión eficiente del riesg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8680" indent="-501480">
              <a:lnSpc>
                <a:spcPct val="70000"/>
              </a:lnSpc>
              <a:spcBef>
                <a:spcPts val="550"/>
              </a:spcBef>
              <a:spcAft>
                <a:spcPts val="550"/>
              </a:spcAft>
              <a:buClr>
                <a:srgbClr val="ff99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lanificación y control: BSC, Plan 2007-2010 (lineamientos, objetivos, proyectos)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13080" y="293760"/>
            <a:ext cx="468648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ogros Relevant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6240" y="1033560"/>
            <a:ext cx="8174160" cy="55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0">
              <a:lnSpc>
                <a:spcPct val="7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ancarización / Impacto soc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anco con mayor N° de cl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d de distribución más extensa, Banca a Dista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ductos masivos: seguros, MyPES, medios de pago, Cuenta RUT, CajaVec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yectos exitosos, dos ejempl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2858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ff99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ja Vecin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2858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ff99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icroempresas, plataforma tecnológic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6040" indent="0">
              <a:lnSpc>
                <a:spcPct val="70000"/>
              </a:lnSpc>
              <a:spcBef>
                <a:spcPts val="1800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fianza y Solv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ntabilidad positiva y similar al sistema históricamente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porte al Fisco 1990-2006:  aproximadamente US $ 1.500 millo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peración de abrupta disminución de ingresos CU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ejor calificación internacional de riesgo en Latinoamérica y Chile. Localmente, índice de riesgo similar al sistem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743280" y="3154320"/>
            <a:ext cx="306360" cy="238320"/>
          </a:xfrm>
          <a:custGeom>
            <a:avLst/>
            <a:gdLst>
              <a:gd name="textAreaLeft" fmla="*/ 15120 w 306360"/>
              <a:gd name="textAreaRight" fmla="*/ 291240 w 306360"/>
              <a:gd name="textAreaTop" fmla="*/ 15120 h 238320"/>
              <a:gd name="textAreaBottom" fmla="*/ 223200 h 238320"/>
            </a:gdLst>
            <a:ahLst/>
            <a:rect l="textAreaLeft" t="textAreaTop" r="textAreaRight" b="textAreaBottom"/>
            <a:pathLst>
              <a:path w="27757" h="21600">
                <a:moveTo>
                  <a:pt x="0" y="0"/>
                </a:moveTo>
                <a:lnTo>
                  <a:pt x="27757" y="0"/>
                </a:lnTo>
                <a:lnTo>
                  <a:pt x="27757" y="21600"/>
                </a:lnTo>
                <a:lnTo>
                  <a:pt x="0" y="21600"/>
                </a:lnTo>
                <a:close/>
              </a:path>
              <a:path fill="lightenLess" w="27757" h="21600">
                <a:moveTo>
                  <a:pt x="0" y="0"/>
                </a:moveTo>
                <a:lnTo>
                  <a:pt x="27757" y="0"/>
                </a:lnTo>
                <a:lnTo>
                  <a:pt x="26357" y="1400"/>
                </a:lnTo>
                <a:lnTo>
                  <a:pt x="1400" y="1400"/>
                </a:lnTo>
                <a:close/>
              </a:path>
              <a:path fill="darken" w="27757" h="21600">
                <a:moveTo>
                  <a:pt x="27757" y="0"/>
                </a:moveTo>
                <a:lnTo>
                  <a:pt x="27757" y="21600"/>
                </a:lnTo>
                <a:lnTo>
                  <a:pt x="26357" y="20200"/>
                </a:lnTo>
                <a:lnTo>
                  <a:pt x="26357" y="1400"/>
                </a:lnTo>
                <a:close/>
              </a:path>
              <a:path fill="darkenLess" w="27757" h="21600">
                <a:moveTo>
                  <a:pt x="277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57" y="20200"/>
                </a:lnTo>
                <a:close/>
              </a:path>
              <a:path fill="lighten" w="277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57" h="21600">
                <a:moveTo>
                  <a:pt x="6872" y="3794"/>
                </a:moveTo>
                <a:lnTo>
                  <a:pt x="20885" y="10800"/>
                </a:lnTo>
                <a:lnTo>
                  <a:pt x="6872" y="17806"/>
                </a:lnTo>
                <a:close/>
              </a:path>
            </a:pathLst>
          </a:cu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2" name=""/>
          <p:cNvSpPr/>
          <p:nvPr/>
        </p:nvSpPr>
        <p:spPr>
          <a:xfrm>
            <a:off x="6465960" y="3495600"/>
            <a:ext cx="306360" cy="238320"/>
          </a:xfrm>
          <a:custGeom>
            <a:avLst/>
            <a:gdLst>
              <a:gd name="textAreaLeft" fmla="*/ 15120 w 306360"/>
              <a:gd name="textAreaRight" fmla="*/ 291240 w 306360"/>
              <a:gd name="textAreaTop" fmla="*/ 15120 h 238320"/>
              <a:gd name="textAreaBottom" fmla="*/ 223200 h 238320"/>
            </a:gdLst>
            <a:ahLst/>
            <a:rect l="textAreaLeft" t="textAreaTop" r="textAreaRight" b="textAreaBottom"/>
            <a:pathLst>
              <a:path w="27757" h="21600">
                <a:moveTo>
                  <a:pt x="0" y="0"/>
                </a:moveTo>
                <a:lnTo>
                  <a:pt x="27757" y="0"/>
                </a:lnTo>
                <a:lnTo>
                  <a:pt x="27757" y="21600"/>
                </a:lnTo>
                <a:lnTo>
                  <a:pt x="0" y="21600"/>
                </a:lnTo>
                <a:close/>
              </a:path>
              <a:path fill="lightenLess" w="27757" h="21600">
                <a:moveTo>
                  <a:pt x="0" y="0"/>
                </a:moveTo>
                <a:lnTo>
                  <a:pt x="27757" y="0"/>
                </a:lnTo>
                <a:lnTo>
                  <a:pt x="26357" y="1400"/>
                </a:lnTo>
                <a:lnTo>
                  <a:pt x="1400" y="1400"/>
                </a:lnTo>
                <a:close/>
              </a:path>
              <a:path fill="darken" w="27757" h="21600">
                <a:moveTo>
                  <a:pt x="27757" y="0"/>
                </a:moveTo>
                <a:lnTo>
                  <a:pt x="27757" y="21600"/>
                </a:lnTo>
                <a:lnTo>
                  <a:pt x="26357" y="20200"/>
                </a:lnTo>
                <a:lnTo>
                  <a:pt x="26357" y="1400"/>
                </a:lnTo>
                <a:close/>
              </a:path>
              <a:path fill="darkenLess" w="27757" h="21600">
                <a:moveTo>
                  <a:pt x="277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57" y="20200"/>
                </a:lnTo>
                <a:close/>
              </a:path>
              <a:path fill="lighten" w="277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57" h="21600">
                <a:moveTo>
                  <a:pt x="6872" y="3794"/>
                </a:moveTo>
                <a:lnTo>
                  <a:pt x="20885" y="10800"/>
                </a:lnTo>
                <a:lnTo>
                  <a:pt x="6872" y="17806"/>
                </a:lnTo>
                <a:close/>
              </a:path>
            </a:pathLst>
          </a:cu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3" name=""/>
          <p:cNvSpPr/>
          <p:nvPr/>
        </p:nvSpPr>
        <p:spPr>
          <a:xfrm>
            <a:off x="8282160" y="4421160"/>
            <a:ext cx="306360" cy="238320"/>
          </a:xfrm>
          <a:custGeom>
            <a:avLst/>
            <a:gdLst>
              <a:gd name="textAreaLeft" fmla="*/ 15120 w 306360"/>
              <a:gd name="textAreaRight" fmla="*/ 291240 w 306360"/>
              <a:gd name="textAreaTop" fmla="*/ 15120 h 238320"/>
              <a:gd name="textAreaBottom" fmla="*/ 223200 h 238320"/>
            </a:gdLst>
            <a:ahLst/>
            <a:rect l="textAreaLeft" t="textAreaTop" r="textAreaRight" b="textAreaBottom"/>
            <a:pathLst>
              <a:path w="27757" h="21600">
                <a:moveTo>
                  <a:pt x="0" y="0"/>
                </a:moveTo>
                <a:lnTo>
                  <a:pt x="27757" y="0"/>
                </a:lnTo>
                <a:lnTo>
                  <a:pt x="27757" y="21600"/>
                </a:lnTo>
                <a:lnTo>
                  <a:pt x="0" y="21600"/>
                </a:lnTo>
                <a:close/>
              </a:path>
              <a:path fill="lightenLess" w="27757" h="21600">
                <a:moveTo>
                  <a:pt x="0" y="0"/>
                </a:moveTo>
                <a:lnTo>
                  <a:pt x="27757" y="0"/>
                </a:lnTo>
                <a:lnTo>
                  <a:pt x="26357" y="1400"/>
                </a:lnTo>
                <a:lnTo>
                  <a:pt x="1400" y="1400"/>
                </a:lnTo>
                <a:close/>
              </a:path>
              <a:path fill="darken" w="27757" h="21600">
                <a:moveTo>
                  <a:pt x="27757" y="0"/>
                </a:moveTo>
                <a:lnTo>
                  <a:pt x="27757" y="21600"/>
                </a:lnTo>
                <a:lnTo>
                  <a:pt x="26357" y="20200"/>
                </a:lnTo>
                <a:lnTo>
                  <a:pt x="26357" y="1400"/>
                </a:lnTo>
                <a:close/>
              </a:path>
              <a:path fill="darkenLess" w="27757" h="21600">
                <a:moveTo>
                  <a:pt x="277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57" y="20200"/>
                </a:lnTo>
                <a:close/>
              </a:path>
              <a:path fill="lighten" w="277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57" h="21600">
                <a:moveTo>
                  <a:pt x="6872" y="3794"/>
                </a:moveTo>
                <a:lnTo>
                  <a:pt x="20885" y="10800"/>
                </a:lnTo>
                <a:lnTo>
                  <a:pt x="6872" y="17806"/>
                </a:lnTo>
                <a:close/>
              </a:path>
            </a:pathLst>
          </a:cu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4" name=""/>
          <p:cNvSpPr/>
          <p:nvPr/>
        </p:nvSpPr>
        <p:spPr>
          <a:xfrm>
            <a:off x="7385040" y="6035760"/>
            <a:ext cx="306360" cy="237960"/>
          </a:xfrm>
          <a:custGeom>
            <a:avLst/>
            <a:gdLst>
              <a:gd name="textAreaLeft" fmla="*/ 15120 w 306360"/>
              <a:gd name="textAreaRight" fmla="*/ 291240 w 306360"/>
              <a:gd name="textAreaTop" fmla="*/ 15120 h 237960"/>
              <a:gd name="textAreaBottom" fmla="*/ 222840 h 237960"/>
            </a:gdLst>
            <a:ahLst/>
            <a:rect l="textAreaLeft" t="textAreaTop" r="textAreaRight" b="textAreaBottom"/>
            <a:pathLst>
              <a:path w="27799" h="21600">
                <a:moveTo>
                  <a:pt x="0" y="0"/>
                </a:moveTo>
                <a:lnTo>
                  <a:pt x="27799" y="0"/>
                </a:lnTo>
                <a:lnTo>
                  <a:pt x="27799" y="21600"/>
                </a:lnTo>
                <a:lnTo>
                  <a:pt x="0" y="21600"/>
                </a:lnTo>
                <a:close/>
              </a:path>
              <a:path fill="lightenLess" w="27799" h="21600">
                <a:moveTo>
                  <a:pt x="0" y="0"/>
                </a:moveTo>
                <a:lnTo>
                  <a:pt x="27799" y="0"/>
                </a:lnTo>
                <a:lnTo>
                  <a:pt x="26399" y="1400"/>
                </a:lnTo>
                <a:lnTo>
                  <a:pt x="1400" y="1400"/>
                </a:lnTo>
                <a:close/>
              </a:path>
              <a:path fill="darken" w="27799" h="21600">
                <a:moveTo>
                  <a:pt x="27799" y="0"/>
                </a:moveTo>
                <a:lnTo>
                  <a:pt x="27799" y="21600"/>
                </a:lnTo>
                <a:lnTo>
                  <a:pt x="26399" y="20200"/>
                </a:lnTo>
                <a:lnTo>
                  <a:pt x="26399" y="1400"/>
                </a:lnTo>
                <a:close/>
              </a:path>
              <a:path fill="darkenLess" w="27799" h="21600">
                <a:moveTo>
                  <a:pt x="27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9" y="20200"/>
                </a:lnTo>
                <a:close/>
              </a:path>
              <a:path fill="lighten" w="27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9" h="21600">
                <a:moveTo>
                  <a:pt x="6893" y="3794"/>
                </a:moveTo>
                <a:lnTo>
                  <a:pt x="20906" y="10800"/>
                </a:lnTo>
                <a:lnTo>
                  <a:pt x="6893" y="17806"/>
                </a:lnTo>
                <a:close/>
              </a:path>
            </a:pathLst>
          </a:cu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65280" y="974520"/>
            <a:ext cx="8076960" cy="58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odernización / Rentabilizar 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Operación más rápida y eficiente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: mejor atención al cliente, menores cos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119240" indent="-49392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99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Banca a Distancia  (Internet, Centro Contact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119240" indent="-49392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99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utomatización de transaccion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119240" indent="-49392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99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entralización procesos operativ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119240" indent="-49392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99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istema de Información de Gest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700280" indent="-266760">
              <a:lnSpc>
                <a:spcPct val="90000"/>
              </a:lnSpc>
              <a:spcAft>
                <a:spcPts val="499"/>
              </a:spcAft>
              <a:buClr>
                <a:srgbClr val="99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tribución financiera de diversas unidades de   nego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Nuevo posicionamiento del banco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, mayor competitiv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119240" indent="-49392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99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ambio de imagen, campañas de marke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119240" indent="-49392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99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Oferta de valor por segmentos de clie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Alianza Estratég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Proyectos transvers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213080" y="293760"/>
            <a:ext cx="468648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ogros Relevant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95600" y="281160"/>
            <a:ext cx="539136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safíos 2007-2010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29920" y="900000"/>
            <a:ext cx="8218440" cy="57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Plan Estratég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cc3300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rientaciones Básic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ancarizar a los chilenos; ser cada día más eficientes; aportar al desarrollo del país, ser de clase mund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cc3300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e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6836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ff9900"/>
              </a:buClr>
              <a:buSzPct val="50000"/>
              <a:buFont typeface="Wingdings" charset="2"/>
              <a:buChar char="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ancarizar: 3 millones de tarjetas Cuenta Rut; duplicar tarjetas de crédito y débito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6836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ff9900"/>
              </a:buClr>
              <a:buSzPct val="50000"/>
              <a:buFont typeface="Wingdings" charset="2"/>
              <a:buChar char="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mover emprendimiento: superar 390 mil clientes microempresarios; duplicar colocaciones pequeña e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6836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ff9900"/>
              </a:buClr>
              <a:buSzPct val="50000"/>
              <a:buFont typeface="Wingdings" charset="2"/>
              <a:buChar char="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d de Atención y Servicios: 2.500 nuevos puntos CajaVecina; 50 nuevas sucursales; 15 nuevas ServiEs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6836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ff9900"/>
              </a:buClr>
              <a:buSzPct val="50000"/>
              <a:buFont typeface="Wingdings" charset="2"/>
              <a:buChar char="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ejorar rentabilidad del negoc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cc3300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royectos transversales: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EO, Calidad, Inteligencia de Negocios, Herramientas de Gest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14280" y="5950080"/>
            <a:ext cx="3905280" cy="299880"/>
          </a:xfrm>
          <a:prstGeom prst="rect">
            <a:avLst/>
          </a:prstGeom>
        </p:spPr>
        <p:txBody>
          <a:bodyPr wrap="none" lIns="0" rIns="0" tIns="0" bIns="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Fin de la Presentació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24000" y="876240"/>
            <a:ext cx="8705880" cy="56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165960" indent="-165960">
              <a:lnSpc>
                <a:spcPct val="100000"/>
              </a:lnSpc>
              <a:spcBef>
                <a:spcPts val="414"/>
              </a:spcBef>
              <a:spcAft>
                <a:spcPts val="275"/>
              </a:spcAft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Caja Vecina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776160" indent="-258480">
              <a:lnSpc>
                <a:spcPct val="95000"/>
              </a:lnSpc>
              <a:spcBef>
                <a:spcPts val="414"/>
              </a:spcBef>
              <a:spcAft>
                <a:spcPts val="275"/>
              </a:spcAft>
              <a:buClr>
                <a:srgbClr val="cc3300"/>
              </a:buClr>
              <a:buSzPct val="70000"/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xtender red de distribución bancaria con un canal alternativo de bajo costo operacional 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776160" indent="-258480">
              <a:lnSpc>
                <a:spcPct val="95000"/>
              </a:lnSpc>
              <a:spcBef>
                <a:spcPts val="414"/>
              </a:spcBef>
              <a:spcAft>
                <a:spcPts val="275"/>
              </a:spcAft>
              <a:buClr>
                <a:srgbClr val="cc3300"/>
              </a:buClr>
              <a:buSzPct val="70000"/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rvicios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364040" indent="-221400">
              <a:lnSpc>
                <a:spcPct val="95000"/>
              </a:lnSpc>
              <a:spcBef>
                <a:spcPts val="414"/>
              </a:spcBef>
              <a:spcAft>
                <a:spcPts val="275"/>
              </a:spcAft>
              <a:buClr>
                <a:srgbClr val="ff9933"/>
              </a:buClr>
              <a:buSzPct val="50000"/>
              <a:buFont typeface="Wingdings" charset="2"/>
              <a:buChar char="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facilidades de caja y transacciones (depósitos, giros, pagos de servicios), por medio de un POS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776160" indent="-258480">
              <a:lnSpc>
                <a:spcPct val="95000"/>
              </a:lnSpc>
              <a:spcBef>
                <a:spcPts val="414"/>
              </a:spcBef>
              <a:spcAft>
                <a:spcPts val="275"/>
              </a:spcAft>
              <a:buClr>
                <a:srgbClr val="cc3300"/>
              </a:buClr>
              <a:buSzPct val="70000"/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vance 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364040" indent="-221400">
              <a:lnSpc>
                <a:spcPct val="95000"/>
              </a:lnSpc>
              <a:spcBef>
                <a:spcPts val="414"/>
              </a:spcBef>
              <a:spcAft>
                <a:spcPts val="275"/>
              </a:spcAft>
              <a:buClr>
                <a:srgbClr val="ff9933"/>
              </a:buClr>
              <a:buSzPct val="50000"/>
              <a:buFont typeface="Wingdings" charset="2"/>
              <a:buChar char="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ás de 500 puntos operativos (julio 2007)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776160" indent="-258480">
              <a:lnSpc>
                <a:spcPct val="95000"/>
              </a:lnSpc>
              <a:spcBef>
                <a:spcPts val="414"/>
              </a:spcBef>
              <a:spcAft>
                <a:spcPts val="275"/>
              </a:spcAft>
              <a:buClr>
                <a:srgbClr val="cc3300"/>
              </a:buClr>
              <a:buSzPct val="70000"/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eta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364040" indent="-221400">
              <a:lnSpc>
                <a:spcPct val="95000"/>
              </a:lnSpc>
              <a:spcBef>
                <a:spcPts val="414"/>
              </a:spcBef>
              <a:spcAft>
                <a:spcPts val="275"/>
              </a:spcAft>
              <a:buClr>
                <a:srgbClr val="ff9933"/>
              </a:buClr>
              <a:buSzPct val="50000"/>
              <a:buFont typeface="Wingdings" charset="2"/>
              <a:buChar char="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1.100 puntos de atención a diciembre 2007 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364040" indent="-221400">
              <a:lnSpc>
                <a:spcPct val="95000"/>
              </a:lnSpc>
              <a:spcBef>
                <a:spcPts val="414"/>
              </a:spcBef>
              <a:spcAft>
                <a:spcPts val="275"/>
              </a:spcAft>
              <a:buClr>
                <a:srgbClr val="ff9933"/>
              </a:buClr>
              <a:buSzPct val="50000"/>
              <a:buFont typeface="Wingdings" charset="2"/>
              <a:buChar char="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2.500 puntos de atención el año 2010 en 270 comunas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776160" indent="-258480">
              <a:lnSpc>
                <a:spcPct val="95000"/>
              </a:lnSpc>
              <a:spcBef>
                <a:spcPts val="414"/>
              </a:spcBef>
              <a:spcAft>
                <a:spcPts val="275"/>
              </a:spcAft>
              <a:buClr>
                <a:srgbClr val="cc3300"/>
              </a:buClr>
              <a:buSzPct val="70000"/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Bienestar socia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364040" indent="-221400">
              <a:lnSpc>
                <a:spcPct val="95000"/>
              </a:lnSpc>
              <a:spcBef>
                <a:spcPts val="414"/>
              </a:spcBef>
              <a:spcAft>
                <a:spcPts val="275"/>
              </a:spcAft>
              <a:buClr>
                <a:srgbClr val="ff9933"/>
              </a:buClr>
              <a:buSzPct val="50000"/>
              <a:buFont typeface="Wingdings" charset="2"/>
              <a:buChar char="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Beneficiarios potenciales: unas 3 millones de personas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364040" indent="-221400">
              <a:lnSpc>
                <a:spcPct val="95000"/>
              </a:lnSpc>
              <a:spcBef>
                <a:spcPts val="414"/>
              </a:spcBef>
              <a:spcAft>
                <a:spcPts val="275"/>
              </a:spcAft>
              <a:buClr>
                <a:srgbClr val="ff9933"/>
              </a:buClr>
              <a:buSzPct val="50000"/>
              <a:buFont typeface="Wingdings" charset="2"/>
              <a:buChar char="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Ahorro en costos transaccionales: cerca de US$ 400 millones (incluye Cuenta RUT)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192560" y="293760"/>
            <a:ext cx="468648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yectos Exitoso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16:54:05Z</dcterms:created>
  <dc:creator>mleible</dc:creator>
  <dc:description/>
  <dc:language>en-US</dc:language>
  <cp:lastModifiedBy>CorpBanca</cp:lastModifiedBy>
  <cp:lastPrinted>2003-07-24T22:07:30Z</cp:lastPrinted>
  <dcterms:modified xsi:type="dcterms:W3CDTF">2009-08-03T23:21:02Z</dcterms:modified>
  <cp:revision>466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