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9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12.wmf" ContentType="image/x-wmf"/>
  <Override PartName="/ppt/media/image3.png" ContentType="image/png"/>
  <Override PartName="/ppt/media/image33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7.png" ContentType="image/png"/>
  <Override PartName="/ppt/media/image6.wmf" ContentType="image/x-wmf"/>
  <Override PartName="/ppt/media/image11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1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36117-2D95-4F21-89FC-4E54F607EA0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6FAE7-E171-46E7-B48A-7F911CCDD7B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0DD87-DEAB-4226-86BA-264DFCD02CB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7E9C7-31C4-4746-892D-D12FFEF2C05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CD5CB-ED45-4FA0-87EB-CDF08BBD91C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7FB2B-2098-40C8-9BE6-43E464B2547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9F373-E58B-4D53-8CF6-9403428327F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D1D4C-C3D8-4D5E-A3F8-584694BD0F4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90ADA-A65A-4254-A0D0-83572BE46F0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E2852-6CB0-4F4B-98D5-A960347F6B0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0C55A-4D43-4CA1-9B9C-34813C30567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FFF98-2364-4A02-B632-3850318F3DF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FD90E-9846-4E42-89EE-F711607D1BF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C5439-95E2-458C-8A4C-B17686D70CB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4496C-1A11-4013-9A2E-06FE61A9DFF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F7742-2E57-4656-842F-775B862ECAC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92C71-51E8-4B0D-B9C1-DC917BC7CA4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368B9-4928-4524-A23D-D9977C18744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BCE29-C7F2-417A-8497-E98C3F2E259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BD7E9-724D-4800-95AC-EAEB41A4717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8E486-6412-437B-ABB8-5A2DD3E6955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D81ED-A95A-4B98-99E9-10F26462659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36A25-9FE4-448D-A1ED-713BD8AF168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7080-9925-4899-A6A9-BA047F6BB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310D-119D-47FA-BC3B-AB172692D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3548-7B9F-4069-B4F6-371F8C548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9793-5EA6-4448-AD85-B123BA727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07654-F1C9-4A1A-B16B-B8E3EBE8D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C5464-E128-49BB-8D49-939F03AF8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05697-ECBC-48C4-ACBB-417FD37B5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AAD1B-47B6-48E2-81B3-380305941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B0CF7-4238-41DE-80F1-4C2AAA105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E2DBD-F699-4291-B5F4-6BF25BA55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2F296-29E2-484E-A2A7-D8DC00389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4B60-EA81-4A0E-92FC-E46D656DD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4B26B-E5E1-4DEB-AD30-876530E88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0B829-A091-48C7-B8C5-4253163D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2F572-7BC3-4BDF-8BA7-6680D469C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82DBE-3A9C-4715-A3FA-543B03A77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996A9-E3BE-4320-B2A8-78536AC85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F72410-F8C6-4BAE-8576-9C6745B5F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D9B1DE-1C03-42E3-9048-B3DCF312E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27053F-A474-4143-9EE4-E1449DFBF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279636-38A9-493C-A7DB-E4752BEDE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678D30-A448-48EE-B822-BD84505CE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2E32-1DEB-426A-A839-B42150710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1297CE-FE62-4257-8FDC-9CF315F4B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3D42E9-BB77-4032-AD8C-AF8B2351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DC56BD-679E-4D68-B245-4ED76C1B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C50C94-3714-4A4D-A03D-14249BF21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5CDC96-79EC-4323-9463-505BD328D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B61EE1-84DC-48D1-8EF1-433C70FDD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B4EDD2-2302-44A0-A3DC-39C023A20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49129-EA97-4DF0-9825-984E74F81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6F6D2-18A3-4423-9884-FDE95C09B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07060-01F2-47F3-A58F-F5A3E07FA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0B6A-7483-4131-B11B-3CEE3A4D9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07D0E-9E57-4E95-A3EA-53D88217A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4691C-1BA0-45D6-B1D5-88CF902D7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F506B-FAE7-4DBC-AB8E-C87C7CE5D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C667B-3C7A-442F-9307-BFD5C52D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25050-70C2-445F-B7AB-646AABC0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CBB08-3108-4E50-8390-FC7B2F2D9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E748D-130C-46DF-B0F9-8932A7DEA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7EAC2-CB1D-4565-ADA0-7F1565724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F1FC2-D8C2-486C-8467-5C272A204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21D3B6-9549-422E-AD57-A437473FD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06D9-33B3-46BA-AC93-ABD48B5C0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3ACBBC-F593-4AC1-8D28-7ABD3EFCC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85C9C2-6660-4DC1-9A24-9DCC45379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77F56E-383A-4A9D-8AD6-1369B10BC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B79056-3A3A-48FA-A797-976F1C605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2D056D-EC7F-4ECE-B1E2-1467197E1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40DB00-942D-4AFD-8183-D416BF92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425332-9166-466C-8134-00895D79E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772C37-CB21-41AA-B030-02309A69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AE63E6-6F95-4F1A-A5FE-D9EA1F0B2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AF07BF-7DA8-48CD-98A1-CC15DC00A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69B3-E506-447A-9422-C348192F0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29A227-E415-469B-AE09-A04492E0E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23BF87-BF79-4789-A92C-088E3B4BD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1B690F-B396-4374-8C77-1FC5033A4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11D38E-C26C-4EB9-B47B-9969F6127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B49AEF-B55F-4083-8F28-9E188BF50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A5DD0C-A06E-4BBF-AAC4-1FD1543C3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EA92B8-11B8-4B61-BB3C-3CFF1A89C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190B52-527E-42BC-8927-E9061288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38C6F8-C0A8-4CFA-B344-FDBB6DAF5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385C5F-6020-4453-8307-6D4D5B837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4D14-4011-450C-B4D1-4E03A927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783376-1544-463B-A500-D382C885C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F46FEF-16ED-4F91-B22B-E6EF89CF4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130098-12C0-4E1D-AF8B-4E411835D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E93C21-0363-4FD4-BB2B-1DD9C67D6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6A3D5B-28BE-4D3B-8ECB-1F5F83C7D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47051C-BB2A-41E5-A55E-D2666102F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144509-B581-4B47-A5B5-E24FBD207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E2F204-F31D-4C5C-96D6-A3908FE9A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82DA4F-8375-42B9-92F7-C23000FA0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C141CB-E65C-4DAC-A4AA-E43EF0CF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27A4-6BCD-4FC2-93B1-054AD562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AC6883-E8B2-4C99-B77B-017255A8A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6CEB75-8EA6-4139-BF5B-C072ECF5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FEF7F1-2253-490D-B25E-959A387CF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96CE4A-FF5C-41EB-BC8A-335F3244B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CBE8BA-3B3D-48E8-80E2-3441ACE33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335D-F4A7-493B-98E5-86DDD5D1A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ADEB6-87EF-4A74-AE7C-5FD37A04A8EF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4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16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17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18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19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20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23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24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25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26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27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28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29 Elipse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30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31 Elipse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32 Elipse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1D4B4-1769-462E-ACEF-DD4A4102671A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062DA-F61B-4A3C-8D9D-367DF337DE64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14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16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17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18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19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20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23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24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25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26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27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28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29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30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31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32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C7448-B50A-406B-9512-800030E4C259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7D080-C55C-4743-B31A-DB4C30457B58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14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16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17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1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1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2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23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1BE9D-A9A2-4CD9-A4CB-429396ADFBD7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14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16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17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18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19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20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23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88C4F-0385-4AD4-B649-69560F5B91F5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dipres.cl/" TargetMode="External"/><Relationship Id="rId2" Type="http://schemas.openxmlformats.org/officeDocument/2006/relationships/hyperlink" Target="http://www.junaeb.cl/" TargetMode="External"/><Relationship Id="rId3" Type="http://schemas.openxmlformats.org/officeDocument/2006/relationships/hyperlink" Target="http://www.minsal.cl/" TargetMode="External"/><Relationship Id="rId4" Type="http://schemas.openxmlformats.org/officeDocument/2006/relationships/hyperlink" Target="http://www.fonasa.cl/" TargetMode="External"/><Relationship Id="rId5" Type="http://schemas.openxmlformats.org/officeDocument/2006/relationships/hyperlink" Target="http://www.worldbank.org/" TargetMode="External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slideLayout" Target="../slideLayouts/slideLayout25.xml"/><Relationship Id="rId1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575f6d"/>
                </a:solidFill>
                <a:latin typeface="Century Schoolbook"/>
              </a:rPr>
              <a:t>CLASE Nº1: IMPORTANCIA DEL SECTOR PÚBLICO EN EL DESARROLLO DE CHILE ¿QUÉ TAN GRANDE ES Y CUÁNTO PRODUCE?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575f6d"/>
                </a:solidFill>
                <a:latin typeface="Century Schoolbook"/>
              </a:rPr>
              <a:t>Profesor: Mario Waissbluth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575f6d"/>
                </a:solidFill>
                <a:latin typeface="Century Schoolbook"/>
              </a:rPr>
              <a:t>30 – julio – 2009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4 CuadroTexto"/>
          <p:cNvSpPr/>
          <p:nvPr/>
        </p:nvSpPr>
        <p:spPr>
          <a:xfrm>
            <a:off x="0" y="0"/>
            <a:ext cx="9144000" cy="1008720"/>
          </a:xfrm>
          <a:prstGeom prst="rect">
            <a:avLst/>
          </a:prstGeom>
          <a:solidFill>
            <a:srgbClr val="e75c01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entury Schoolbook"/>
              </a:rPr>
              <a:t>IN661 / IN4821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entury Schoolbook"/>
              </a:rPr>
              <a:t>Introducción a los Sistemas Público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entury Schoolbook"/>
              </a:rPr>
              <a:t>Semestre: Primavera 2009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1" name="3 Imagen" descr="logotipo PGPP.jpg"/>
          <p:cNvPicPr/>
          <p:nvPr/>
        </p:nvPicPr>
        <p:blipFill>
          <a:blip r:embed="rId1"/>
          <a:stretch/>
        </p:blipFill>
        <p:spPr>
          <a:xfrm>
            <a:off x="3071880" y="1071720"/>
            <a:ext cx="3429000" cy="121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EDUCACIÓ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18" name="4 Marcador de contenido" descr=""/>
          <p:cNvPicPr/>
          <p:nvPr/>
        </p:nvPicPr>
        <p:blipFill>
          <a:blip r:embed="rId1"/>
          <a:stretch/>
        </p:blipFill>
        <p:spPr>
          <a:xfrm>
            <a:off x="1357200" y="857160"/>
            <a:ext cx="7467840" cy="487368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" descr=""/>
          <p:cNvPicPr/>
          <p:nvPr/>
        </p:nvPicPr>
        <p:blipFill>
          <a:blip r:embed="rId2"/>
          <a:stretch/>
        </p:blipFill>
        <p:spPr>
          <a:xfrm>
            <a:off x="0" y="5143680"/>
            <a:ext cx="1963800" cy="1714320"/>
          </a:xfrm>
          <a:prstGeom prst="rect">
            <a:avLst/>
          </a:prstGeom>
          <a:ln w="0">
            <a:noFill/>
          </a:ln>
        </p:spPr>
      </p:pic>
      <p:sp>
        <p:nvSpPr>
          <p:cNvPr id="420" name="5 CuadroTexto"/>
          <p:cNvSpPr/>
          <p:nvPr/>
        </p:nvSpPr>
        <p:spPr>
          <a:xfrm>
            <a:off x="3071880" y="6357960"/>
            <a:ext cx="321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entury Schoolbook"/>
              </a:rPr>
              <a:t>Fuente: MINEDUC 2006-2007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3" descr=""/>
          <p:cNvPicPr/>
          <p:nvPr/>
        </p:nvPicPr>
        <p:blipFill>
          <a:blip r:embed="rId1"/>
          <a:stretch/>
        </p:blipFill>
        <p:spPr>
          <a:xfrm>
            <a:off x="7072200" y="0"/>
            <a:ext cx="2071800" cy="288432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EMPRENDIMIENT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23" name="3 Marcador de contenido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746748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4" descr=""/>
          <p:cNvPicPr/>
          <p:nvPr/>
        </p:nvPicPr>
        <p:blipFill>
          <a:blip r:embed="rId1"/>
          <a:stretch/>
        </p:blipFill>
        <p:spPr>
          <a:xfrm>
            <a:off x="-714240" y="4714920"/>
            <a:ext cx="2143080" cy="228600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JUNAEB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26" name="Picture 3" descr=""/>
          <p:cNvPicPr/>
          <p:nvPr/>
        </p:nvPicPr>
        <p:blipFill>
          <a:blip r:embed="rId2"/>
          <a:stretch/>
        </p:blipFill>
        <p:spPr>
          <a:xfrm>
            <a:off x="7423200" y="0"/>
            <a:ext cx="1720800" cy="2428920"/>
          </a:xfrm>
          <a:prstGeom prst="rect">
            <a:avLst/>
          </a:prstGeom>
          <a:ln w="0">
            <a:noFill/>
          </a:ln>
        </p:spPr>
      </p:pic>
      <p:pic>
        <p:nvPicPr>
          <p:cNvPr id="427" name="9 Gráfico" descr=""/>
          <p:cNvPicPr/>
          <p:nvPr/>
        </p:nvPicPr>
        <p:blipFill>
          <a:blip r:embed="rId3"/>
          <a:stretch/>
        </p:blipFill>
        <p:spPr>
          <a:xfrm>
            <a:off x="428760" y="1143000"/>
            <a:ext cx="7405560" cy="4818240"/>
          </a:xfrm>
          <a:prstGeom prst="rect">
            <a:avLst/>
          </a:prstGeom>
          <a:ln w="0">
            <a:noFill/>
          </a:ln>
        </p:spPr>
      </p:pic>
      <p:sp>
        <p:nvSpPr>
          <p:cNvPr id="428" name="11 CuadroTexto"/>
          <p:cNvSpPr/>
          <p:nvPr/>
        </p:nvSpPr>
        <p:spPr>
          <a:xfrm>
            <a:off x="1928880" y="6072120"/>
            <a:ext cx="5643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Total Programa: </a:t>
            </a:r>
            <a:r>
              <a:rPr b="1" lang="es-ES" sz="2800" spc="-1" strike="noStrike">
                <a:solidFill>
                  <a:srgbClr val="000000"/>
                </a:solidFill>
                <a:latin typeface="Century Schoolbook"/>
              </a:rPr>
              <a:t>1.916.927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raciones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9" name="6 CuadroTexto"/>
          <p:cNvSpPr/>
          <p:nvPr/>
        </p:nvSpPr>
        <p:spPr>
          <a:xfrm>
            <a:off x="6715080" y="2643120"/>
            <a:ext cx="18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1 MM US$ 2008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Al dí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FUERZAS ARMADA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31" name="3 Marcador de contenido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746748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2" descr=""/>
          <p:cNvPicPr/>
          <p:nvPr/>
        </p:nvPicPr>
        <p:blipFill>
          <a:blip r:embed="rId1"/>
          <a:stretch/>
        </p:blipFill>
        <p:spPr>
          <a:xfrm>
            <a:off x="214200" y="1785960"/>
            <a:ext cx="8516880" cy="47163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TAMAÑO DEL ESTADO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34" name="Picture 3" descr=""/>
          <p:cNvPicPr/>
          <p:nvPr/>
        </p:nvPicPr>
        <p:blipFill>
          <a:blip r:embed="rId2"/>
          <a:stretch/>
        </p:blipFill>
        <p:spPr>
          <a:xfrm>
            <a:off x="7643880" y="0"/>
            <a:ext cx="1500120" cy="1903320"/>
          </a:xfrm>
          <a:prstGeom prst="rect">
            <a:avLst/>
          </a:prstGeom>
          <a:ln w="0">
            <a:noFill/>
          </a:ln>
        </p:spPr>
      </p:pic>
      <p:sp>
        <p:nvSpPr>
          <p:cNvPr id="435" name="4 CuadroTexto"/>
          <p:cNvSpPr/>
          <p:nvPr/>
        </p:nvSpPr>
        <p:spPr>
          <a:xfrm>
            <a:off x="2643120" y="6572160"/>
            <a:ext cx="35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entury Schoolbook"/>
              </a:rPr>
              <a:t>Fuente: Texto Reforma al Estado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Picture 3" descr=""/>
          <p:cNvPicPr/>
          <p:nvPr/>
        </p:nvPicPr>
        <p:blipFill>
          <a:blip r:embed="rId1"/>
          <a:stretch/>
        </p:blipFill>
        <p:spPr>
          <a:xfrm>
            <a:off x="7215120" y="0"/>
            <a:ext cx="1486080" cy="1486080"/>
          </a:xfrm>
          <a:prstGeom prst="rect">
            <a:avLst/>
          </a:prstGeom>
          <a:ln w="0">
            <a:noFill/>
          </a:ln>
        </p:spPr>
      </p:pic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DESAFÍOS: CALIDAD DEL ESTAD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39" name="Picture 2" descr=""/>
          <p:cNvPicPr/>
          <p:nvPr/>
        </p:nvPicPr>
        <p:blipFill>
          <a:blip r:embed="rId2"/>
          <a:stretch/>
        </p:blipFill>
        <p:spPr>
          <a:xfrm>
            <a:off x="200160" y="1380960"/>
            <a:ext cx="8586720" cy="5334120"/>
          </a:xfrm>
          <a:prstGeom prst="rect">
            <a:avLst/>
          </a:prstGeom>
          <a:ln w="0">
            <a:noFill/>
          </a:ln>
        </p:spPr>
      </p:pic>
      <p:sp>
        <p:nvSpPr>
          <p:cNvPr id="440" name="5 Elipse"/>
          <p:cNvSpPr/>
          <p:nvPr/>
        </p:nvSpPr>
        <p:spPr>
          <a:xfrm>
            <a:off x="285840" y="6286680"/>
            <a:ext cx="1428840" cy="285480"/>
          </a:xfrm>
          <a:prstGeom prst="ellipse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3" descr=""/>
          <p:cNvPicPr/>
          <p:nvPr/>
        </p:nvPicPr>
        <p:blipFill>
          <a:blip r:embed="rId1"/>
          <a:stretch/>
        </p:blipFill>
        <p:spPr>
          <a:xfrm>
            <a:off x="6929280" y="0"/>
            <a:ext cx="1843200" cy="184320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FORTALEZAS: EFICIENCIA DEL ESTAD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44" name="Picture 2" descr=""/>
          <p:cNvPicPr/>
          <p:nvPr/>
        </p:nvPicPr>
        <p:blipFill>
          <a:blip r:embed="rId2"/>
          <a:stretch/>
        </p:blipFill>
        <p:spPr>
          <a:xfrm>
            <a:off x="500040" y="1374840"/>
            <a:ext cx="7786800" cy="5354640"/>
          </a:xfrm>
          <a:prstGeom prst="rect">
            <a:avLst/>
          </a:prstGeom>
          <a:ln w="0">
            <a:noFill/>
          </a:ln>
        </p:spPr>
      </p:pic>
      <p:sp>
        <p:nvSpPr>
          <p:cNvPr id="445" name="5 Elipse"/>
          <p:cNvSpPr/>
          <p:nvPr/>
        </p:nvSpPr>
        <p:spPr>
          <a:xfrm>
            <a:off x="500040" y="3143160"/>
            <a:ext cx="1071720" cy="214560"/>
          </a:xfrm>
          <a:prstGeom prst="ellipse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DESAFÍOS: DISTRIBUCIÓN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47" name="Picture 2" descr=""/>
          <p:cNvPicPr/>
          <p:nvPr/>
        </p:nvPicPr>
        <p:blipFill>
          <a:blip r:embed="rId1"/>
          <a:stretch/>
        </p:blipFill>
        <p:spPr>
          <a:xfrm>
            <a:off x="428760" y="1714680"/>
            <a:ext cx="8310600" cy="378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DESAFÍOS: </a:t>
            </a:r>
            <a:br>
              <a:rPr sz="3000"/>
            </a:b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DISTRIBUCIÓN Y CRECIMIENT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49" name="Picture 6" descr=""/>
          <p:cNvPicPr/>
          <p:nvPr/>
        </p:nvPicPr>
        <p:blipFill>
          <a:blip r:embed="rId1"/>
          <a:stretch/>
        </p:blipFill>
        <p:spPr>
          <a:xfrm>
            <a:off x="6572160" y="-285840"/>
            <a:ext cx="2759040" cy="31435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2" descr=""/>
          <p:cNvPicPr/>
          <p:nvPr/>
        </p:nvPicPr>
        <p:blipFill>
          <a:blip r:embed="rId2"/>
          <a:stretch/>
        </p:blipFill>
        <p:spPr>
          <a:xfrm>
            <a:off x="214200" y="2000160"/>
            <a:ext cx="8286840" cy="4483080"/>
          </a:xfrm>
          <a:prstGeom prst="rect">
            <a:avLst/>
          </a:prstGeom>
          <a:ln w="0">
            <a:noFill/>
          </a:ln>
        </p:spPr>
      </p:pic>
      <p:sp>
        <p:nvSpPr>
          <p:cNvPr id="451" name="5 Elipse"/>
          <p:cNvSpPr/>
          <p:nvPr/>
        </p:nvSpPr>
        <p:spPr>
          <a:xfrm>
            <a:off x="6072120" y="2428920"/>
            <a:ext cx="1000080" cy="642960"/>
          </a:xfrm>
          <a:prstGeom prst="ellipse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2" descr=""/>
          <p:cNvPicPr/>
          <p:nvPr/>
        </p:nvPicPr>
        <p:blipFill>
          <a:blip r:embed="rId1"/>
          <a:stretch/>
        </p:blipFill>
        <p:spPr>
          <a:xfrm>
            <a:off x="157320" y="1684440"/>
            <a:ext cx="8057880" cy="485460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DESAFÍOS: DISTRIBUCIÓN Y ACTIVIDAD ECONÓ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54" name="Picture 6" descr=""/>
          <p:cNvPicPr/>
          <p:nvPr/>
        </p:nvPicPr>
        <p:blipFill>
          <a:blip r:embed="rId2"/>
          <a:stretch/>
        </p:blipFill>
        <p:spPr>
          <a:xfrm>
            <a:off x="6886440" y="0"/>
            <a:ext cx="2257560" cy="2571840"/>
          </a:xfrm>
          <a:prstGeom prst="rect">
            <a:avLst/>
          </a:prstGeom>
          <a:ln w="0">
            <a:noFill/>
          </a:ln>
        </p:spPr>
      </p:pic>
      <p:sp>
        <p:nvSpPr>
          <p:cNvPr id="455" name="8 Elipse"/>
          <p:cNvSpPr/>
          <p:nvPr/>
        </p:nvSpPr>
        <p:spPr>
          <a:xfrm>
            <a:off x="2143080" y="2428920"/>
            <a:ext cx="857160" cy="428760"/>
          </a:xfrm>
          <a:prstGeom prst="ellipse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PROGRAMA CURS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428760" y="1143000"/>
          <a:ext cx="8215200" cy="5494320"/>
        </p:xfrm>
        <a:graphic>
          <a:graphicData uri="http://schemas.openxmlformats.org/drawingml/2006/table">
            <a:tbl>
              <a:tblPr/>
              <a:tblGrid>
                <a:gridCol w="1982520"/>
                <a:gridCol w="5026320"/>
                <a:gridCol w="1206360"/>
              </a:tblGrid>
              <a:tr h="22104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c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alu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</a:tr>
              <a:tr h="37440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de Jul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ortancia del Sector Público en el Desarrollo de Ch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416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de Ago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la (confirmando) / Macrosistemas, Estructuras y Funciones del Est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416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de Ago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Sector Público desde la mirada de los "Sistemas Complejos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 corto (*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10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de Ago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¿Qué es agregar Valor Público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10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 de Ago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tión Pública y Privada: Diferencias y Similitu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P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58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de Septiemb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rentes Públicos Efectivos: Cómo son, qué y cómo trabaj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10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de Septiemb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orma al Estado en Chile (casos y proyeccion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10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 de Septiemb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cacio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10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de Septiemb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la Invitado Exter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316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de Octub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ana Olímpica (sin clas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40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de Octub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tica y Probidad en el Estado: Análisis y Gestión Riesg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P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10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de Octub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parencia y Participación Ciudad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10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de Octub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-Govern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10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 de Octub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la Invitado Exter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416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de Noviemb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tión del Cambio: Los Desafíos de lograr la Moderniz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 corto (*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10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de Noviemb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-análisis, problemas frecuentes del sector públ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10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 de Noviemb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novación y Marketing en el sector públ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296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á fijada por Escue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men (*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2" descr=""/>
          <p:cNvPicPr/>
          <p:nvPr/>
        </p:nvPicPr>
        <p:blipFill>
          <a:blip r:embed="rId1"/>
          <a:stretch/>
        </p:blipFill>
        <p:spPr>
          <a:xfrm>
            <a:off x="90360" y="1338120"/>
            <a:ext cx="7910640" cy="5376960"/>
          </a:xfrm>
          <a:prstGeom prst="rect">
            <a:avLst/>
          </a:prstGeom>
          <a:ln w="0">
            <a:noFill/>
          </a:ln>
        </p:spPr>
      </p:pic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FORTALEZAS: GASTO PÚBLICO Y CRECIMIENT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58" name="Picture 6" descr=""/>
          <p:cNvPicPr/>
          <p:nvPr/>
        </p:nvPicPr>
        <p:blipFill>
          <a:blip r:embed="rId2"/>
          <a:stretch/>
        </p:blipFill>
        <p:spPr>
          <a:xfrm>
            <a:off x="6572160" y="-285840"/>
            <a:ext cx="2759040" cy="3143520"/>
          </a:xfrm>
          <a:prstGeom prst="rect">
            <a:avLst/>
          </a:prstGeom>
          <a:ln w="0">
            <a:noFill/>
          </a:ln>
        </p:spPr>
      </p:pic>
      <p:sp>
        <p:nvSpPr>
          <p:cNvPr id="459" name="5 Elipse"/>
          <p:cNvSpPr/>
          <p:nvPr/>
        </p:nvSpPr>
        <p:spPr>
          <a:xfrm>
            <a:off x="2500200" y="2214720"/>
            <a:ext cx="857520" cy="500040"/>
          </a:xfrm>
          <a:prstGeom prst="ellipse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2" descr=""/>
          <p:cNvPicPr/>
          <p:nvPr/>
        </p:nvPicPr>
        <p:blipFill>
          <a:blip r:embed="rId1"/>
          <a:stretch/>
        </p:blipFill>
        <p:spPr>
          <a:xfrm>
            <a:off x="428760" y="1571760"/>
            <a:ext cx="7786440" cy="5135400"/>
          </a:xfrm>
          <a:prstGeom prst="rect">
            <a:avLst/>
          </a:prstGeom>
          <a:ln w="0">
            <a:noFill/>
          </a:ln>
        </p:spPr>
      </p:pic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DESAFÍOS: </a:t>
            </a:r>
            <a:br>
              <a:rPr sz="3000"/>
            </a:b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GASTO PÚBLICO Y DISTRIBUCIÓ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62" name="Picture 6" descr=""/>
          <p:cNvPicPr/>
          <p:nvPr/>
        </p:nvPicPr>
        <p:blipFill>
          <a:blip r:embed="rId2"/>
          <a:stretch/>
        </p:blipFill>
        <p:spPr>
          <a:xfrm>
            <a:off x="6572160" y="-285840"/>
            <a:ext cx="2759040" cy="3143520"/>
          </a:xfrm>
          <a:prstGeom prst="rect">
            <a:avLst/>
          </a:prstGeom>
          <a:ln w="0">
            <a:noFill/>
          </a:ln>
        </p:spPr>
      </p:pic>
      <p:sp>
        <p:nvSpPr>
          <p:cNvPr id="463" name="5 Elipse"/>
          <p:cNvSpPr/>
          <p:nvPr/>
        </p:nvSpPr>
        <p:spPr>
          <a:xfrm>
            <a:off x="2786040" y="2214720"/>
            <a:ext cx="857160" cy="500040"/>
          </a:xfrm>
          <a:prstGeom prst="ellipse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BIBLIOGRAFÍ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Algunos datos del Estado de Chile.xls: Diversas Fuentes (U-curso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www.dipres.cl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 u="sng">
                <a:solidFill>
                  <a:srgbClr val="d2611c"/>
                </a:solidFill>
                <a:uFillTx/>
                <a:latin typeface="Century Schoolbook"/>
                <a:hlinkClick r:id="rId2"/>
              </a:rPr>
              <a:t>www.junaeb.cl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 u="sng">
                <a:solidFill>
                  <a:srgbClr val="d2611c"/>
                </a:solidFill>
                <a:uFillTx/>
                <a:latin typeface="Century Schoolbook"/>
                <a:hlinkClick r:id="rId3"/>
              </a:rPr>
              <a:t>www.minsal.cl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 u="sng">
                <a:solidFill>
                  <a:srgbClr val="d2611c"/>
                </a:solidFill>
                <a:uFillTx/>
                <a:latin typeface="Century Schoolbook"/>
                <a:hlinkClick r:id="rId4"/>
              </a:rPr>
              <a:t>www.fonasa.cl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 u="sng">
                <a:solidFill>
                  <a:srgbClr val="d2611c"/>
                </a:solidFill>
                <a:uFillTx/>
                <a:latin typeface="Century Schoolbook"/>
                <a:hlinkClick r:id="rId5"/>
              </a:rPr>
              <a:t>www.worldbank.org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De la Confrontación al Consenso” La Reforma al Estado en Chile 1990-2005, Mario Waissbluth y José Inostroza (U-curso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GASTO PÚBLICO V/S PIB 1998 – 2007 </a:t>
            </a:r>
            <a:br>
              <a:rPr sz="3000"/>
            </a:br>
            <a:r>
              <a:rPr b="0" lang="es-ES" sz="2400" spc="-1" strike="noStrike">
                <a:solidFill>
                  <a:srgbClr val="575f6d"/>
                </a:solidFill>
                <a:latin typeface="Century Schoolbook"/>
              </a:rPr>
              <a:t>($ 2007)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5" name="Picture 2" descr=""/>
          <p:cNvPicPr/>
          <p:nvPr/>
        </p:nvPicPr>
        <p:blipFill>
          <a:blip r:embed="rId1"/>
          <a:stretch/>
        </p:blipFill>
        <p:spPr>
          <a:xfrm>
            <a:off x="1571760" y="5262480"/>
            <a:ext cx="1197000" cy="159552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4" descr=""/>
          <p:cNvPicPr/>
          <p:nvPr/>
        </p:nvPicPr>
        <p:blipFill>
          <a:blip r:embed="rId2"/>
          <a:stretch/>
        </p:blipFill>
        <p:spPr>
          <a:xfrm>
            <a:off x="2790720" y="5276880"/>
            <a:ext cx="1710000" cy="1224000"/>
          </a:xfrm>
          <a:prstGeom prst="rect">
            <a:avLst/>
          </a:prstGeom>
          <a:ln w="0">
            <a:noFill/>
          </a:ln>
        </p:spPr>
      </p:pic>
      <p:sp>
        <p:nvSpPr>
          <p:cNvPr id="367" name="8 Rectángulo"/>
          <p:cNvSpPr/>
          <p:nvPr/>
        </p:nvSpPr>
        <p:spPr>
          <a:xfrm>
            <a:off x="2571840" y="1928880"/>
            <a:ext cx="571320" cy="321480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6 Rectángulo"/>
          <p:cNvSpPr/>
          <p:nvPr/>
        </p:nvSpPr>
        <p:spPr>
          <a:xfrm>
            <a:off x="2214720" y="4500720"/>
            <a:ext cx="571320" cy="64296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9" name="11 CuadroTexto"/>
          <p:cNvSpPr/>
          <p:nvPr/>
        </p:nvSpPr>
        <p:spPr>
          <a:xfrm>
            <a:off x="-214200" y="4211640"/>
            <a:ext cx="242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entury Schoolbook"/>
              </a:rPr>
              <a:t>20,7 %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12.645.736.000.000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Gasto Público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3286080" y="1357200"/>
          <a:ext cx="5643720" cy="4000680"/>
        </p:xfrm>
        <a:graphic>
          <a:graphicData uri="http://schemas.openxmlformats.org/drawingml/2006/table">
            <a:tbl>
              <a:tblPr/>
              <a:tblGrid>
                <a:gridCol w="4807080"/>
                <a:gridCol w="836640"/>
              </a:tblGrid>
              <a:tr h="328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medio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272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ASTO 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1 Servicios Públicos Genera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1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2 Defen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1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3 Orden Público y Segurid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0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4 Asuntos Económic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1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5 Protección del Medio Ambi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6 Vivienda y Servicios Comunitari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1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7 Salu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1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8 Actividades Recreativas, Cultura y Relig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0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9 Educ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1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 Protección Soci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64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53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ente: DIP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71" name="16 CuadroTexto"/>
          <p:cNvSpPr/>
          <p:nvPr/>
        </p:nvSpPr>
        <p:spPr>
          <a:xfrm>
            <a:off x="0" y="1857240"/>
            <a:ext cx="25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61.090.510.000.000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PIB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RRHH DEL ESTAD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3" name="Picture 3" descr=""/>
          <p:cNvPicPr/>
          <p:nvPr/>
        </p:nvPicPr>
        <p:blipFill>
          <a:blip r:embed="rId1"/>
          <a:stretch/>
        </p:blipFill>
        <p:spPr>
          <a:xfrm>
            <a:off x="1357200" y="1571760"/>
            <a:ext cx="857520" cy="169524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4" descr=""/>
          <p:cNvPicPr/>
          <p:nvPr/>
        </p:nvPicPr>
        <p:blipFill>
          <a:blip r:embed="rId2"/>
          <a:stretch/>
        </p:blipFill>
        <p:spPr>
          <a:xfrm>
            <a:off x="428760" y="1571760"/>
            <a:ext cx="857160" cy="16952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5" descr=""/>
          <p:cNvPicPr/>
          <p:nvPr/>
        </p:nvPicPr>
        <p:blipFill>
          <a:blip r:embed="rId3"/>
          <a:stretch/>
        </p:blipFill>
        <p:spPr>
          <a:xfrm>
            <a:off x="6929280" y="3643200"/>
            <a:ext cx="857520" cy="16956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6" descr=""/>
          <p:cNvPicPr/>
          <p:nvPr/>
        </p:nvPicPr>
        <p:blipFill>
          <a:blip r:embed="rId4"/>
          <a:stretch/>
        </p:blipFill>
        <p:spPr>
          <a:xfrm>
            <a:off x="6000840" y="3643200"/>
            <a:ext cx="857160" cy="169560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7" descr=""/>
          <p:cNvPicPr/>
          <p:nvPr/>
        </p:nvPicPr>
        <p:blipFill>
          <a:blip r:embed="rId5"/>
          <a:stretch/>
        </p:blipFill>
        <p:spPr>
          <a:xfrm>
            <a:off x="5072040" y="3643200"/>
            <a:ext cx="857160" cy="16956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8" descr=""/>
          <p:cNvPicPr/>
          <p:nvPr/>
        </p:nvPicPr>
        <p:blipFill>
          <a:blip r:embed="rId6"/>
          <a:stretch/>
        </p:blipFill>
        <p:spPr>
          <a:xfrm>
            <a:off x="4143240" y="3643200"/>
            <a:ext cx="857520" cy="16956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9" descr=""/>
          <p:cNvPicPr/>
          <p:nvPr/>
        </p:nvPicPr>
        <p:blipFill>
          <a:blip r:embed="rId7"/>
          <a:stretch/>
        </p:blipFill>
        <p:spPr>
          <a:xfrm>
            <a:off x="3214800" y="3643200"/>
            <a:ext cx="857160" cy="16956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0" descr=""/>
          <p:cNvPicPr/>
          <p:nvPr/>
        </p:nvPicPr>
        <p:blipFill>
          <a:blip r:embed="rId8"/>
          <a:stretch/>
        </p:blipFill>
        <p:spPr>
          <a:xfrm>
            <a:off x="2286000" y="3643200"/>
            <a:ext cx="857160" cy="16956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1" descr=""/>
          <p:cNvPicPr/>
          <p:nvPr/>
        </p:nvPicPr>
        <p:blipFill>
          <a:blip r:embed="rId9"/>
          <a:stretch/>
        </p:blipFill>
        <p:spPr>
          <a:xfrm>
            <a:off x="1357200" y="3643200"/>
            <a:ext cx="857520" cy="16956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12" descr=""/>
          <p:cNvPicPr/>
          <p:nvPr/>
        </p:nvPicPr>
        <p:blipFill>
          <a:blip r:embed="rId10"/>
          <a:stretch/>
        </p:blipFill>
        <p:spPr>
          <a:xfrm>
            <a:off x="428760" y="3643200"/>
            <a:ext cx="857160" cy="169560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3" descr=""/>
          <p:cNvPicPr/>
          <p:nvPr/>
        </p:nvPicPr>
        <p:blipFill>
          <a:blip r:embed="rId11"/>
          <a:stretch/>
        </p:blipFill>
        <p:spPr>
          <a:xfrm>
            <a:off x="7858080" y="1571760"/>
            <a:ext cx="857160" cy="169524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4" descr=""/>
          <p:cNvPicPr/>
          <p:nvPr/>
        </p:nvPicPr>
        <p:blipFill>
          <a:blip r:embed="rId12"/>
          <a:stretch/>
        </p:blipFill>
        <p:spPr>
          <a:xfrm>
            <a:off x="6929280" y="1571760"/>
            <a:ext cx="857520" cy="16952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15" descr=""/>
          <p:cNvPicPr/>
          <p:nvPr/>
        </p:nvPicPr>
        <p:blipFill>
          <a:blip r:embed="rId13"/>
          <a:stretch/>
        </p:blipFill>
        <p:spPr>
          <a:xfrm>
            <a:off x="6000840" y="1571760"/>
            <a:ext cx="857160" cy="16952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16" descr=""/>
          <p:cNvPicPr/>
          <p:nvPr/>
        </p:nvPicPr>
        <p:blipFill>
          <a:blip r:embed="rId14"/>
          <a:stretch/>
        </p:blipFill>
        <p:spPr>
          <a:xfrm>
            <a:off x="5072040" y="1571760"/>
            <a:ext cx="857160" cy="169524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17" descr=""/>
          <p:cNvPicPr/>
          <p:nvPr/>
        </p:nvPicPr>
        <p:blipFill>
          <a:blip r:embed="rId15"/>
          <a:stretch/>
        </p:blipFill>
        <p:spPr>
          <a:xfrm>
            <a:off x="4143240" y="1571760"/>
            <a:ext cx="857520" cy="16952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8" descr=""/>
          <p:cNvPicPr/>
          <p:nvPr/>
        </p:nvPicPr>
        <p:blipFill>
          <a:blip r:embed="rId16"/>
          <a:stretch/>
        </p:blipFill>
        <p:spPr>
          <a:xfrm>
            <a:off x="3214800" y="1571760"/>
            <a:ext cx="857160" cy="16952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9" descr=""/>
          <p:cNvPicPr/>
          <p:nvPr/>
        </p:nvPicPr>
        <p:blipFill>
          <a:blip r:embed="rId17"/>
          <a:stretch/>
        </p:blipFill>
        <p:spPr>
          <a:xfrm>
            <a:off x="2286000" y="1571760"/>
            <a:ext cx="857160" cy="1695240"/>
          </a:xfrm>
          <a:prstGeom prst="rect">
            <a:avLst/>
          </a:prstGeom>
          <a:ln w="0">
            <a:noFill/>
          </a:ln>
        </p:spPr>
      </p:pic>
      <p:sp>
        <p:nvSpPr>
          <p:cNvPr id="390" name="22 CuadroTexto"/>
          <p:cNvSpPr/>
          <p:nvPr/>
        </p:nvSpPr>
        <p:spPr>
          <a:xfrm>
            <a:off x="857160" y="5857920"/>
            <a:ext cx="7000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Schoolbook"/>
              </a:rPr>
              <a:t>155.942 personas 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(promedio 1998-2007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entury Schoolbook"/>
              </a:rPr>
              <a:t>Administración Central + Contraloría + Poder Judicial + Congreso + Ministerio Público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5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0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5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45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5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1" descr=""/>
          <p:cNvPicPr/>
          <p:nvPr/>
        </p:nvPicPr>
        <p:blipFill>
          <a:blip r:embed="rId1"/>
          <a:stretch/>
        </p:blipFill>
        <p:spPr>
          <a:xfrm>
            <a:off x="5929200" y="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COMPRAS PÚBLICAS </a:t>
            </a:r>
            <a:r>
              <a:rPr b="0" lang="es-ES" sz="2800" spc="-1" strike="noStrike">
                <a:solidFill>
                  <a:srgbClr val="575f6d"/>
                </a:solidFill>
                <a:latin typeface="Century Schoolbook"/>
              </a:rPr>
              <a:t>(CHILECOMPRAS)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3" name="Picture 1" descr=""/>
          <p:cNvPicPr/>
          <p:nvPr/>
        </p:nvPicPr>
        <p:blipFill>
          <a:blip r:embed="rId2"/>
          <a:stretch/>
        </p:blipFill>
        <p:spPr>
          <a:xfrm>
            <a:off x="285840" y="1585800"/>
            <a:ext cx="6815160" cy="4967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4" name=""/>
          <p:cNvGraphicFramePr/>
          <p:nvPr/>
        </p:nvGraphicFramePr>
        <p:xfrm>
          <a:off x="6072120" y="2786040"/>
          <a:ext cx="3071880" cy="2919600"/>
        </p:xfrm>
        <a:graphic>
          <a:graphicData uri="http://schemas.openxmlformats.org/drawingml/2006/table">
            <a:tbl>
              <a:tblPr/>
              <a:tblGrid>
                <a:gridCol w="3071880"/>
              </a:tblGrid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o transado 2008 (Millones de US$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5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36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úmero oportunidades de negoci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0.2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5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úmero órdenes de comp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37.8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"/>
          <p:cNvPicPr/>
          <p:nvPr/>
        </p:nvPicPr>
        <p:blipFill>
          <a:blip r:embed="rId1"/>
          <a:stretch/>
        </p:blipFill>
        <p:spPr>
          <a:xfrm>
            <a:off x="6014880" y="0"/>
            <a:ext cx="3129120" cy="250020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INVERSIÓN PÚBLICA V/S PRIVAD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7" name="4 Marcador de contenido" descr=""/>
          <p:cNvPicPr/>
          <p:nvPr/>
        </p:nvPicPr>
        <p:blipFill>
          <a:blip r:embed="rId2"/>
          <a:stretch/>
        </p:blipFill>
        <p:spPr>
          <a:xfrm>
            <a:off x="0" y="1357200"/>
            <a:ext cx="5786280" cy="3500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8" name=""/>
          <p:cNvGraphicFramePr/>
          <p:nvPr/>
        </p:nvGraphicFramePr>
        <p:xfrm>
          <a:off x="2071800" y="4714920"/>
          <a:ext cx="4857480" cy="1928880"/>
        </p:xfrm>
        <a:graphic>
          <a:graphicData uri="http://schemas.openxmlformats.org/drawingml/2006/table">
            <a:tbl>
              <a:tblPr/>
              <a:tblGrid>
                <a:gridCol w="996840"/>
                <a:gridCol w="1930320"/>
                <a:gridCol w="1930320"/>
              </a:tblGrid>
              <a:tr h="1006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iciativas de Inversión (M$ 200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iciativas de Inversión (MU$ 200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4474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288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15.099.8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288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23.8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288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4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67.512.1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17.4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99" name="6 CuadroTexto"/>
          <p:cNvSpPr/>
          <p:nvPr/>
        </p:nvSpPr>
        <p:spPr>
          <a:xfrm>
            <a:off x="5429160" y="2928960"/>
            <a:ext cx="257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entury Schoolbook"/>
              </a:rPr>
              <a:t>Fuente: Eduardo Contreras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0" name="7 CuadroTexto"/>
          <p:cNvSpPr/>
          <p:nvPr/>
        </p:nvSpPr>
        <p:spPr>
          <a:xfrm>
            <a:off x="7000920" y="4929120"/>
            <a:ext cx="171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entury Schoolbook"/>
              </a:rPr>
              <a:t>Fuente: DIPRES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BENEFICIARIOS POR TIPO DE SISTEMA DE SALUD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2" name="Picture 2" descr=""/>
          <p:cNvPicPr/>
          <p:nvPr/>
        </p:nvPicPr>
        <p:blipFill>
          <a:blip r:embed="rId1"/>
          <a:stretch/>
        </p:blipFill>
        <p:spPr>
          <a:xfrm>
            <a:off x="5072040" y="4643280"/>
            <a:ext cx="3095640" cy="16322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3" descr=""/>
          <p:cNvPicPr/>
          <p:nvPr/>
        </p:nvPicPr>
        <p:blipFill>
          <a:blip r:embed="rId2"/>
          <a:stretch/>
        </p:blipFill>
        <p:spPr>
          <a:xfrm>
            <a:off x="142920" y="4857840"/>
            <a:ext cx="2038320" cy="2000160"/>
          </a:xfrm>
          <a:prstGeom prst="rect">
            <a:avLst/>
          </a:prstGeom>
          <a:ln w="0">
            <a:noFill/>
          </a:ln>
        </p:spPr>
      </p:pic>
      <p:pic>
        <p:nvPicPr>
          <p:cNvPr id="404" name="5 Gráfico" descr=""/>
          <p:cNvPicPr/>
          <p:nvPr/>
        </p:nvPicPr>
        <p:blipFill>
          <a:blip r:embed="rId3"/>
          <a:stretch/>
        </p:blipFill>
        <p:spPr>
          <a:xfrm>
            <a:off x="1143000" y="1143000"/>
            <a:ext cx="7286760" cy="4714920"/>
          </a:xfrm>
          <a:prstGeom prst="rect">
            <a:avLst/>
          </a:prstGeom>
          <a:ln w="0">
            <a:noFill/>
          </a:ln>
        </p:spPr>
      </p:pic>
      <p:sp>
        <p:nvSpPr>
          <p:cNvPr id="405" name="7 CuadroTexto"/>
          <p:cNvSpPr/>
          <p:nvPr/>
        </p:nvSpPr>
        <p:spPr>
          <a:xfrm>
            <a:off x="2571840" y="6550200"/>
            <a:ext cx="342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entury Schoolbook"/>
              </a:rPr>
              <a:t>Fuente: A partir de CASEN 2006 e INE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575f6d"/>
                </a:solidFill>
                <a:latin typeface="Century Schoolbook"/>
              </a:rPr>
              <a:t>DISTRIBUCIÓN DE LA POBLACIÓN MAYORES DE 60 AÑOS SEGÚN TIPO DE SISTEMA DE SALUD (%)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7" name="7 CuadroTexto"/>
          <p:cNvSpPr/>
          <p:nvPr/>
        </p:nvSpPr>
        <p:spPr>
          <a:xfrm>
            <a:off x="2571840" y="6550200"/>
            <a:ext cx="342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entury Schoolbook"/>
              </a:rPr>
              <a:t>Fuente: CASEN 2006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8" name="Picture 8" descr=""/>
          <p:cNvPicPr/>
          <p:nvPr/>
        </p:nvPicPr>
        <p:blipFill>
          <a:blip r:embed="rId1"/>
          <a:stretch/>
        </p:blipFill>
        <p:spPr>
          <a:xfrm>
            <a:off x="150840" y="1000080"/>
            <a:ext cx="8707320" cy="522936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3" descr=""/>
          <p:cNvPicPr/>
          <p:nvPr/>
        </p:nvPicPr>
        <p:blipFill>
          <a:blip r:embed="rId2"/>
          <a:stretch/>
        </p:blipFill>
        <p:spPr>
          <a:xfrm>
            <a:off x="0" y="5456160"/>
            <a:ext cx="1428840" cy="1401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"/>
          <p:cNvPicPr/>
          <p:nvPr/>
        </p:nvPicPr>
        <p:blipFill>
          <a:blip r:embed="rId3"/>
          <a:stretch/>
        </p:blipFill>
        <p:spPr>
          <a:xfrm>
            <a:off x="6929280" y="5691240"/>
            <a:ext cx="2214720" cy="1166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ATENCIONES DE URGENCIA SISTEMA PÚBLICO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12" name="Picture 2" descr=""/>
          <p:cNvPicPr/>
          <p:nvPr/>
        </p:nvPicPr>
        <p:blipFill>
          <a:blip r:embed="rId1"/>
          <a:stretch/>
        </p:blipFill>
        <p:spPr>
          <a:xfrm>
            <a:off x="5072040" y="4643280"/>
            <a:ext cx="3095640" cy="163224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3" descr=""/>
          <p:cNvPicPr/>
          <p:nvPr/>
        </p:nvPicPr>
        <p:blipFill>
          <a:blip r:embed="rId2"/>
          <a:stretch/>
        </p:blipFill>
        <p:spPr>
          <a:xfrm>
            <a:off x="142920" y="4857840"/>
            <a:ext cx="2038320" cy="2000160"/>
          </a:xfrm>
          <a:prstGeom prst="rect">
            <a:avLst/>
          </a:prstGeom>
          <a:ln w="0">
            <a:noFill/>
          </a:ln>
        </p:spPr>
      </p:pic>
      <p:pic>
        <p:nvPicPr>
          <p:cNvPr id="414" name="5 Gráfico" descr=""/>
          <p:cNvPicPr/>
          <p:nvPr/>
        </p:nvPicPr>
        <p:blipFill>
          <a:blip r:embed="rId3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15" name="7 CuadroTexto"/>
          <p:cNvSpPr/>
          <p:nvPr/>
        </p:nvSpPr>
        <p:spPr>
          <a:xfrm>
            <a:off x="2571840" y="6550200"/>
            <a:ext cx="342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entury Schoolbook"/>
              </a:rPr>
              <a:t>Fuente: A partir de CASEN 2006 e INE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6" name="6 Elipse"/>
          <p:cNvSpPr/>
          <p:nvPr/>
        </p:nvSpPr>
        <p:spPr>
          <a:xfrm>
            <a:off x="1857240" y="3286080"/>
            <a:ext cx="1571760" cy="500040"/>
          </a:xfrm>
          <a:prstGeom prst="ellipse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9T17:03:49Z</dcterms:created>
  <dc:creator>Edacunaf</dc:creator>
  <dc:description/>
  <dc:language>en-US</dc:language>
  <cp:lastModifiedBy>Edacunaf</cp:lastModifiedBy>
  <dcterms:modified xsi:type="dcterms:W3CDTF">2009-07-31T20:56:26Z</dcterms:modified>
  <cp:revision>43</cp:revision>
  <dc:subject/>
  <dc:title>Clase Nº1: Importancia del Sector Público en el Desarrollo de Chile</dc:title>
</cp:coreProperties>
</file>