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66A1-5EBC-4A27-80E4-154A3199ABF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2B62-9C92-4CD3-90E1-B151EA35A81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2AA8-049D-472B-A66F-92A5D27033D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547A-84CB-4C57-B51D-430AC6C840D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102A-23E8-483A-AD3C-4E09B103AC6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9AA1-4AAC-4B0D-AD38-A392A0A0343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0A05-63C3-403D-8FE8-98ED65347E2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7339-00D4-4866-8054-05573C46800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A4B4-7D35-43F2-AB21-B13AB235A69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8C1C-4A5C-46F3-BA6F-51476B05899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FE88-EEEA-4974-B300-FF18C0A5A7C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0B2C-044E-4B20-856D-37D70A7D779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6A00-217E-4085-8E40-5DA736C1A7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6D60-FE34-47A4-A86C-33D9FC8E420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F16D-6CD3-49B2-98B4-2F16FE6E66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696B-D707-4A15-A827-40D6AFBE4D2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FBB0-D00E-484C-80F6-C6489A9006A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E788-3878-43AA-9F84-CDBFC8D6453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ED13-8492-4402-95C7-3CB681F54CA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E6E5-A269-4238-BFDA-2865A2B755B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FD5F-B48D-42ED-B353-CBA7B0359BE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7D96-4C84-48B5-9670-57533A09D8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AEE2-D964-41BA-B51F-E81F642049C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51B-0580-4D0C-A481-782E4A08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EEF-6651-4154-A0BB-0EFCE76F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B9EB-1A64-46C3-AB87-5EBEF2B6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3DD-C55F-46B6-90DF-17865272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AA9B-5512-4210-9D7E-B1FA1732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64C5-3714-41C1-94C8-C1AA5351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8564-C337-40D8-8CA2-7CE51B25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BF33-4386-4224-8DF7-5D283683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BB64-EECC-44BA-B1F9-3EDD8433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68FE-B1B3-4F9F-AA24-EDE1FC9A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FEA5-F005-4636-97FD-61BBE77F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9E2-0B6A-4B67-927B-96FFA7AC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3AF9-1FD4-4458-8BBD-23EFAC18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BDF0-592D-4052-8474-48736168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879E-305E-4D30-A670-F549B2FF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8354-A85E-4D5E-9A90-90809E7C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A19F-52B2-44E6-A1D6-ACAD81AE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C6B79-DEE4-4B6D-A535-E23F6FF9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4C4A1-35E4-4FF6-A91C-434EFEEE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7B58D-E087-4FAC-B961-0293B9DD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6569D-F6CC-4DCB-8FFB-FCACCEA8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F1064-75DC-41A4-883E-47B41F01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100-18FF-494C-96C2-37E8AE8E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424D3-7147-4D46-868D-583D0FBC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DDE9D-738C-43D4-B856-134F84FA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FA2D9-66FA-4756-85B0-C62FEE9B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F3917-2EFB-4FE3-957E-5D328083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2AB56-826A-493E-BA8F-C321A3C4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98D25-D514-4DA1-BD41-1B85EE37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7434C-937A-426D-BA65-8C41D1ED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C9C5D-58A3-4E42-BCBE-58665B7F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2662F-4892-4E36-B936-2A2F8E0E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D55E7-36AA-43F3-B44F-54ACE071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12F-6F7A-45F8-AED0-42B0A6E9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A36F5-4D69-4E5B-8653-A7392C32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2D73-B2B7-4D34-BF3A-EBD881F0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D93CA-7AC4-4598-AC81-B23A3C48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28EF1-BD07-4974-8F50-6A47115D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C6869-95EC-4177-9E57-150D1233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9BF9B-3C8D-4879-AA3F-680035F5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8B657-2B1D-424F-BDA4-D286F6FF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7A934-EFA9-48C5-86C6-DC68838E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88186-30C0-4E1C-80A6-F2815F29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4129B-F1D0-4E93-8D77-FE4AD9D4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EB82-1B20-413D-8324-02ECEDE4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4910A-57F2-4CCC-9C8D-9448F37B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3DCA9-4693-4E53-9DDC-76B76944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E90EC9-9662-475E-8280-3E83EC9F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42BB2-7D40-4B3C-BF2F-DED91FBA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3DEA0-83E8-4E81-979D-D80F04F7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74307-9212-46C0-9D84-3D4CCE43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1C18D-19BC-4575-B83C-9DC50759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9BA533-B5D7-4D90-939E-F75D9719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1F05B-A7EF-4903-836C-F07AC04E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E8E16-7AFE-46CE-AF18-5E8A3970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5A4-55A1-4079-A653-504F3852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97DED-4CBB-4DA9-84B7-80B03634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5D171-3537-49DE-8835-589E7BB3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DF858-F8F9-4CE3-A049-9AF23043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F4A7C-6A68-4952-8CE1-9FBBE929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B7E8BD-9BAD-49C4-B0EB-FCFAD0A9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A1E1C-12D8-40BE-8012-E91F5A1D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AAF14-607A-4301-8804-C5CF17B5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7AAA42-0F72-4D23-992E-40819FA9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20636F-A0B7-4BA0-8BC0-9233F187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1C9D02-3394-4568-AFD0-10C49864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E0F-0F39-4E50-A579-50D1BB19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C9A95-4FD0-4F83-A55E-677065D1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E3B46-5E67-46B4-B2E5-3FB4855E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C95B5-B805-4F24-8B52-66D285C3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F9A395-6E0A-43F7-989A-A9F96BEC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0FD9D-CFBA-4206-A9E9-A952951C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402F33-6A3B-451B-B455-D049A1B7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BA43F-EF96-45EF-9F6B-BD1C5E66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EAB5DF-F6B5-4E27-A8A9-93BCFD6F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DB1448-5715-42E0-8D2C-47D0432E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9EA80-DC44-4CDD-9D72-4D10BEDB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051-F835-4217-A8AA-40A23598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D7129B-C897-427A-A19F-8B1FEFAF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1710F-2699-4BE8-91B3-549EBABA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38080-D635-4077-89CE-25215BE1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D71459-901F-4A07-A7AB-68C6D9F6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B8EA38-AAEC-4351-9443-1DE1D814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DF0-92BD-4502-AB3C-D818969E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2B9A-8880-414C-9CA0-DA78204BB35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B63D-5D13-4AA8-9EAB-1383B71A465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9479-CB82-41E3-9F88-AD8631CCC90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5EEE-43C5-47DE-B331-7323B4757F6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4BB7-EFE0-49BC-8179-FECDE616250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95DD-C4E7-4AEC-A77C-1FD3F4F5E67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34A2-B46D-4705-96DB-CB292FCBB6C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junaeb.cl/" TargetMode="External"/><Relationship Id="rId3" Type="http://schemas.openxmlformats.org/officeDocument/2006/relationships/hyperlink" Target="http://www.minsal.cl/" TargetMode="External"/><Relationship Id="rId4" Type="http://schemas.openxmlformats.org/officeDocument/2006/relationships/hyperlink" Target="http://www.fonasa.cl/" TargetMode="External"/><Relationship Id="rId5" Type="http://schemas.openxmlformats.org/officeDocument/2006/relationships/hyperlink" Target="http://www.worldbank.org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CLASE Nº1: IMPORTANCIA DEL SECTOR PÚBLICO EN EL DESARROLLO DE CHILE ¿QUÉ TAN GRANDE ES Y CUÁNTO PRODUCE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Profesor: Mario Waissblut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30 – julio – 200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4 CuadroTexto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solidFill>
            <a:srgbClr val="e75c0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IN661 / IN4821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Introducción a los Sistemas Públic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Semestre: Primavera 2009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3 Imagen" descr="logotipo PGPP.jpg"/>
          <p:cNvPicPr/>
          <p:nvPr/>
        </p:nvPicPr>
        <p:blipFill>
          <a:blip r:embed="rId1"/>
          <a:stretch/>
        </p:blipFill>
        <p:spPr>
          <a:xfrm>
            <a:off x="3071880" y="1071720"/>
            <a:ext cx="342900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DU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8" name="4 Marcador de contenido" descr=""/>
          <p:cNvPicPr/>
          <p:nvPr/>
        </p:nvPicPr>
        <p:blipFill>
          <a:blip r:embed="rId1"/>
          <a:stretch/>
        </p:blipFill>
        <p:spPr>
          <a:xfrm>
            <a:off x="1357200" y="857160"/>
            <a:ext cx="7467840" cy="4873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0" y="5143680"/>
            <a:ext cx="1963800" cy="1714320"/>
          </a:xfrm>
          <a:prstGeom prst="rect">
            <a:avLst/>
          </a:prstGeom>
          <a:ln w="0">
            <a:noFill/>
          </a:ln>
        </p:spPr>
      </p:pic>
      <p:sp>
        <p:nvSpPr>
          <p:cNvPr id="420" name="5 CuadroTexto"/>
          <p:cNvSpPr/>
          <p:nvPr/>
        </p:nvSpPr>
        <p:spPr>
          <a:xfrm>
            <a:off x="3071880" y="635796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MINEDUC 2006-2007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884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MPREND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3" name="3 Marcador de contenido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-714240" y="4714920"/>
            <a:ext cx="2143080" cy="2286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JUNAE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423200" y="0"/>
            <a:ext cx="1720800" cy="2428920"/>
          </a:xfrm>
          <a:prstGeom prst="rect">
            <a:avLst/>
          </a:prstGeom>
          <a:ln w="0">
            <a:noFill/>
          </a:ln>
        </p:spPr>
      </p:pic>
      <p:pic>
        <p:nvPicPr>
          <p:cNvPr id="427" name="9 Gráfico" descr=""/>
          <p:cNvPicPr/>
          <p:nvPr/>
        </p:nvPicPr>
        <p:blipFill>
          <a:blip r:embed="rId3"/>
          <a:stretch/>
        </p:blipFill>
        <p:spPr>
          <a:xfrm>
            <a:off x="428760" y="1143000"/>
            <a:ext cx="7405560" cy="4818240"/>
          </a:xfrm>
          <a:prstGeom prst="rect">
            <a:avLst/>
          </a:prstGeom>
          <a:ln w="0">
            <a:noFill/>
          </a:ln>
        </p:spPr>
      </p:pic>
      <p:sp>
        <p:nvSpPr>
          <p:cNvPr id="428" name="11 CuadroTexto"/>
          <p:cNvSpPr/>
          <p:nvPr/>
        </p:nvSpPr>
        <p:spPr>
          <a:xfrm>
            <a:off x="1928880" y="6072120"/>
            <a:ext cx="56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otal Programa: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1.916.927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aciones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6 CuadroTexto"/>
          <p:cNvSpPr/>
          <p:nvPr/>
        </p:nvSpPr>
        <p:spPr>
          <a:xfrm>
            <a:off x="6715080" y="2643120"/>
            <a:ext cx="18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1 MM US$ 200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l d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UERZAS ARMAD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1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516880" cy="4716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TAMAÑO DEL ESTADO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903320"/>
          </a:xfrm>
          <a:prstGeom prst="rect">
            <a:avLst/>
          </a:prstGeom>
          <a:ln w="0">
            <a:noFill/>
          </a:ln>
        </p:spPr>
      </p:pic>
      <p:sp>
        <p:nvSpPr>
          <p:cNvPr id="435" name="4 CuadroTexto"/>
          <p:cNvSpPr/>
          <p:nvPr/>
        </p:nvSpPr>
        <p:spPr>
          <a:xfrm>
            <a:off x="2643120" y="6572160"/>
            <a:ext cx="35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Texto Reforma al Estad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7215120" y="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CALIDAD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200160" y="1380960"/>
            <a:ext cx="8586720" cy="5334120"/>
          </a:xfrm>
          <a:prstGeom prst="rect">
            <a:avLst/>
          </a:prstGeom>
          <a:ln w="0">
            <a:noFill/>
          </a:ln>
        </p:spPr>
      </p:pic>
      <p:sp>
        <p:nvSpPr>
          <p:cNvPr id="440" name="5 Elipse"/>
          <p:cNvSpPr/>
          <p:nvPr/>
        </p:nvSpPr>
        <p:spPr>
          <a:xfrm>
            <a:off x="285840" y="6286680"/>
            <a:ext cx="1428840" cy="28548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6929280" y="0"/>
            <a:ext cx="1843200" cy="18432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ORTALEZAS: EFICIENCIA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2"/>
          <a:stretch/>
        </p:blipFill>
        <p:spPr>
          <a:xfrm>
            <a:off x="500040" y="1374840"/>
            <a:ext cx="7786800" cy="5354640"/>
          </a:xfrm>
          <a:prstGeom prst="rect">
            <a:avLst/>
          </a:prstGeom>
          <a:ln w="0">
            <a:noFill/>
          </a:ln>
        </p:spPr>
      </p:pic>
      <p:sp>
        <p:nvSpPr>
          <p:cNvPr id="445" name="5 Elipse"/>
          <p:cNvSpPr/>
          <p:nvPr/>
        </p:nvSpPr>
        <p:spPr>
          <a:xfrm>
            <a:off x="500040" y="3143160"/>
            <a:ext cx="1071720" cy="2145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DISTRIBUCIÓ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1060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ISTRIBUCIÓN Y CREC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8286840" cy="4483080"/>
          </a:xfrm>
          <a:prstGeom prst="rect">
            <a:avLst/>
          </a:prstGeom>
          <a:ln w="0">
            <a:noFill/>
          </a:ln>
        </p:spPr>
      </p:pic>
      <p:sp>
        <p:nvSpPr>
          <p:cNvPr id="451" name="5 Elipse"/>
          <p:cNvSpPr/>
          <p:nvPr/>
        </p:nvSpPr>
        <p:spPr>
          <a:xfrm>
            <a:off x="6072120" y="2428920"/>
            <a:ext cx="1000080" cy="6429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157320" y="1684440"/>
            <a:ext cx="8057880" cy="48546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DISTRIBUCIÓN Y ACTIVIDAD ECONÓ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4" name="Picture 6" descr=""/>
          <p:cNvPicPr/>
          <p:nvPr/>
        </p:nvPicPr>
        <p:blipFill>
          <a:blip r:embed="rId2"/>
          <a:stretch/>
        </p:blipFill>
        <p:spPr>
          <a:xfrm>
            <a:off x="6886440" y="0"/>
            <a:ext cx="2257560" cy="2571840"/>
          </a:xfrm>
          <a:prstGeom prst="rect">
            <a:avLst/>
          </a:prstGeom>
          <a:ln w="0">
            <a:noFill/>
          </a:ln>
        </p:spPr>
      </p:pic>
      <p:sp>
        <p:nvSpPr>
          <p:cNvPr id="455" name="8 Elipse"/>
          <p:cNvSpPr/>
          <p:nvPr/>
        </p:nvSpPr>
        <p:spPr>
          <a:xfrm>
            <a:off x="2143080" y="2428920"/>
            <a:ext cx="857160" cy="4287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PROGRAMA CURS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28760" y="1143000"/>
          <a:ext cx="8215200" cy="5494320"/>
        </p:xfrm>
        <a:graphic>
          <a:graphicData uri="http://schemas.openxmlformats.org/drawingml/2006/table">
            <a:tbl>
              <a:tblPr/>
              <a:tblGrid>
                <a:gridCol w="1982520"/>
                <a:gridCol w="5026320"/>
                <a:gridCol w="1206360"/>
              </a:tblGrid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744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de 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cia del Sector Público en el Desarrollo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(confirmando) / Macrosistemas, Estructuras y Funciones del Es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ector Público desde la mirada de los "Sistemas Complejos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corto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es agregar Valor Públic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Pública y Privada: Diferencias y Similitu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8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entes Públicos Efectivos: Cómo son, qué y cómo traba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orma al Estado en Chile (casos y proyecci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Invitado Ext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 Olímpica (sin cla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y Probidad en el Estado: Análisis y Gestión Riesg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P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ia y Participación Ciudad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Invitado Ext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del Cambio: Los Desafíos de lograr la Modern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corto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-análisis, problemas frecuentes del sector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ovación y Marketing en el sector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á fijada por Esc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en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90360" y="1338120"/>
            <a:ext cx="7910640" cy="53769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ORTALEZAS: GASTO PÚBLICO Y CREC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8" name="Picture 6" descr=""/>
          <p:cNvPicPr/>
          <p:nvPr/>
        </p:nvPicPr>
        <p:blipFill>
          <a:blip r:embed="rId2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sp>
        <p:nvSpPr>
          <p:cNvPr id="459" name="5 Elipse"/>
          <p:cNvSpPr/>
          <p:nvPr/>
        </p:nvSpPr>
        <p:spPr>
          <a:xfrm>
            <a:off x="2500200" y="2214720"/>
            <a:ext cx="85752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7786440" cy="51354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GASTO PÚBLICO Y DISTRIBU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2" name="Picture 6" descr=""/>
          <p:cNvPicPr/>
          <p:nvPr/>
        </p:nvPicPr>
        <p:blipFill>
          <a:blip r:embed="rId2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sp>
        <p:nvSpPr>
          <p:cNvPr id="463" name="5 Elipse"/>
          <p:cNvSpPr/>
          <p:nvPr/>
        </p:nvSpPr>
        <p:spPr>
          <a:xfrm>
            <a:off x="2786040" y="2214720"/>
            <a:ext cx="85716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BIBLIOGRAF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gunos datos del Estado de Chile.xls: Diversas Fuentes (U-curs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dipres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www.junaeb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www.minsal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www.fonasa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www.worldbank.or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 la Confrontación al Consenso” La Reforma al Estado en Chile 1990-2005, Mario Waissbluth y José Inostroza (U-curs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GASTO PÚBLICO V/S PIB 1998 – 2007 </a:t>
            </a:r>
            <a:br>
              <a:rPr sz="3000"/>
            </a:br>
            <a:r>
              <a:rPr b="0" lang="es-ES" sz="2400" spc="-1" strike="noStrike">
                <a:solidFill>
                  <a:srgbClr val="575f6d"/>
                </a:solidFill>
                <a:latin typeface="Century Schoolbook"/>
              </a:rPr>
              <a:t>($ 2007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571760" y="5262480"/>
            <a:ext cx="1197000" cy="15955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2790720" y="5276880"/>
            <a:ext cx="1710000" cy="1224000"/>
          </a:xfrm>
          <a:prstGeom prst="rect">
            <a:avLst/>
          </a:prstGeom>
          <a:ln w="0">
            <a:noFill/>
          </a:ln>
        </p:spPr>
      </p:pic>
      <p:sp>
        <p:nvSpPr>
          <p:cNvPr id="367" name="8 Rectángulo"/>
          <p:cNvSpPr/>
          <p:nvPr/>
        </p:nvSpPr>
        <p:spPr>
          <a:xfrm>
            <a:off x="2571840" y="1928880"/>
            <a:ext cx="571320" cy="3214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6 Rectángulo"/>
          <p:cNvSpPr/>
          <p:nvPr/>
        </p:nvSpPr>
        <p:spPr>
          <a:xfrm>
            <a:off x="2214720" y="4500720"/>
            <a:ext cx="571320" cy="642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11 CuadroTexto"/>
          <p:cNvSpPr/>
          <p:nvPr/>
        </p:nvSpPr>
        <p:spPr>
          <a:xfrm>
            <a:off x="-214200" y="42116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Schoolbook"/>
              </a:rPr>
              <a:t>20,7 %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12.645.736.000.00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Gasto Públic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286080" y="1357200"/>
          <a:ext cx="5643720" cy="4000680"/>
        </p:xfrm>
        <a:graphic>
          <a:graphicData uri="http://schemas.openxmlformats.org/drawingml/2006/table">
            <a:tbl>
              <a:tblPr/>
              <a:tblGrid>
                <a:gridCol w="4807080"/>
                <a:gridCol w="836640"/>
              </a:tblGrid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edio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O 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 Servicios Públicos Gene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2 Defen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 Orden Público y Segur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 Asuntos Económ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 Protección del Medio Amb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6 Vivienda y Servicios Comunitar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7 Sal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 Actividades Recreativas, Cultura y Relig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9 Edu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Protección So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5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: DIP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16 CuadroTexto"/>
          <p:cNvSpPr/>
          <p:nvPr/>
        </p:nvSpPr>
        <p:spPr>
          <a:xfrm>
            <a:off x="0" y="18572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61.090.510.000.00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I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RRHH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3"/>
          <a:stretch/>
        </p:blipFill>
        <p:spPr>
          <a:xfrm>
            <a:off x="692928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4"/>
          <a:stretch/>
        </p:blipFill>
        <p:spPr>
          <a:xfrm>
            <a:off x="600084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"/>
          <p:cNvPicPr/>
          <p:nvPr/>
        </p:nvPicPr>
        <p:blipFill>
          <a:blip r:embed="rId5"/>
          <a:stretch/>
        </p:blipFill>
        <p:spPr>
          <a:xfrm>
            <a:off x="507204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6"/>
          <a:stretch/>
        </p:blipFill>
        <p:spPr>
          <a:xfrm>
            <a:off x="414324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"/>
          <p:cNvPicPr/>
          <p:nvPr/>
        </p:nvPicPr>
        <p:blipFill>
          <a:blip r:embed="rId7"/>
          <a:stretch/>
        </p:blipFill>
        <p:spPr>
          <a:xfrm>
            <a:off x="321480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"/>
          <p:cNvPicPr/>
          <p:nvPr/>
        </p:nvPicPr>
        <p:blipFill>
          <a:blip r:embed="rId8"/>
          <a:stretch/>
        </p:blipFill>
        <p:spPr>
          <a:xfrm>
            <a:off x="228600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"/>
          <p:cNvPicPr/>
          <p:nvPr/>
        </p:nvPicPr>
        <p:blipFill>
          <a:blip r:embed="rId9"/>
          <a:stretch/>
        </p:blipFill>
        <p:spPr>
          <a:xfrm>
            <a:off x="135720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2" descr=""/>
          <p:cNvPicPr/>
          <p:nvPr/>
        </p:nvPicPr>
        <p:blipFill>
          <a:blip r:embed="rId10"/>
          <a:stretch/>
        </p:blipFill>
        <p:spPr>
          <a:xfrm>
            <a:off x="42876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3" descr=""/>
          <p:cNvPicPr/>
          <p:nvPr/>
        </p:nvPicPr>
        <p:blipFill>
          <a:blip r:embed="rId11"/>
          <a:stretch/>
        </p:blipFill>
        <p:spPr>
          <a:xfrm>
            <a:off x="785808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4" descr=""/>
          <p:cNvPicPr/>
          <p:nvPr/>
        </p:nvPicPr>
        <p:blipFill>
          <a:blip r:embed="rId12"/>
          <a:stretch/>
        </p:blipFill>
        <p:spPr>
          <a:xfrm>
            <a:off x="692928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"/>
          <p:cNvPicPr/>
          <p:nvPr/>
        </p:nvPicPr>
        <p:blipFill>
          <a:blip r:embed="rId13"/>
          <a:stretch/>
        </p:blipFill>
        <p:spPr>
          <a:xfrm>
            <a:off x="600084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6" descr=""/>
          <p:cNvPicPr/>
          <p:nvPr/>
        </p:nvPicPr>
        <p:blipFill>
          <a:blip r:embed="rId14"/>
          <a:stretch/>
        </p:blipFill>
        <p:spPr>
          <a:xfrm>
            <a:off x="507204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7" descr=""/>
          <p:cNvPicPr/>
          <p:nvPr/>
        </p:nvPicPr>
        <p:blipFill>
          <a:blip r:embed="rId15"/>
          <a:stretch/>
        </p:blipFill>
        <p:spPr>
          <a:xfrm>
            <a:off x="414324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8" descr=""/>
          <p:cNvPicPr/>
          <p:nvPr/>
        </p:nvPicPr>
        <p:blipFill>
          <a:blip r:embed="rId16"/>
          <a:stretch/>
        </p:blipFill>
        <p:spPr>
          <a:xfrm>
            <a:off x="321480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9" descr=""/>
          <p:cNvPicPr/>
          <p:nvPr/>
        </p:nvPicPr>
        <p:blipFill>
          <a:blip r:embed="rId17"/>
          <a:stretch/>
        </p:blipFill>
        <p:spPr>
          <a:xfrm>
            <a:off x="2286000" y="1571760"/>
            <a:ext cx="857160" cy="1695240"/>
          </a:xfrm>
          <a:prstGeom prst="rect">
            <a:avLst/>
          </a:prstGeom>
          <a:ln w="0">
            <a:noFill/>
          </a:ln>
        </p:spPr>
      </p:pic>
      <p:sp>
        <p:nvSpPr>
          <p:cNvPr id="390" name="22 CuadroTexto"/>
          <p:cNvSpPr/>
          <p:nvPr/>
        </p:nvSpPr>
        <p:spPr>
          <a:xfrm>
            <a:off x="857160" y="5857920"/>
            <a:ext cx="700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155.942 persona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(promedio 1998-2007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Administración Central + Contraloría + Poder Judicial + Congreso + Ministerio Públic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"/>
          <p:cNvPicPr/>
          <p:nvPr/>
        </p:nvPicPr>
        <p:blipFill>
          <a:blip r:embed="rId1"/>
          <a:stretch/>
        </p:blipFill>
        <p:spPr>
          <a:xfrm>
            <a:off x="5929200" y="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COMPRAS PÚBLICAS </a:t>
            </a:r>
            <a:r>
              <a:rPr b="0" lang="es-ES" sz="2800" spc="-1" strike="noStrike">
                <a:solidFill>
                  <a:srgbClr val="575f6d"/>
                </a:solidFill>
                <a:latin typeface="Century Schoolbook"/>
              </a:rPr>
              <a:t>(CHILECOMPRAS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Picture 1" descr=""/>
          <p:cNvPicPr/>
          <p:nvPr/>
        </p:nvPicPr>
        <p:blipFill>
          <a:blip r:embed="rId2"/>
          <a:stretch/>
        </p:blipFill>
        <p:spPr>
          <a:xfrm>
            <a:off x="285840" y="1585800"/>
            <a:ext cx="6815160" cy="49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4" name=""/>
          <p:cNvGraphicFramePr/>
          <p:nvPr/>
        </p:nvGraphicFramePr>
        <p:xfrm>
          <a:off x="6072120" y="2786040"/>
          <a:ext cx="3071880" cy="291960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 transado 2008 (Millones de US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oportunidades de nego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.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órdenes de com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.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6014880" y="0"/>
            <a:ext cx="3129120" cy="25002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VERSIÓN PÚBLICA V/S PRIVA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4 Marcador de contenido" descr=""/>
          <p:cNvPicPr/>
          <p:nvPr/>
        </p:nvPicPr>
        <p:blipFill>
          <a:blip r:embed="rId2"/>
          <a:stretch/>
        </p:blipFill>
        <p:spPr>
          <a:xfrm>
            <a:off x="0" y="1357200"/>
            <a:ext cx="5786280" cy="350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2071800" y="4714920"/>
          <a:ext cx="4857480" cy="1928880"/>
        </p:xfrm>
        <a:graphic>
          <a:graphicData uri="http://schemas.openxmlformats.org/drawingml/2006/table">
            <a:tbl>
              <a:tblPr/>
              <a:tblGrid>
                <a:gridCol w="996840"/>
                <a:gridCol w="1930320"/>
                <a:gridCol w="1930320"/>
              </a:tblGrid>
              <a:tr h="1006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 de Inversión (M$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 de Inversión (MU$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47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15.099.8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23.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7.512.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17.4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9" name="6 CuadroTexto"/>
          <p:cNvSpPr/>
          <p:nvPr/>
        </p:nvSpPr>
        <p:spPr>
          <a:xfrm>
            <a:off x="5429160" y="292896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Eduardo Contrera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7 CuadroTexto"/>
          <p:cNvSpPr/>
          <p:nvPr/>
        </p:nvSpPr>
        <p:spPr>
          <a:xfrm>
            <a:off x="7000920" y="492912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DIPRE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NEFICIARIOS POR TIPO DE SISTEMA DE SALUD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5072040" y="4643280"/>
            <a:ext cx="3095640" cy="1632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142920" y="4857840"/>
            <a:ext cx="2038320" cy="2000160"/>
          </a:xfrm>
          <a:prstGeom prst="rect">
            <a:avLst/>
          </a:prstGeom>
          <a:ln w="0">
            <a:noFill/>
          </a:ln>
        </p:spPr>
      </p:pic>
      <p:pic>
        <p:nvPicPr>
          <p:cNvPr id="404" name="5 Gráfico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7286760" cy="4714920"/>
          </a:xfrm>
          <a:prstGeom prst="rect">
            <a:avLst/>
          </a:prstGeom>
          <a:ln w="0">
            <a:noFill/>
          </a:ln>
        </p:spPr>
      </p:pic>
      <p:sp>
        <p:nvSpPr>
          <p:cNvPr id="405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A partir de CASEN 2006 e IN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DISTRIBUCIÓN DE LA POBLACIÓN MAYORES DE 60 AÑOS SEGÚN TIPO DE SISTEMA DE SALUD (%)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CASEN 2006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150840" y="1000080"/>
            <a:ext cx="8707320" cy="5229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0" y="5456160"/>
            <a:ext cx="1428840" cy="1401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3"/>
          <a:stretch/>
        </p:blipFill>
        <p:spPr>
          <a:xfrm>
            <a:off x="6929280" y="5691240"/>
            <a:ext cx="2214720" cy="11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TENCIONES DE URGENCIA SISTEMA PÚBLICO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072040" y="4643280"/>
            <a:ext cx="3095640" cy="1632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142920" y="4857840"/>
            <a:ext cx="2038320" cy="2000160"/>
          </a:xfrm>
          <a:prstGeom prst="rect">
            <a:avLst/>
          </a:prstGeom>
          <a:ln w="0">
            <a:noFill/>
          </a:ln>
        </p:spPr>
      </p:pic>
      <p:pic>
        <p:nvPicPr>
          <p:cNvPr id="414" name="5 Gráfico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15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A partir de CASEN 2006 e IN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6 Elipse"/>
          <p:cNvSpPr/>
          <p:nvPr/>
        </p:nvSpPr>
        <p:spPr>
          <a:xfrm>
            <a:off x="1857240" y="3286080"/>
            <a:ext cx="157176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7:03:49Z</dcterms:created>
  <dc:creator>Edacunaf</dc:creator>
  <dc:description/>
  <dc:language>en-US</dc:language>
  <cp:lastModifiedBy>Edacunaf</cp:lastModifiedBy>
  <dcterms:modified xsi:type="dcterms:W3CDTF">2009-07-31T20:56:26Z</dcterms:modified>
  <cp:revision>43</cp:revision>
  <dc:subject/>
  <dc:title>Clase Nº1: Importancia del Sector Público en el Desarrollo de Chile</dc:title>
</cp:coreProperties>
</file>