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D63F-43F0-43CC-BF35-DE008F9D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7F9-1539-4944-BA2B-8E6B21D9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08A-EC7B-4209-A57C-7B7396AA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17A5-09C3-4126-8C15-24C51FFE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00C-06F8-4CBC-A934-AC170D67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D9F-78CE-45AD-B434-F75A624B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1A4-BB22-4DBC-8878-04A0E38F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322-841A-426D-B693-B6F1F4D5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B59F-9CE6-4058-BA30-35E3E248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47EB-BBAF-467E-9E94-9B7AA76D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117-2885-464B-8DC2-D8A031E2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D8BB-EC96-4C71-B29F-445F812F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C1C4-8620-47C4-9282-A34C387892F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Line 6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6095880" y="1143000"/>
            <a:ext cx="213372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6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0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2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6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Text Box 10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 Box 14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Text Box 16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Text Box 4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Text Box 6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Text Box 10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4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Text Box 7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2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6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1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3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6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7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8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1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2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3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6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Rectangle 5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Rectangle 7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Text Box 6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5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Text Box 5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Text Box 5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Text Box 7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Text Box 6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Text Box 8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Text Box 4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Text Box 7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026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027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28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29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30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31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32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033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4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8"/>
          <p:cNvSpPr/>
          <p:nvPr/>
        </p:nvSpPr>
        <p:spPr>
          <a:xfrm>
            <a:off x="2819520" y="2514600"/>
            <a:ext cx="3581280" cy="32004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9"/>
          <p:cNvSpPr/>
          <p:nvPr/>
        </p:nvSpPr>
        <p:spPr>
          <a:xfrm>
            <a:off x="2362320" y="3048120"/>
            <a:ext cx="4952880" cy="2133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2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5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6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1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Line 7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Line 7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6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2057400" y="1752480"/>
            <a:ext cx="3581280" cy="2667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2057400" y="1752480"/>
            <a:ext cx="2286000" cy="2133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6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7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0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13"/>
          <p:cNvSpPr/>
          <p:nvPr/>
        </p:nvSpPr>
        <p:spPr>
          <a:xfrm>
            <a:off x="2057400" y="1752480"/>
            <a:ext cx="1523880" cy="2895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4"/>
          <p:cNvSpPr/>
          <p:nvPr/>
        </p:nvSpPr>
        <p:spPr>
          <a:xfrm>
            <a:off x="2057400" y="1828800"/>
            <a:ext cx="1219320" cy="274320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2057400" y="1752480"/>
            <a:ext cx="274320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16"/>
          <p:cNvSpPr/>
          <p:nvPr/>
        </p:nvSpPr>
        <p:spPr>
          <a:xfrm>
            <a:off x="2057400" y="1676520"/>
            <a:ext cx="2514600" cy="335268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7"/>
          <p:cNvSpPr/>
          <p:nvPr/>
        </p:nvSpPr>
        <p:spPr>
          <a:xfrm>
            <a:off x="2057400" y="1981080"/>
            <a:ext cx="4876920" cy="32767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18"/>
          <p:cNvSpPr/>
          <p:nvPr/>
        </p:nvSpPr>
        <p:spPr>
          <a:xfrm>
            <a:off x="2057400" y="2895480"/>
            <a:ext cx="5410080" cy="243864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9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20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21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5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6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7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026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7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9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8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12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15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18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9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0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1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Line 2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3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5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7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26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7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8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29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30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1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33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34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36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7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8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0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41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2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3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AutoShape 46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ext Box 5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Text Box 7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9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Text Box 11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Text Box 8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Text Box 6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 muñoz</cp:lastModifiedBy>
  <dcterms:modified xsi:type="dcterms:W3CDTF">2009-10-05T13:34:01Z</dcterms:modified>
  <cp:revision>55</cp:revision>
  <dc:subject/>
  <dc:title>Sin título de diapositiva</dc:title>
</cp:coreProperties>
</file>