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433-9301-4BC9-A508-68DEAEE7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01C-C221-468D-955B-AE56D535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B1E-A832-4B46-9A51-B7BACDFC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1F8-75A9-4D68-A99E-2C2E8021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1D9-DA91-44C8-BBB9-D2489B75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3614-4E33-4194-B5C0-F79475BE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2CA-2C43-4D03-BE79-6351C019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13A-B1E5-43E8-BB65-39E8A2C9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65D-13BF-4A64-8E67-1ADD9A62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AFC-C3F3-46F1-B172-B249802A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58B-B286-4D40-8D17-107DF83C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BB2-E627-4EC6-8349-0344F3A5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7545-5747-4C08-96EC-E40653C2DAD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Line 6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6095880" y="1143000"/>
            <a:ext cx="2133720" cy="1600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6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6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9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Text Box 10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Text Box 14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Text Box 16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4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Text Box 6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Text Box 10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Text Box 7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6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9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Text Box 6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Rectangle 5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7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Text Box 6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Text Box 5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Text Box 5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Text Box 7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Text Box 6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Text Box 8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Text Box 4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Text Box 7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026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27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28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29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30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31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32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33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2819520" y="2514600"/>
            <a:ext cx="3581280" cy="3200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2362320" y="3048120"/>
            <a:ext cx="4952880" cy="2133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2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6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1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Line 7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7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6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2057400" y="1752480"/>
            <a:ext cx="3581280" cy="2667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2057400" y="1752480"/>
            <a:ext cx="2286000" cy="2133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6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3"/>
          <p:cNvSpPr/>
          <p:nvPr/>
        </p:nvSpPr>
        <p:spPr>
          <a:xfrm>
            <a:off x="2057400" y="1752480"/>
            <a:ext cx="1523880" cy="289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4"/>
          <p:cNvSpPr/>
          <p:nvPr/>
        </p:nvSpPr>
        <p:spPr>
          <a:xfrm>
            <a:off x="2057400" y="1828800"/>
            <a:ext cx="1219320" cy="274320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2057400" y="1752480"/>
            <a:ext cx="274320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6"/>
          <p:cNvSpPr/>
          <p:nvPr/>
        </p:nvSpPr>
        <p:spPr>
          <a:xfrm>
            <a:off x="2057400" y="1676520"/>
            <a:ext cx="2514600" cy="335268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7"/>
          <p:cNvSpPr/>
          <p:nvPr/>
        </p:nvSpPr>
        <p:spPr>
          <a:xfrm>
            <a:off x="2057400" y="1981080"/>
            <a:ext cx="487692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18"/>
          <p:cNvSpPr/>
          <p:nvPr/>
        </p:nvSpPr>
        <p:spPr>
          <a:xfrm>
            <a:off x="2057400" y="2895480"/>
            <a:ext cx="5410080" cy="24386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9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1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026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9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2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15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7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2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6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7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8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9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30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1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33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34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7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8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9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0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41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2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3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46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Text Box 7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9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 Box 11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Text Box 8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6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 muñoz</cp:lastModifiedBy>
  <dcterms:modified xsi:type="dcterms:W3CDTF">2009-10-05T13:34:01Z</dcterms:modified>
  <cp:revision>55</cp:revision>
  <dc:subject/>
  <dc:title>Sin título de diapositiva</dc:title>
</cp:coreProperties>
</file>