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A96F-E24F-41D5-B1BE-2019C4CFF8E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2226-18FB-4B2D-BF5C-A0B0BE0744A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C0B5-7546-46DC-8D73-D525EE2E2B9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CB83-A94B-4C6F-B8B9-B2B2F92B5EC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F4DF-B79E-4CF0-8BE2-C0E488E5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7B31-E448-448C-97E7-2A83B9AD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5D5B-7AC9-4C31-A700-53D8F3EF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DC61-9D80-4582-9B67-609296D1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7FAE-4476-4EAB-A34A-F2817880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80E7-A021-4739-A4B3-8345FE13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509E-4E06-4886-B6A3-83DFFC93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3990-2E6C-4869-AB84-82DC3C4E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8955-7AF7-49EE-8874-C530FCBA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B903-871C-487D-8358-61240CB8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B3BF-D4D9-451D-9327-5433DC57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2349-D851-4F4A-9ECD-90F22301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9E4C-F758-45F9-AB81-8C99CC1F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E5EE-9054-4BD2-B6D9-C10DD59B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BD9F-83B4-4612-A10A-72B6487F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9644-5149-4260-B322-D4531A2E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A1BB-DDEC-4F1C-8B9F-C630074F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3C754-758B-4193-BD76-DF63A6D7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020D4-098D-4948-A9A6-964EB4B3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36E31-53F3-46F0-A184-A69FAC8A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0D1D9-F8C9-4DA9-9FDE-DC2A29CD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F51DE-3C08-4E20-A1FC-CCFCFAFA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72EA-7EA1-4FBD-B342-CB2E5BD6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B5572-BCD8-4577-939F-21F4F845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268AC-890A-4DFD-BCE9-8F12C6F6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0183F-8525-4D2D-815C-5B974AC7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F1275-76C1-41BB-8402-2B7FF28F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AE91D-B5DF-45D2-B029-C7FA8F53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5A6FA-1E09-4132-A394-C5548EA9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79D50-23FF-4DAE-9A6A-8CD341C4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CA2A6-33C3-484D-9C1F-D91C015A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C1D2B-029A-46D0-BB29-47F1F0FF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1EE7E-A5A8-4111-95A1-610A6BCE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6CDF-CBBA-497B-87D1-1E7332AD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D8B05-C3FB-4C06-AA0E-B60D87EF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F349F-301B-40A0-9D28-F2A2DE0E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0AE5E-0B4B-4D6B-BB7A-7A94DFF4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8457A-4289-4DFC-95E9-8CEB1891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0A3E6-C681-4F44-9C64-ED9B1AC5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8FA09-F015-4632-A1BA-169BF21C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D3CFF-6B98-4285-8CC4-8BC58D0D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DD8C2-F82C-492A-A54F-AB0B06D8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C5D73-ED98-44D9-847B-8C81E5AFB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C878E-9AB9-4250-A20F-9187B7E9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BFCD-252F-46A3-8790-57825471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F282E-6DC0-4B47-89A5-9A75B416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87C7F-9F1D-4066-9B6A-BDB2E845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7822C-A22D-4E3B-864F-E90639A1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6DED9-0144-41CB-9CD0-B8E79F2D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73F87-D148-4E99-88B9-C4A129DA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1EFBC-0F78-41FD-848C-91AB3B7F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3C138-3853-42B1-8AE8-AE1BB759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9E10C-F472-42A3-BD42-7E77EA78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299B1-391F-43B1-AEAE-6CD44C58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94203-85F3-4672-BAEF-FB6E58A4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04DB-5CE2-422D-9927-CEA4BB89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FCE4D-C3DC-427E-B32E-7BF811E5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8C723-07B0-410F-8CA9-E7CEFF6E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125D9-06AC-48F3-8C5D-CBCA5C9B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C6FC9-21D4-4B54-B0C5-3D17E490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C2504-C984-421F-A887-90A64BF4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9DB80-465E-46A3-B130-A1AF7475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AB84F-06CE-4342-B739-EC81C048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4B789-DCC4-4AD9-996D-EAFFA2CD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E0159-689A-4798-A045-3ADE6BF8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79BC4-2CF0-474B-A3F2-6DC68471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38E4-12C2-4C4E-94AC-C7BE9710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8CCE6-B4F7-48F6-8A16-4B498C1D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A0D65-D8F8-4AF5-9D55-1CEDBB48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54E8A-4EA9-4800-BA58-FD9381A6B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493B0-9B2D-471E-B311-46B6269F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62F5F-2A05-401A-BDBD-829F9CEF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43095-64C2-4911-9D30-B4BF62F5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304F9-398A-4704-84B8-043E1B53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48FF4-BDB0-4160-A381-24A7E9D2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4E081-85FD-44CE-91A9-88F54C22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98BEF-983E-429C-88C5-8E906CC2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D7C-0839-40B6-A898-12C8E7BD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B1FC5-4FDE-4777-8CA5-BEDE3BB0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7C684-A691-4034-BEDE-0AAF1A39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B22E7-1E7A-440B-AB40-1B2BA52A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04F15-9D91-40AC-95FE-F8132B31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76F17-A1B2-4FF2-BAA2-29F586CA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BFA7-9754-4F69-985C-1DFBB30D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9273-3BC7-4315-95DD-782EBC4B67C7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0226-BB2B-4DF6-9CAE-A4D7088F960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EE38-0BF3-4A76-B2D7-E1D38DB945D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1884-810D-4BDC-9529-32CC98131A2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0B88-4DA5-4AAC-8720-302F88F5A94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D273-FA5C-4A77-AFC0-D22BE787E04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AC1C-DF08-433B-846F-CE328BA79B8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7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35720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Partición Modal: Modelo Logit Multinomi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 Explorar propiedades del modelo.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Calcular elasticidades, hacer un análisis de resultados e interpreta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alcular la elasticidad cruzada de la probabilidad de elegir auto chofer con respecto al tiempo generalizado del bu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Realice el mismo cálculo pero con respecto al costo del bus y con respecto al costo del metr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ara evaluar las elasticidades utilice una estimación de los valores promedio para las distintas variabl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Tenga en consideración que los modelos están calibrados para el año 2001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i es necesario haga los cálculos para los cinco estratos existent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Haga un análisis detallado de los resultados de las elasticidades y de las elasticidades cruzada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Interprete y saque conclusiones de acuerdo al análisis realizad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ara desarrollar estas actividades es fundamental hacer una buena comparación de las elasticidad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16000" y="16282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7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cálcul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 la nota del taller se considera puntaje por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 partir de los datos obtenidos de la encuesta Origen-Destino 2001 se calibraron modelos de partición modal para la ciudad de Santiag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a población fue estratificada en 5 categorías de ingreso cuya segmentación es la siguient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Picture 5" descr=""/>
          <p:cNvPicPr/>
          <p:nvPr/>
        </p:nvPicPr>
        <p:blipFill>
          <a:blip r:embed="rId1"/>
          <a:stretch/>
        </p:blipFill>
        <p:spPr>
          <a:xfrm>
            <a:off x="1268280" y="3857760"/>
            <a:ext cx="76042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A continuación se detalla el modelo correspondiente al propósito trabajo y período punta mañana y también se muestra la partición modal observada de la encuest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La notación utilizada 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M: punta mañan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FP: fuera de punt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Las variables son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1928880" y="2214720"/>
            <a:ext cx="61675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1714680" y="1214280"/>
            <a:ext cx="55004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2 Marcador de contenido"/>
          <p:cNvSpPr/>
          <p:nvPr/>
        </p:nvSpPr>
        <p:spPr>
          <a:xfrm>
            <a:off x="1285920" y="4786200"/>
            <a:ext cx="73580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1143000" y="1500120"/>
            <a:ext cx="75009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2714760" y="1071720"/>
            <a:ext cx="52038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2000160" y="1176480"/>
            <a:ext cx="686268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alcular la elasticidad de la probabilidad de elegir un modo con respecto a la variable costo del mismo modo y la variable tiempo generalizado del mismo modo. Esto debe realizarse para todos los modos posibl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alcular la elasticidad cruzada de la probabilidad de elegir bus con respecto al costo del metro y con respecto al tiempo generalizado del metro y del automóvil (auto chofer y auto acompañant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10-02T17:43:26Z</dcterms:modified>
  <cp:revision>80</cp:revision>
  <dc:subject/>
  <dc:title>Taller I CI43A</dc:title>
</cp:coreProperties>
</file>