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1BB3-C311-42C4-A8BA-8CF34DC6B4F5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B768-0A52-495C-A8AE-6EFCBBE2E4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57A-934A-4418-8053-F5A2383689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144F-E744-4A6F-B482-33C4AAC992E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8DC-AEBA-4018-85C0-47E01A1B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112-1F5A-469F-8E3E-A8580FC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918-1659-4999-9C4F-30D307E0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B8A-E002-4175-9E92-07214A5C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8F69-5FF6-4949-9D93-FBA0E9EE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376-BF53-43E0-BBEA-931AF2A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0886-1841-490F-8D8F-07C73ECA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562C-7EEC-42E7-9A70-A41A7D5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1CE0-94A8-4191-B53A-29E14844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D76F-D586-44B5-95DB-3DB29E5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6B6-279E-490A-AE38-1FD6F01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E318-A234-4D55-98FC-DDF510B1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9B4-F3B6-469E-B3F6-FD5A75D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3914-5F59-49F1-A40D-95897F4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E61-74F9-4D72-8580-DEC73A5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BE6F-8D39-4BB7-BB60-EC2E7A73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67A-7CA1-4982-84D7-25AF579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7A05-6E45-4272-BD7E-EEAA48BC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DAE4-F65A-417A-8222-75107DAB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27C8-9711-47A8-AC86-738A5F70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C6088-4E05-486B-80B9-697D8C4B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BC68-161E-473F-8AB1-CD0A487D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FE3-9B30-4216-B16E-FAF218FC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B653-3980-4F62-90CF-EEE9582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B068-BAA4-44D4-8F4A-1221709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CCAC8-A42F-43DF-80E2-238BF6D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4293-DA81-4450-AC6E-AD498FE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825F-D1F1-4481-83ED-E934C1B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6EF9-088E-45C8-AA57-800FC829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D034-6B17-42C5-A84C-B9C2F06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FED1B-78AB-4310-946E-F829B65F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094F-30C0-44EC-A280-E6ADDB2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C150-4FBD-4FB9-8C30-80C2C474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00A-A1C9-4EBD-85BA-3D1C91E0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1D47-B62E-4173-A0F7-150EA4F5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4D724-669F-408F-9F18-563CE544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FB71-0F7A-4D1C-9D63-2D31612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75A67-901E-42FC-98EB-2392FFF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2473F-336F-45E2-B4C1-24A6E785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EFF3-747C-4F3C-A270-0D98F0F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30392-60CE-4505-9081-3554BB85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77F5E-EABA-415D-A5EF-66970DE96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CB02-D8C7-44CF-8F0A-BE034122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91EC-7F8B-4211-81C8-4B34FEB5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5A0-F0CE-4EAA-BE4F-467F66B1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F4855-8E84-41C6-8015-96DECA1E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8399B-BE9E-44BC-907E-C93436B7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97FC-57CF-4127-B691-6F7DF6B5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ADCD0-8B11-49A5-8E4B-CA2DCA6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F5777-6FF9-46EE-82C5-5622E318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46D9-0D3C-447F-944A-C2D84DF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BC2E2-455F-4E0A-8EBE-6A5BFB4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EF175-F96F-4F66-96DB-31FD6E5E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6BFB-4718-43B0-9EB1-F034F02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BCEB-2296-4EA4-AF72-3AE6630C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648-ABCA-4704-854C-3FDC5078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D232-7F11-4DD9-863D-AD4C0C27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18E6-5F64-4366-922B-0971FE64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54410-CCB4-422F-8B8F-8D9B4ED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F831-7FE7-4846-9DF6-CACF2682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87DA4-79A7-4D86-9B2F-047D147E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EF912-5541-4CDB-9E18-DDED246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D5DD-7FD6-4C47-9753-8A68A5F6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5F37A-7474-4943-B5EE-A62D9222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FF03-591C-4106-8EFB-78E0C1C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516B2-2AAF-406A-B0B0-376C3649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D58-81BB-4EF2-81A9-B66CCEF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B4A9-B9EC-4CFB-B7D2-C7E2066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8AA26-0A3C-4E78-863F-83E02994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856F7-D4E1-49F5-B7E8-BB5FE433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20A37-9976-4E9D-9007-08FEED1C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0576-26C4-4C85-A60E-7E27F2CA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B16A-28F6-4B33-87A5-4D9CDEB5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B8DFD-CE63-432D-ADFF-37B5AE5A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C4F58-D303-4137-B356-A02AF09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1152B-E72B-45FD-B050-BDC1444A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42A77-FA80-446F-8378-0487B89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2FE6-EB15-4F1F-AA41-0855A06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8587-EE5A-48EE-99F9-1C0E9502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8803-BDCF-423B-B609-FB871149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F2B14-1998-4E01-9007-D0662A6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6563F-9F6A-4C09-9F9E-B4A981EF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4EC0-06DC-4CAA-A455-18E44D82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B2D-39F4-4D8E-9AE8-9F948CE2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720-3037-4792-844D-7421FEC34D8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3D49-7AEC-4F07-8CC3-B7F345DE74F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D48B-BEF6-4DEC-A4B2-444E80C2BF7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C77A-9A82-4D56-8F3F-A20CFE97A1B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FC0A-82F4-403D-8452-FF6D2AD408A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24D8-F2F7-4AF3-B66C-604A153F0E35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5E23-59F2-457F-990A-AD06848DB34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7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Calcular elasticidades, hacer un análisis de resultados e interpreta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auto chofer con respecto al tiempo generalizado del b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alice el mismo cálculo pero con respecto al costo del bus y con respecto al costo del met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evaluar las elasticidades utilice una estimación de los valores promedio para las distintas variabl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nga en consideración que los modelos están calibrados para el año 2001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 es necesario haga los cálculos para los cinco estratos existent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Haga un análisis detallado de los resultados de las elasticidades y de las elasticidades cruzad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terprete y saque conclusiones de acuerdo al análisis realizad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ara desarrollar estas actividades es fundamental hacer una buena comparación de las elasticida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partir de los datos obtenidos de la encuesta Origen-Destino 2001 se calibraron modelos de partición modal para la ciudad de Santiag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población fue estratificada en 5 categorías de ingreso cuya segmentación es la siguien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268280" y="3857760"/>
            <a:ext cx="7604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 continuación se detalla el modelo correspondiente al propósito trabajo y período punta mañana y también se muestra la partición modal observada de la encuest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 notación utilizada 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M: punta mañan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FP: fuera de pun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Las variables son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61675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5500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5009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714760" y="1071720"/>
            <a:ext cx="52038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000160" y="1176480"/>
            <a:ext cx="686268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Actividad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de la probabilidad de elegir un modo con respecto a la variable costo del mismo modo y la variable tiempo generalizado del mismo modo. Esto debe realizarse para todos los modos posib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lcular la elasticidad cruzada de la probabilidad de elegir bus con respecto al costo del metro y con respecto al tiempo generalizado del metro y del automóvil (auto chofer y auto acompañan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10-02T17:43:26Z</dcterms:modified>
  <cp:revision>80</cp:revision>
  <dc:subject/>
  <dc:title>Taller I CI43A</dc:title>
</cp:coreProperties>
</file>