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E04F-19DC-40ED-A1BB-E4697B0AE94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ED1F-C5C0-4AD8-BD7A-825B077F2A2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48D9-29D3-4D37-AC27-229E1D09A10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1AE-340F-4C83-97EB-27C472B2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957-5A53-4F73-AB5D-75098249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5D6-760D-4659-A71C-5E330EBF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BC3-9899-48D0-8519-494D9771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F9EC-07A3-4399-BAB4-E3BF296F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C2BF-3944-4229-8E8D-EBC722CC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C471-CF73-4353-9B43-750FB8F8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F488-15DE-4D23-B250-19720BE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39B0-CD8C-475C-B6B1-0D625254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5855-7FD7-4E12-971B-8D86F6C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98D7-9F12-4466-979E-8E02F3C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39A-6C0C-446E-B677-4B8B091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6DE2-FD7B-4802-837F-CB5DB858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BD2C-8065-424C-A6EB-F38FE691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6F82-9230-4AF2-A4F2-0F8754DE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CA91-F8C0-46BA-B17B-6F6088C0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D7C2-2AAE-4481-A4B6-B5F91501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89C8-2168-41A5-83ED-570D843B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1003-2B49-462D-A26F-B8AAFEC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C9BF-9148-4E6D-9E1C-BB0017B6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32DF-21D1-4127-9D6C-10D529B0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83BA-66AE-4917-BF66-1BF49256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860-1E53-4D4A-8222-F73807DC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4361F-6867-4038-9151-DCA18D4D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D7FF7-F40D-4EE0-A355-6B997CEB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5C68-627C-438F-8871-E6151AF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785B-B01F-40EC-B8FD-362893D6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9A15E-D0B9-4CF1-878A-7E4E2BA0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EA6D8-923B-4B3D-9E1D-9E90C260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68D3-BF11-4E05-B110-61BEDAE4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7755-1170-4B43-A3E5-E78AD722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8CF9-3516-4F44-9BA9-BCA9E79A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69DB-7916-443E-90ED-263C9DC9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129-D145-4BC5-8441-73C6746E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2674-FB2E-4AB0-AFE1-5208E518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F5118-A170-477A-90CC-159EBACF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13D6-FFCB-485A-90DA-B7ACC44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FF51-1B1B-4D99-AD94-2DE21D9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314DC-C188-4AF4-B6D2-756C812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D5A2-A42C-4C20-AA42-A3387632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2595-FBB5-41A4-95CA-42E6F5A0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8CC0-05E7-4979-B70A-F50C3306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9BB3-4FA0-4EF5-97B0-2E7569E0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B290-86B8-4F3A-80AA-1B5779BE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33C-4188-45F8-80EE-2B46470B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5B31-7E9D-425D-B6F3-E039E7CF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1D33-BBDC-48FD-B574-4BB5D3D7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07DB-9F74-494F-A6E3-A7F98755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8F43-CDF9-42AA-AC23-30A08E3F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B34BB-D3BF-4D57-B1D3-5184DAE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2C405-DBE5-4344-A384-65189F4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6F74-B945-4234-9223-D9E91D8B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A1517-46E6-4E09-8FEA-EE62B583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E89DA-D0D8-46CF-8BD9-DDB82622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68CD4-70EA-4965-92B1-A813FC87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637-FA69-48FF-9AF6-0600AD6D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704FA-4259-4E4A-B70E-03DD8EFE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18AC1-0622-4AE5-9490-FBCAA37F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8F71B-C4D1-4A12-9DE9-A2D1D92B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A9728-DF74-4EE6-97BA-212067B0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ECBE1-F281-43DD-8D47-05DF8510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66690-B541-418C-B261-94ED6C9F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D023-5BB1-470F-B7F5-EBDEBEF6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1532-73D9-4848-A906-428A193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FEA2E-D3E6-43C3-B862-C3D7B0D3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BC32C-C848-4884-916A-3429D6B2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709-518F-4F94-AFE6-F9A0BC9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6FF96-F39A-4331-B4CE-C52D001B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01B9-BF04-4FBE-9A2E-1330D79D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FCF67-C557-46B9-824E-BCD29BE1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6C76C-AA92-4DBD-AE0E-8835B0DC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A06CD-36CF-4C50-B7D2-D2B39F19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4B6E8-B863-4BD8-A116-EF4A7435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AB58C-8DA9-43F0-85B4-98EF5C5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3E2CF-E8C7-45EC-8D7B-F5FE05F3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46579-76AF-434A-9C5F-D5778A58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F8BE5-71F2-4E91-A6B0-0778901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C8E-FA7C-4F91-9A93-2B51E794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EEEF1-2E4E-4CD8-84A1-2F3C8121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6602-2258-4E78-AAC4-2E2E1F7F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691EA-646F-412D-9695-00BBEDFC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8AA61-349B-4B46-B79E-87D35757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038CD-C3D9-40D3-8E00-A5BC6A86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3D5-795F-4A1F-949B-437663B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E8B7-FCC1-4882-9322-55E7BDC3A9B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919-4FDE-49C3-96AE-EE46E32AB42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CFD1-7D29-4BB9-9A69-F565F3757D6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2D64-495A-4A09-9D33-38B7E7FED09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6A92-84F8-4F95-9589-0EBBC653D65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B82B-4577-4ADF-ADC5-621EDC516CC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97D6-2AB0-415F-9195-A24CA425EF6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as constantes modales de las funciones de utilidad especificadas. ¿Qué significa que la constante de un modo sea mayor o menor que la de otro mod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23T16:29:33Z</dcterms:modified>
  <cp:revision>61</cp:revision>
  <dc:subject/>
  <dc:title>Taller I CI43A</dc:title>
</cp:coreProperties>
</file>