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80B-EE98-4E4A-85C8-A1A41AA8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745-4922-4567-B6A9-E5EA7F5F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64BF-CD83-4AAC-BCE6-1B92D792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969-E780-4EDE-B263-5781A107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41D4-33A9-4CF7-9E99-33F6B604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167-01E6-4B7C-8A9B-D6DC03FC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EDF-4081-4A93-9965-82DF05C2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789D-B560-4822-9331-E0AA0007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61B-028A-467F-B9CB-4D696B2A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540-FD49-4ACD-A883-C4447D1C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5C5-ACC1-4CA4-B484-78E6E613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F12-190B-4AC9-84DD-32F3C452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9B53-5CC2-4C2F-8EE7-788315596F2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7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8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0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1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2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33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4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5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6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1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4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5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7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8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0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1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5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Text Box 12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Line 5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7"/>
          <p:cNvSpPr/>
          <p:nvPr/>
        </p:nvSpPr>
        <p:spPr>
          <a:xfrm>
            <a:off x="3505320" y="2514600"/>
            <a:ext cx="4343400" cy="322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4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0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Text Box 5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Text Box 9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7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Text Box 10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Impacto de la partición modal en el desarrollo de la ciu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9640" y="2276640"/>
            <a:ext cx="8425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qué tipo de ciudad quere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para qué queremos la ciud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hacia qué tipo de ciudad nos estamos movie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se puede hacer algo disti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729560" cy="234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4751280" cy="249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2627280" y="2852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Informe Ejecutivo EOD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305193596_5e0105ba07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832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rId2" action="ppaction://hlinksldjump"/>
          </p:cNvPr>
          <p:cNvSpPr/>
          <p:nvPr/>
        </p:nvSpPr>
        <p:spPr>
          <a:xfrm>
            <a:off x="8317080" y="638172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1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AutoShape 12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3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Text Box 12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8" name="Text Box 9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13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" name="AutoShape 11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 Marcela Munizaga</cp:lastModifiedBy>
  <dcterms:modified xsi:type="dcterms:W3CDTF">2009-09-11T15:12:03Z</dcterms:modified>
  <cp:revision>74</cp:revision>
  <dc:subject/>
  <dc:title>Sin título de diapositiva</dc:title>
</cp:coreProperties>
</file>