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F24-C9C1-4581-A4F9-953679BB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16A-ED46-46D5-B0CB-AAC588F0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E44-086C-4B4D-8C5F-BE08F39F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4B7-A475-4BB9-9A05-B54AF06B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EAD-30C5-4664-89A9-A85B1D63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200-4BAB-485D-99C0-B257FE19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9AD-95CB-4789-B675-BAF30B0F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3A4-D5B6-44AE-B290-25B24867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270-75E0-4E4B-A1E6-117FF19A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6FC-EA8F-4111-B9A7-68F75F63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46B-6553-4506-884E-B529BC03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22F-B6CC-4F9B-939C-CD566D1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7BF5-8353-4CE2-B961-3B460FFBACF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12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Line 5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3505320" y="251460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Text Box 9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7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Text Box 10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Impacto de la partición modal en el desarrollo de la ciu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2276640"/>
            <a:ext cx="84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qué tipo de ciudad que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para qué queremos la ciu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hacia qué tipo de ciudad nos estamos movi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se puede hacer algo disti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29560" cy="23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751280" cy="249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627280" y="2852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forme Ejecutivo EOD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305193596_5e0105ba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1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13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AutoShape 11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 Marcela Munizaga</cp:lastModifiedBy>
  <dcterms:modified xsi:type="dcterms:W3CDTF">2009-09-11T15:12:03Z</dcterms:modified>
  <cp:revision>74</cp:revision>
  <dc:subject/>
  <dc:title>Sin título de diapositiva</dc:title>
</cp:coreProperties>
</file>