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93B2-BD63-42F4-AC3E-DC21913432D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9BD9-AF23-494E-8CCE-E41756FCA6D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937C-E77C-4064-8741-303445EC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8CE8-FCDD-4B09-8D5E-AF29A2FB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352B-09C2-48B9-9697-511B7818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FD0F-AF54-4F6B-9AA0-F53A516A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432B-0C39-4B36-96B3-B457AAE5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97FF-F843-4C85-BA4B-B3574478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3B71-E486-47E4-AFCC-0803F358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6C47-E379-4A47-82DC-D44FA1DA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943B-83B2-4BCE-A247-1372920F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F26B-571E-4FA6-804C-B691C2F8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DB99-20EC-4DAC-888E-2B5FF53D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56E0-9D02-4816-BC4B-AF71E428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DEBB-5530-4939-A215-99FF701D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593C-9A59-43D8-A96C-F55F3311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D6C1-BC3E-4D4C-B4FF-7F9FB861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DE48-3047-4FA2-AD62-B076410F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D4F2-7301-4B5A-A587-83B25F9A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6C7AC-2846-49EB-8577-D13B3965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977D9-0CBC-451D-8C67-8B99549A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0299E-A383-47DA-93DC-152683AE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857F8-ED44-4F5A-B02F-779AC3E1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4733F-5558-44A9-917E-445F3BF8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E31E-9A1E-4674-8F30-2233B42A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A7625-A7BE-4B56-80EC-C3F8DFBF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4541F-77D7-400B-A012-523F54C3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199B1-3B61-4884-9642-B3CCE18B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CDAA6-9403-4006-8447-D02DBEE9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A2C5F-0DA4-4A9B-90C5-C79D43EC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7F690-930C-4753-B67A-0CDAF936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96260-E61B-4F5F-9A79-0A537FC6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0F600-22E4-4864-899F-051E05EC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F7C49-FDE7-4A6F-BBC6-A1FBD766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40698-0483-462A-9DB3-11793082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0E9D-3976-4299-8FB2-01E63824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780AA-6B2C-4F2F-B3CB-95220354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7484E-70CB-4DE4-B652-E4767695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3EB4C-9058-4FC4-B1CF-4FC1FA5D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81267-3B56-4D24-BF14-0F786433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2EDCE-92C8-46D3-86CB-C67EB111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C24DF-747B-42F7-9E3C-3C42DF29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5D324-9D3B-48A0-857F-8B76988F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76F49-B61A-4442-A356-2E768125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E1B2E-CB9F-43EE-BBB0-F53B04AD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704F0-2DBC-4F6A-A321-17623852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3619-E109-4A42-893C-9FC4D7C2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FB0D7-D6FF-4A32-BBFC-EAC37532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03E97-E419-454A-9713-81A286A1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58137-4F04-4B88-AF41-FA40B778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C0D36-A7F0-480E-96FC-2DC77ED5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ABD75-6DD7-491A-A938-085B6A4F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A5D02-4CBA-43B6-A16A-111D6785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3DB3A-4DF2-402A-9E66-94CD4B03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C87A0-9919-42AC-80F6-224EAB29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9CC60-CB56-40A7-AB78-8E8D5891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C7CFE-B4C7-4A26-A637-82F48C31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BB71-6F79-4C9C-897C-B61C469D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FD72D-0F69-42E4-B2DC-9E116334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4E202-B8BE-4E95-957E-D12D8C5D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E0FED-55DC-4A92-B9B7-6542D868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FF7B8-1358-4B50-AE54-53085F81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3399E-95E3-4E5D-A785-454BB0AE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86405-65FF-402A-8994-5255AD36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1CFE4-B4B5-426E-BEAF-5E691747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DD461-3DCD-4A33-92C6-AE4743A9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398C0-8A12-46F6-9AF0-4F890060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79B85-9874-48C9-AAAE-2E4C2481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18F7-51B8-4EDB-8D4B-CDA72701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7DC32-18CF-4E3F-8982-20BAB3E7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FFB9D-899F-4EEB-BB7C-F4BD336B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156A9-1E51-495D-90B6-65AFE38D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67E0F-83C0-4CBB-BB68-C99BCDF1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3291C-D246-4070-932F-0A58B5E4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DEBED-59CD-444A-9E25-993FCDF6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654D3-0017-4AF1-B1F5-43C0FC3B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66860-EB30-4D6C-9A51-D5635711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89707-3F41-417C-B13A-60525057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C523F-8C29-420E-BE12-7055178D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E4A8-10E4-4D5C-8002-65533986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4D5F8-38AA-48EC-9C45-070473B4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7F67B-D6B4-4A96-B2DE-9B647352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4D893-1436-4A1D-AB6D-10FF982C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38CB2-CF9B-4A6E-8358-EDDFA853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6BC11-2A85-438C-9D61-A02D0B9F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CD3E-4E2E-4396-922D-FC4251D8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FA9C-2291-48DB-8CC3-7EC598583068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FA79-4C53-4EAC-B3C0-D9FBD82DE48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51AD-95F9-494D-AA9B-C28847A03EB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F2FE-6C66-4B11-B0DB-D185A21D036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2078-962A-434C-B65C-CC4DFC46F73E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ACCF-1DCD-4ECB-897C-4BE87C1708A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BC7E-2BD9-4339-967A-694BCABECA6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5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64448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istribución de Viajes: Método de Máxima Entropí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alcular los parámetros del modelo y realizar estimaciones futuras de la matriz origen-destino utilizando una matriz a priori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28480" y="18568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sea predecir la distribución de viajes para cierta ciudad intermedia de Chile dividida en cinco grandes zonas. Se tienen los resultados de una encuesta origen-destino para dicha ciudad, de la cual se extrajo la matriz de viajes, y además una predicción de la matriz de costos generalizados y de la generación y atracción de cada zona para el período que se desea predeci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28480" y="1447560"/>
            <a:ext cx="7429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Plantee el problema de maximización correspondiente a máxima entropía doblemente acotado con restricción de costos y con matriz a priori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Resuelva y encuentre las ecuaciones para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Gill Sans MT"/>
              </a:rPr>
              <a:t>ij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y las ecuaciones de punto fijo que permiten calcular los parámetros A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 y B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sta actividad puede ser desarrollada en papel siempre y cuando esté bien ordenado el desarrollo y se anote el los nombres de todos los integrant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28480" y="1447560"/>
            <a:ext cx="7429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etermine la matriz futura que resulta de aplicar el método de entropía con matriz a priori desarrollado en la actividad anterior utilizando los datos que se adjunta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mpare los resultados obtenidos en la actividad anterior con los resultados obtenidos en el taller 4 con el método de furness y gravitacional. Realice un análisis e interpretación basado en esta comparación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Recuerde que el modelo gravitacional usado en el taller anterior es equivalente al de máxima entropía doblemente acotado con restricción de cost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5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cálculos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9-09T15:57:53Z</dcterms:modified>
  <cp:revision>47</cp:revision>
  <dc:subject/>
  <dc:title>Taller I CI43A</dc:title>
</cp:coreProperties>
</file>